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FAD-DA14-4435-8473-F389EDAB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D1C-2A73-43DB-8F56-B2822EEF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F3D2-C4DC-4827-81EF-9401CAE1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FDB-F223-459E-AD1F-D6C6D925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20E7-66D2-4039-8A69-29AC3D2C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06B-D833-4E0D-AF95-42653559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9FF-A535-4558-9924-A2D19B78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197F-7806-4BB9-907D-A57C0204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874-BEA1-48D4-9B7D-F71E6DD7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F73-CE15-4D01-B5A2-F8F4F430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3E8C-89B1-4F98-9DE0-A4CFB76E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CCC-6CF0-45B3-A4E9-3EEC6C76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C217-C592-43FB-B590-F5B5AC9015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905120" y="1905120"/>
            <a:ext cx="57150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ome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Che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(pg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Lesson 1.1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rt two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ind all values of x such that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(x) = 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5x +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(2x + 4)/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4"/>
          <p:cNvSpPr/>
          <p:nvPr/>
        </p:nvSpPr>
        <p:spPr>
          <a:xfrm>
            <a:off x="5572080" y="1535040"/>
            <a:ext cx="509760" cy="420840"/>
          </a:xfrm>
          <a:custGeom>
            <a:avLst/>
            <a:gdLst/>
            <a:ahLst/>
            <a:rect l="l" t="t" r="r" b="b"/>
            <a:pathLst>
              <a:path w="1415" h="1167">
                <a:moveTo>
                  <a:pt x="15602" y="4291"/>
                </a:moveTo>
                <a:cubicBezTo>
                  <a:pt x="15630" y="4347"/>
                  <a:pt x="15569" y="4359"/>
                  <a:pt x="15553" y="4440"/>
                </a:cubicBezTo>
                <a:cubicBezTo>
                  <a:pt x="15540" y="4506"/>
                  <a:pt x="15540" y="4571"/>
                  <a:pt x="15528" y="4638"/>
                </a:cubicBezTo>
                <a:cubicBezTo>
                  <a:pt x="15511" y="4730"/>
                  <a:pt x="15483" y="4818"/>
                  <a:pt x="15478" y="4911"/>
                </a:cubicBezTo>
                <a:cubicBezTo>
                  <a:pt x="15474" y="4993"/>
                  <a:pt x="15491" y="5060"/>
                  <a:pt x="15503" y="5135"/>
                </a:cubicBezTo>
                <a:cubicBezTo>
                  <a:pt x="15514" y="5204"/>
                  <a:pt x="15535" y="5272"/>
                  <a:pt x="15577" y="5333"/>
                </a:cubicBezTo>
                <a:cubicBezTo>
                  <a:pt x="15627" y="5407"/>
                  <a:pt x="15692" y="5428"/>
                  <a:pt x="15776" y="5432"/>
                </a:cubicBezTo>
                <a:cubicBezTo>
                  <a:pt x="15825" y="5435"/>
                  <a:pt x="15911" y="5432"/>
                  <a:pt x="15949" y="5407"/>
                </a:cubicBezTo>
                <a:cubicBezTo>
                  <a:pt x="16008" y="5369"/>
                  <a:pt x="16065" y="5293"/>
                  <a:pt x="16098" y="5234"/>
                </a:cubicBezTo>
                <a:cubicBezTo>
                  <a:pt x="16129" y="5178"/>
                  <a:pt x="16145" y="5099"/>
                  <a:pt x="16148" y="5035"/>
                </a:cubicBezTo>
                <a:cubicBezTo>
                  <a:pt x="16152" y="4950"/>
                  <a:pt x="16133" y="4889"/>
                  <a:pt x="16123" y="4812"/>
                </a:cubicBezTo>
                <a:cubicBezTo>
                  <a:pt x="16111" y="4720"/>
                  <a:pt x="16082" y="4675"/>
                  <a:pt x="16049" y="4589"/>
                </a:cubicBezTo>
                <a:cubicBezTo>
                  <a:pt x="16001" y="4465"/>
                  <a:pt x="15890" y="4365"/>
                  <a:pt x="15776" y="4291"/>
                </a:cubicBezTo>
                <a:cubicBezTo>
                  <a:pt x="15708" y="4247"/>
                  <a:pt x="15613" y="4261"/>
                  <a:pt x="15553" y="4291"/>
                </a:cubicBezTo>
                <a:cubicBezTo>
                  <a:pt x="15505" y="4315"/>
                  <a:pt x="15488" y="4321"/>
                  <a:pt x="15503" y="4366"/>
                </a:cubicBezTo>
              </a:path>
              <a:path w="1415" h="1167">
                <a:moveTo>
                  <a:pt x="16520" y="4589"/>
                </a:moveTo>
                <a:cubicBezTo>
                  <a:pt x="16644" y="4589"/>
                  <a:pt x="16768" y="4589"/>
                  <a:pt x="16892" y="4589"/>
                </a:cubicBezTo>
              </a:path>
              <a:path w="1415" h="1167">
                <a:moveTo>
                  <a:pt x="16594" y="4837"/>
                </a:moveTo>
                <a:cubicBezTo>
                  <a:pt x="16662" y="4871"/>
                  <a:pt x="16737" y="4862"/>
                  <a:pt x="16818" y="48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5"/>
          <p:cNvSpPr/>
          <p:nvPr/>
        </p:nvSpPr>
        <p:spPr>
          <a:xfrm>
            <a:off x="6259680" y="1535040"/>
            <a:ext cx="1125360" cy="358920"/>
          </a:xfrm>
          <a:custGeom>
            <a:avLst/>
            <a:gdLst/>
            <a:ahLst/>
            <a:rect l="l" t="t" r="r" b="b"/>
            <a:pathLst>
              <a:path w="3126" h="994">
                <a:moveTo>
                  <a:pt x="17487" y="4341"/>
                </a:moveTo>
                <a:cubicBezTo>
                  <a:pt x="17624" y="4341"/>
                  <a:pt x="17754" y="4337"/>
                  <a:pt x="17884" y="4316"/>
                </a:cubicBezTo>
                <a:cubicBezTo>
                  <a:pt x="17926" y="4316"/>
                  <a:pt x="17942" y="4324"/>
                  <a:pt x="17934" y="4291"/>
                </a:cubicBezTo>
              </a:path>
              <a:path w="3126" h="994">
                <a:moveTo>
                  <a:pt x="17462" y="4341"/>
                </a:moveTo>
                <a:cubicBezTo>
                  <a:pt x="17438" y="4407"/>
                  <a:pt x="17365" y="4532"/>
                  <a:pt x="17388" y="4614"/>
                </a:cubicBezTo>
                <a:cubicBezTo>
                  <a:pt x="17396" y="4630"/>
                  <a:pt x="17405" y="4647"/>
                  <a:pt x="17413" y="4663"/>
                </a:cubicBezTo>
                <a:cubicBezTo>
                  <a:pt x="17450" y="4626"/>
                  <a:pt x="17518" y="4556"/>
                  <a:pt x="17562" y="4539"/>
                </a:cubicBezTo>
                <a:cubicBezTo>
                  <a:pt x="17616" y="4518"/>
                  <a:pt x="17681" y="4542"/>
                  <a:pt x="17711" y="4589"/>
                </a:cubicBezTo>
                <a:cubicBezTo>
                  <a:pt x="17759" y="4664"/>
                  <a:pt x="17816" y="4686"/>
                  <a:pt x="17835" y="4787"/>
                </a:cubicBezTo>
                <a:cubicBezTo>
                  <a:pt x="17846" y="4845"/>
                  <a:pt x="17876" y="4924"/>
                  <a:pt x="17859" y="4986"/>
                </a:cubicBezTo>
                <a:cubicBezTo>
                  <a:pt x="17842" y="5050"/>
                  <a:pt x="17788" y="5082"/>
                  <a:pt x="17735" y="5110"/>
                </a:cubicBezTo>
                <a:cubicBezTo>
                  <a:pt x="17662" y="5149"/>
                  <a:pt x="17619" y="5159"/>
                  <a:pt x="17537" y="5159"/>
                </a:cubicBezTo>
                <a:cubicBezTo>
                  <a:pt x="17509" y="5159"/>
                  <a:pt x="17384" y="5137"/>
                  <a:pt x="17388" y="5085"/>
                </a:cubicBezTo>
                <a:cubicBezTo>
                  <a:pt x="17410" y="5041"/>
                  <a:pt x="17413" y="5030"/>
                  <a:pt x="17438" y="5011"/>
                </a:cubicBezTo>
              </a:path>
              <a:path w="3126" h="994">
                <a:moveTo>
                  <a:pt x="18231" y="4738"/>
                </a:moveTo>
                <a:cubicBezTo>
                  <a:pt x="18274" y="4860"/>
                  <a:pt x="18295" y="4943"/>
                  <a:pt x="18380" y="5035"/>
                </a:cubicBezTo>
                <a:cubicBezTo>
                  <a:pt x="18435" y="5095"/>
                  <a:pt x="18490" y="5115"/>
                  <a:pt x="18554" y="5159"/>
                </a:cubicBezTo>
                <a:cubicBezTo>
                  <a:pt x="18613" y="5199"/>
                  <a:pt x="18667" y="5189"/>
                  <a:pt x="18728" y="5159"/>
                </a:cubicBezTo>
              </a:path>
              <a:path w="3126" h="994">
                <a:moveTo>
                  <a:pt x="18455" y="4713"/>
                </a:moveTo>
                <a:cubicBezTo>
                  <a:pt x="18398" y="4843"/>
                  <a:pt x="18352" y="4948"/>
                  <a:pt x="18281" y="5060"/>
                </a:cubicBezTo>
                <a:cubicBezTo>
                  <a:pt x="18246" y="5115"/>
                  <a:pt x="18229" y="5162"/>
                  <a:pt x="18182" y="5209"/>
                </a:cubicBezTo>
                <a:cubicBezTo>
                  <a:pt x="18149" y="5242"/>
                  <a:pt x="18122" y="5241"/>
                  <a:pt x="18157" y="5259"/>
                </a:cubicBezTo>
              </a:path>
              <a:path w="3126" h="994">
                <a:moveTo>
                  <a:pt x="19025" y="4564"/>
                </a:moveTo>
                <a:cubicBezTo>
                  <a:pt x="19025" y="4685"/>
                  <a:pt x="19029" y="4806"/>
                  <a:pt x="19050" y="4911"/>
                </a:cubicBezTo>
                <a:cubicBezTo>
                  <a:pt x="19060" y="4962"/>
                  <a:pt x="19068" y="5008"/>
                  <a:pt x="19075" y="5060"/>
                </a:cubicBezTo>
              </a:path>
              <a:path w="3126" h="994">
                <a:moveTo>
                  <a:pt x="18802" y="4812"/>
                </a:moveTo>
                <a:cubicBezTo>
                  <a:pt x="18912" y="4798"/>
                  <a:pt x="19043" y="4773"/>
                  <a:pt x="19149" y="4762"/>
                </a:cubicBezTo>
                <a:cubicBezTo>
                  <a:pt x="19233" y="4762"/>
                  <a:pt x="19253" y="4768"/>
                  <a:pt x="19298" y="4738"/>
                </a:cubicBezTo>
              </a:path>
              <a:path w="3126" h="994">
                <a:moveTo>
                  <a:pt x="19720" y="4316"/>
                </a:moveTo>
                <a:cubicBezTo>
                  <a:pt x="19720" y="4384"/>
                  <a:pt x="19736" y="5162"/>
                  <a:pt x="19745" y="5159"/>
                </a:cubicBezTo>
                <a:cubicBezTo>
                  <a:pt x="19745" y="5143"/>
                  <a:pt x="19745" y="5126"/>
                  <a:pt x="19745" y="5110"/>
                </a:cubicBezTo>
              </a:path>
              <a:path w="3126" h="994">
                <a:moveTo>
                  <a:pt x="20141" y="4341"/>
                </a:moveTo>
                <a:cubicBezTo>
                  <a:pt x="20235" y="4341"/>
                  <a:pt x="20304" y="4327"/>
                  <a:pt x="20389" y="4316"/>
                </a:cubicBezTo>
                <a:cubicBezTo>
                  <a:pt x="20477" y="4304"/>
                  <a:pt x="20459" y="4322"/>
                  <a:pt x="20513" y="4266"/>
                </a:cubicBezTo>
              </a:path>
              <a:path w="3126" h="994">
                <a:moveTo>
                  <a:pt x="20067" y="4390"/>
                </a:moveTo>
                <a:cubicBezTo>
                  <a:pt x="20050" y="4470"/>
                  <a:pt x="20021" y="4541"/>
                  <a:pt x="20017" y="4614"/>
                </a:cubicBezTo>
                <a:cubicBezTo>
                  <a:pt x="20017" y="4663"/>
                  <a:pt x="20017" y="4680"/>
                  <a:pt x="20017" y="4713"/>
                </a:cubicBezTo>
                <a:cubicBezTo>
                  <a:pt x="20078" y="4696"/>
                  <a:pt x="20103" y="4651"/>
                  <a:pt x="20166" y="4638"/>
                </a:cubicBezTo>
                <a:cubicBezTo>
                  <a:pt x="20228" y="4625"/>
                  <a:pt x="20297" y="4676"/>
                  <a:pt x="20340" y="4713"/>
                </a:cubicBezTo>
                <a:cubicBezTo>
                  <a:pt x="20412" y="4774"/>
                  <a:pt x="20428" y="4827"/>
                  <a:pt x="20464" y="4911"/>
                </a:cubicBezTo>
                <a:cubicBezTo>
                  <a:pt x="20493" y="4979"/>
                  <a:pt x="20530" y="5031"/>
                  <a:pt x="20513" y="5110"/>
                </a:cubicBezTo>
                <a:cubicBezTo>
                  <a:pt x="20494" y="5202"/>
                  <a:pt x="20450" y="5220"/>
                  <a:pt x="20365" y="5234"/>
                </a:cubicBezTo>
                <a:cubicBezTo>
                  <a:pt x="20279" y="5248"/>
                  <a:pt x="20169" y="5243"/>
                  <a:pt x="20092" y="5209"/>
                </a:cubicBezTo>
                <a:cubicBezTo>
                  <a:pt x="20048" y="5189"/>
                  <a:pt x="20003" y="5179"/>
                  <a:pt x="20042" y="51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6"/>
          <p:cNvSpPr/>
          <p:nvPr/>
        </p:nvSpPr>
        <p:spPr>
          <a:xfrm>
            <a:off x="6607080" y="2071800"/>
            <a:ext cx="644760" cy="303120"/>
          </a:xfrm>
          <a:custGeom>
            <a:avLst/>
            <a:gdLst/>
            <a:ahLst/>
            <a:rect l="l" t="t" r="r" b="b"/>
            <a:pathLst>
              <a:path w="1787" h="844">
                <a:moveTo>
                  <a:pt x="18355" y="6052"/>
                </a:moveTo>
                <a:cubicBezTo>
                  <a:pt x="18419" y="6061"/>
                  <a:pt x="18458" y="6077"/>
                  <a:pt x="18529" y="6077"/>
                </a:cubicBezTo>
                <a:cubicBezTo>
                  <a:pt x="18595" y="6077"/>
                  <a:pt x="18662" y="6077"/>
                  <a:pt x="18728" y="6077"/>
                </a:cubicBezTo>
              </a:path>
              <a:path w="1787" h="844">
                <a:moveTo>
                  <a:pt x="19248" y="5779"/>
                </a:moveTo>
                <a:cubicBezTo>
                  <a:pt x="19248" y="5955"/>
                  <a:pt x="19170" y="6496"/>
                  <a:pt x="19273" y="6598"/>
                </a:cubicBezTo>
              </a:path>
              <a:path w="1787" h="844">
                <a:moveTo>
                  <a:pt x="19621" y="5804"/>
                </a:moveTo>
                <a:cubicBezTo>
                  <a:pt x="19771" y="5804"/>
                  <a:pt x="19881" y="5787"/>
                  <a:pt x="20017" y="5779"/>
                </a:cubicBezTo>
                <a:cubicBezTo>
                  <a:pt x="20062" y="5779"/>
                  <a:pt x="20075" y="5783"/>
                  <a:pt x="20092" y="5755"/>
                </a:cubicBezTo>
              </a:path>
              <a:path w="1787" h="844">
                <a:moveTo>
                  <a:pt x="19621" y="5779"/>
                </a:moveTo>
                <a:cubicBezTo>
                  <a:pt x="19573" y="5882"/>
                  <a:pt x="19546" y="5941"/>
                  <a:pt x="19546" y="6052"/>
                </a:cubicBezTo>
                <a:cubicBezTo>
                  <a:pt x="19546" y="6105"/>
                  <a:pt x="19574" y="6193"/>
                  <a:pt x="19645" y="6176"/>
                </a:cubicBezTo>
                <a:cubicBezTo>
                  <a:pt x="19722" y="6158"/>
                  <a:pt x="19689" y="6107"/>
                  <a:pt x="19794" y="6102"/>
                </a:cubicBezTo>
                <a:cubicBezTo>
                  <a:pt x="19879" y="6098"/>
                  <a:pt x="19928" y="6137"/>
                  <a:pt x="19993" y="6176"/>
                </a:cubicBezTo>
                <a:cubicBezTo>
                  <a:pt x="20045" y="6208"/>
                  <a:pt x="20123" y="6309"/>
                  <a:pt x="20141" y="6375"/>
                </a:cubicBezTo>
                <a:cubicBezTo>
                  <a:pt x="20159" y="6441"/>
                  <a:pt x="20136" y="6481"/>
                  <a:pt x="20092" y="6524"/>
                </a:cubicBezTo>
                <a:cubicBezTo>
                  <a:pt x="20039" y="6576"/>
                  <a:pt x="20018" y="6573"/>
                  <a:pt x="19943" y="6573"/>
                </a:cubicBezTo>
                <a:cubicBezTo>
                  <a:pt x="19854" y="6573"/>
                  <a:pt x="19781" y="6559"/>
                  <a:pt x="19695" y="6548"/>
                </a:cubicBezTo>
                <a:cubicBezTo>
                  <a:pt x="19637" y="6540"/>
                  <a:pt x="19579" y="6532"/>
                  <a:pt x="19521" y="65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7"/>
          <p:cNvSpPr/>
          <p:nvPr/>
        </p:nvSpPr>
        <p:spPr>
          <a:xfrm>
            <a:off x="5072040" y="2125800"/>
            <a:ext cx="1687680" cy="1268280"/>
          </a:xfrm>
          <a:custGeom>
            <a:avLst/>
            <a:gdLst/>
            <a:ahLst/>
            <a:rect l="l" t="t" r="r" b="b"/>
            <a:pathLst>
              <a:path w="4689" h="3523">
                <a:moveTo>
                  <a:pt x="14089" y="6102"/>
                </a:moveTo>
                <a:cubicBezTo>
                  <a:pt x="14172" y="6102"/>
                  <a:pt x="14234" y="6124"/>
                  <a:pt x="14312" y="6127"/>
                </a:cubicBezTo>
                <a:cubicBezTo>
                  <a:pt x="14378" y="6130"/>
                  <a:pt x="14445" y="6127"/>
                  <a:pt x="14511" y="6127"/>
                </a:cubicBezTo>
              </a:path>
              <a:path w="4689" h="3523">
                <a:moveTo>
                  <a:pt x="15007" y="5904"/>
                </a:moveTo>
                <a:cubicBezTo>
                  <a:pt x="14988" y="6010"/>
                  <a:pt x="14969" y="6117"/>
                  <a:pt x="14982" y="6226"/>
                </a:cubicBezTo>
                <a:cubicBezTo>
                  <a:pt x="14995" y="6335"/>
                  <a:pt x="15016" y="6445"/>
                  <a:pt x="15032" y="6548"/>
                </a:cubicBezTo>
                <a:cubicBezTo>
                  <a:pt x="15036" y="6571"/>
                  <a:pt x="15032" y="6760"/>
                  <a:pt x="15032" y="6623"/>
                </a:cubicBezTo>
              </a:path>
              <a:path w="4689" h="3523">
                <a:moveTo>
                  <a:pt x="15429" y="5953"/>
                </a:moveTo>
                <a:cubicBezTo>
                  <a:pt x="15548" y="5953"/>
                  <a:pt x="15643" y="5942"/>
                  <a:pt x="15751" y="5928"/>
                </a:cubicBezTo>
                <a:cubicBezTo>
                  <a:pt x="15818" y="5919"/>
                  <a:pt x="15864" y="5939"/>
                  <a:pt x="15900" y="5904"/>
                </a:cubicBezTo>
              </a:path>
              <a:path w="4689" h="3523">
                <a:moveTo>
                  <a:pt x="15503" y="5953"/>
                </a:moveTo>
                <a:cubicBezTo>
                  <a:pt x="15435" y="6070"/>
                  <a:pt x="15366" y="6141"/>
                  <a:pt x="15429" y="6276"/>
                </a:cubicBezTo>
                <a:cubicBezTo>
                  <a:pt x="15464" y="6350"/>
                  <a:pt x="15548" y="6306"/>
                  <a:pt x="15602" y="6276"/>
                </a:cubicBezTo>
                <a:cubicBezTo>
                  <a:pt x="15671" y="6237"/>
                  <a:pt x="15681" y="6243"/>
                  <a:pt x="15751" y="6251"/>
                </a:cubicBezTo>
                <a:cubicBezTo>
                  <a:pt x="15819" y="6259"/>
                  <a:pt x="15903" y="6315"/>
                  <a:pt x="15949" y="6375"/>
                </a:cubicBezTo>
                <a:cubicBezTo>
                  <a:pt x="15984" y="6421"/>
                  <a:pt x="16034" y="6515"/>
                  <a:pt x="16024" y="6573"/>
                </a:cubicBezTo>
                <a:cubicBezTo>
                  <a:pt x="16005" y="6681"/>
                  <a:pt x="15927" y="6708"/>
                  <a:pt x="15825" y="6722"/>
                </a:cubicBezTo>
                <a:cubicBezTo>
                  <a:pt x="15740" y="6734"/>
                  <a:pt x="15665" y="6747"/>
                  <a:pt x="15577" y="6747"/>
                </a:cubicBezTo>
                <a:cubicBezTo>
                  <a:pt x="15561" y="6747"/>
                  <a:pt x="15544" y="6747"/>
                  <a:pt x="15528" y="6747"/>
                </a:cubicBezTo>
              </a:path>
              <a:path w="4689" h="3523">
                <a:moveTo>
                  <a:pt x="14536" y="7565"/>
                </a:moveTo>
                <a:cubicBezTo>
                  <a:pt x="14610" y="7586"/>
                  <a:pt x="14689" y="7570"/>
                  <a:pt x="14759" y="7590"/>
                </a:cubicBezTo>
                <a:cubicBezTo>
                  <a:pt x="14814" y="7618"/>
                  <a:pt x="14837" y="7626"/>
                  <a:pt x="14883" y="7615"/>
                </a:cubicBezTo>
              </a:path>
              <a:path w="4689" h="3523">
                <a:moveTo>
                  <a:pt x="15304" y="7367"/>
                </a:moveTo>
                <a:cubicBezTo>
                  <a:pt x="15304" y="7673"/>
                  <a:pt x="15201" y="8474"/>
                  <a:pt x="15304" y="8186"/>
                </a:cubicBezTo>
                <a:cubicBezTo>
                  <a:pt x="15312" y="8169"/>
                  <a:pt x="15321" y="8153"/>
                  <a:pt x="15329" y="8136"/>
                </a:cubicBezTo>
              </a:path>
              <a:path w="4689" h="3523">
                <a:moveTo>
                  <a:pt x="15627" y="7417"/>
                </a:moveTo>
                <a:cubicBezTo>
                  <a:pt x="15758" y="7417"/>
                  <a:pt x="15876" y="7413"/>
                  <a:pt x="15999" y="7392"/>
                </a:cubicBezTo>
                <a:cubicBezTo>
                  <a:pt x="16016" y="7392"/>
                  <a:pt x="16032" y="7392"/>
                  <a:pt x="16049" y="7392"/>
                </a:cubicBezTo>
              </a:path>
              <a:path w="4689" h="3523">
                <a:moveTo>
                  <a:pt x="15602" y="7417"/>
                </a:moveTo>
                <a:cubicBezTo>
                  <a:pt x="15553" y="7515"/>
                  <a:pt x="15508" y="7582"/>
                  <a:pt x="15503" y="7689"/>
                </a:cubicBezTo>
                <a:cubicBezTo>
                  <a:pt x="15503" y="7739"/>
                  <a:pt x="15503" y="7756"/>
                  <a:pt x="15503" y="7789"/>
                </a:cubicBezTo>
                <a:cubicBezTo>
                  <a:pt x="15570" y="7779"/>
                  <a:pt x="15609" y="7726"/>
                  <a:pt x="15677" y="7714"/>
                </a:cubicBezTo>
                <a:cubicBezTo>
                  <a:pt x="15767" y="7698"/>
                  <a:pt x="15846" y="7726"/>
                  <a:pt x="15925" y="7764"/>
                </a:cubicBezTo>
                <a:cubicBezTo>
                  <a:pt x="16023" y="7811"/>
                  <a:pt x="16055" y="7911"/>
                  <a:pt x="16073" y="8012"/>
                </a:cubicBezTo>
                <a:cubicBezTo>
                  <a:pt x="16084" y="8071"/>
                  <a:pt x="16077" y="8149"/>
                  <a:pt x="16024" y="8186"/>
                </a:cubicBezTo>
                <a:cubicBezTo>
                  <a:pt x="15967" y="8226"/>
                  <a:pt x="15893" y="8256"/>
                  <a:pt x="15825" y="8260"/>
                </a:cubicBezTo>
                <a:cubicBezTo>
                  <a:pt x="15752" y="8264"/>
                  <a:pt x="15693" y="8264"/>
                  <a:pt x="15627" y="8235"/>
                </a:cubicBezTo>
                <a:cubicBezTo>
                  <a:pt x="15541" y="8196"/>
                  <a:pt x="15548" y="8179"/>
                  <a:pt x="15602" y="8111"/>
                </a:cubicBezTo>
              </a:path>
              <a:path w="4689" h="3523">
                <a:moveTo>
                  <a:pt x="16545" y="7739"/>
                </a:moveTo>
                <a:cubicBezTo>
                  <a:pt x="16675" y="7723"/>
                  <a:pt x="16662" y="7739"/>
                  <a:pt x="16768" y="7739"/>
                </a:cubicBezTo>
              </a:path>
              <a:path w="4689" h="3523">
                <a:moveTo>
                  <a:pt x="16446" y="7913"/>
                </a:moveTo>
                <a:cubicBezTo>
                  <a:pt x="16520" y="7945"/>
                  <a:pt x="16606" y="7938"/>
                  <a:pt x="16694" y="7938"/>
                </a:cubicBezTo>
                <a:cubicBezTo>
                  <a:pt x="16752" y="7938"/>
                  <a:pt x="16777" y="7938"/>
                  <a:pt x="16818" y="7938"/>
                </a:cubicBezTo>
              </a:path>
              <a:path w="4689" h="3523">
                <a:moveTo>
                  <a:pt x="17314" y="7516"/>
                </a:moveTo>
                <a:cubicBezTo>
                  <a:pt x="17459" y="7516"/>
                  <a:pt x="17599" y="7523"/>
                  <a:pt x="17735" y="7491"/>
                </a:cubicBezTo>
                <a:cubicBezTo>
                  <a:pt x="17743" y="7491"/>
                  <a:pt x="17752" y="7491"/>
                  <a:pt x="17760" y="7491"/>
                </a:cubicBezTo>
              </a:path>
              <a:path w="4689" h="3523">
                <a:moveTo>
                  <a:pt x="17264" y="7541"/>
                </a:moveTo>
                <a:cubicBezTo>
                  <a:pt x="17220" y="7624"/>
                  <a:pt x="17145" y="7703"/>
                  <a:pt x="17214" y="7789"/>
                </a:cubicBezTo>
                <a:cubicBezTo>
                  <a:pt x="17249" y="7833"/>
                  <a:pt x="17321" y="7804"/>
                  <a:pt x="17363" y="7789"/>
                </a:cubicBezTo>
                <a:cubicBezTo>
                  <a:pt x="17438" y="7762"/>
                  <a:pt x="17513" y="7744"/>
                  <a:pt x="17587" y="7789"/>
                </a:cubicBezTo>
                <a:cubicBezTo>
                  <a:pt x="17660" y="7833"/>
                  <a:pt x="17714" y="7900"/>
                  <a:pt x="17735" y="7987"/>
                </a:cubicBezTo>
                <a:cubicBezTo>
                  <a:pt x="17754" y="8062"/>
                  <a:pt x="17729" y="8148"/>
                  <a:pt x="17686" y="8210"/>
                </a:cubicBezTo>
                <a:cubicBezTo>
                  <a:pt x="17638" y="8279"/>
                  <a:pt x="17564" y="8300"/>
                  <a:pt x="17487" y="8310"/>
                </a:cubicBezTo>
                <a:cubicBezTo>
                  <a:pt x="17405" y="8320"/>
                  <a:pt x="17312" y="8316"/>
                  <a:pt x="17239" y="8285"/>
                </a:cubicBezTo>
                <a:cubicBezTo>
                  <a:pt x="17161" y="8252"/>
                  <a:pt x="17185" y="8220"/>
                  <a:pt x="17214" y="8161"/>
                </a:cubicBezTo>
              </a:path>
              <a:path w="4689" h="3523">
                <a:moveTo>
                  <a:pt x="18083" y="7714"/>
                </a:moveTo>
                <a:cubicBezTo>
                  <a:pt x="18149" y="7807"/>
                  <a:pt x="18203" y="7905"/>
                  <a:pt x="18281" y="7987"/>
                </a:cubicBezTo>
                <a:cubicBezTo>
                  <a:pt x="18359" y="8069"/>
                  <a:pt x="18404" y="8129"/>
                  <a:pt x="18504" y="8186"/>
                </a:cubicBezTo>
                <a:cubicBezTo>
                  <a:pt x="18571" y="8224"/>
                  <a:pt x="18633" y="8273"/>
                  <a:pt x="18703" y="8235"/>
                </a:cubicBezTo>
                <a:cubicBezTo>
                  <a:pt x="18725" y="8213"/>
                  <a:pt x="18734" y="8208"/>
                  <a:pt x="18728" y="8186"/>
                </a:cubicBezTo>
              </a:path>
              <a:path w="4689" h="3523">
                <a:moveTo>
                  <a:pt x="18405" y="7665"/>
                </a:moveTo>
                <a:cubicBezTo>
                  <a:pt x="18353" y="7777"/>
                  <a:pt x="18311" y="7868"/>
                  <a:pt x="18231" y="7962"/>
                </a:cubicBezTo>
                <a:cubicBezTo>
                  <a:pt x="18171" y="8032"/>
                  <a:pt x="18159" y="8129"/>
                  <a:pt x="18083" y="8186"/>
                </a:cubicBezTo>
                <a:cubicBezTo>
                  <a:pt x="18032" y="8225"/>
                  <a:pt x="18005" y="8262"/>
                  <a:pt x="17959" y="8310"/>
                </a:cubicBezTo>
              </a:path>
              <a:path w="4689" h="3523">
                <a:moveTo>
                  <a:pt x="17214" y="8384"/>
                </a:moveTo>
                <a:cubicBezTo>
                  <a:pt x="17335" y="8384"/>
                  <a:pt x="17443" y="8400"/>
                  <a:pt x="17562" y="8409"/>
                </a:cubicBezTo>
                <a:cubicBezTo>
                  <a:pt x="17725" y="8422"/>
                  <a:pt x="17895" y="8425"/>
                  <a:pt x="18058" y="8434"/>
                </a:cubicBezTo>
                <a:cubicBezTo>
                  <a:pt x="18225" y="8443"/>
                  <a:pt x="18386" y="8458"/>
                  <a:pt x="18554" y="8458"/>
                </a:cubicBezTo>
                <a:cubicBezTo>
                  <a:pt x="18581" y="8458"/>
                  <a:pt x="18819" y="8483"/>
                  <a:pt x="18752" y="8434"/>
                </a:cubicBezTo>
                <a:cubicBezTo>
                  <a:pt x="18736" y="8426"/>
                  <a:pt x="18719" y="8417"/>
                  <a:pt x="18703" y="8409"/>
                </a:cubicBezTo>
              </a:path>
              <a:path w="4689" h="3523">
                <a:moveTo>
                  <a:pt x="17835" y="8756"/>
                </a:moveTo>
                <a:cubicBezTo>
                  <a:pt x="17909" y="8751"/>
                  <a:pt x="18010" y="8751"/>
                  <a:pt x="18083" y="8731"/>
                </a:cubicBezTo>
                <a:cubicBezTo>
                  <a:pt x="18139" y="8702"/>
                  <a:pt x="18163" y="8692"/>
                  <a:pt x="18207" y="8682"/>
                </a:cubicBezTo>
              </a:path>
              <a:path w="4689" h="3523">
                <a:moveTo>
                  <a:pt x="17835" y="8682"/>
                </a:moveTo>
                <a:cubicBezTo>
                  <a:pt x="17762" y="8798"/>
                  <a:pt x="17735" y="8810"/>
                  <a:pt x="17735" y="8930"/>
                </a:cubicBezTo>
                <a:cubicBezTo>
                  <a:pt x="17735" y="8946"/>
                  <a:pt x="17735" y="8963"/>
                  <a:pt x="17735" y="8979"/>
                </a:cubicBezTo>
                <a:cubicBezTo>
                  <a:pt x="17837" y="8979"/>
                  <a:pt x="17940" y="8965"/>
                  <a:pt x="18033" y="9004"/>
                </a:cubicBezTo>
                <a:cubicBezTo>
                  <a:pt x="18099" y="9032"/>
                  <a:pt x="18187" y="9106"/>
                  <a:pt x="18207" y="9178"/>
                </a:cubicBezTo>
                <a:cubicBezTo>
                  <a:pt x="18231" y="9262"/>
                  <a:pt x="18197" y="9334"/>
                  <a:pt x="18132" y="9376"/>
                </a:cubicBezTo>
                <a:cubicBezTo>
                  <a:pt x="18083" y="9408"/>
                  <a:pt x="17967" y="9436"/>
                  <a:pt x="17909" y="9426"/>
                </a:cubicBezTo>
                <a:cubicBezTo>
                  <a:pt x="17827" y="9412"/>
                  <a:pt x="17741" y="9376"/>
                  <a:pt x="17661" y="93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8"/>
          <p:cNvSpPr/>
          <p:nvPr/>
        </p:nvSpPr>
        <p:spPr>
          <a:xfrm>
            <a:off x="3367080" y="1857240"/>
            <a:ext cx="3089160" cy="2473560"/>
          </a:xfrm>
          <a:custGeom>
            <a:avLst/>
            <a:gdLst/>
            <a:ahLst/>
            <a:rect l="l" t="t" r="r" b="b"/>
            <a:pathLst>
              <a:path w="8584" h="6872">
                <a:moveTo>
                  <a:pt x="15106" y="8334"/>
                </a:moveTo>
                <a:cubicBezTo>
                  <a:pt x="15209" y="8341"/>
                  <a:pt x="15300" y="8359"/>
                  <a:pt x="15404" y="8359"/>
                </a:cubicBezTo>
                <a:cubicBezTo>
                  <a:pt x="15541" y="8359"/>
                  <a:pt x="15668" y="8345"/>
                  <a:pt x="15801" y="8334"/>
                </a:cubicBezTo>
                <a:cubicBezTo>
                  <a:pt x="15835" y="8331"/>
                  <a:pt x="16233" y="8327"/>
                  <a:pt x="16222" y="8310"/>
                </a:cubicBezTo>
                <a:cubicBezTo>
                  <a:pt x="16206" y="8310"/>
                  <a:pt x="16189" y="8310"/>
                  <a:pt x="16173" y="8310"/>
                </a:cubicBezTo>
              </a:path>
              <a:path w="8584" h="6872">
                <a:moveTo>
                  <a:pt x="15528" y="8731"/>
                </a:moveTo>
                <a:cubicBezTo>
                  <a:pt x="15611" y="8725"/>
                  <a:pt x="15720" y="8728"/>
                  <a:pt x="15801" y="8706"/>
                </a:cubicBezTo>
                <a:cubicBezTo>
                  <a:pt x="15844" y="8685"/>
                  <a:pt x="15856" y="8681"/>
                  <a:pt x="15875" y="8657"/>
                </a:cubicBezTo>
              </a:path>
              <a:path w="8584" h="6872">
                <a:moveTo>
                  <a:pt x="15577" y="8632"/>
                </a:moveTo>
                <a:cubicBezTo>
                  <a:pt x="15550" y="8703"/>
                  <a:pt x="15469" y="8843"/>
                  <a:pt x="15503" y="8930"/>
                </a:cubicBezTo>
                <a:cubicBezTo>
                  <a:pt x="15511" y="8938"/>
                  <a:pt x="15520" y="8946"/>
                  <a:pt x="15528" y="8954"/>
                </a:cubicBezTo>
                <a:cubicBezTo>
                  <a:pt x="15589" y="8906"/>
                  <a:pt x="15624" y="8905"/>
                  <a:pt x="15701" y="8905"/>
                </a:cubicBezTo>
                <a:cubicBezTo>
                  <a:pt x="15783" y="8905"/>
                  <a:pt x="15855" y="8962"/>
                  <a:pt x="15900" y="9029"/>
                </a:cubicBezTo>
                <a:cubicBezTo>
                  <a:pt x="15941" y="9091"/>
                  <a:pt x="15941" y="9162"/>
                  <a:pt x="15875" y="9203"/>
                </a:cubicBezTo>
                <a:cubicBezTo>
                  <a:pt x="15807" y="9246"/>
                  <a:pt x="15731" y="9274"/>
                  <a:pt x="15652" y="9277"/>
                </a:cubicBezTo>
                <a:cubicBezTo>
                  <a:pt x="15552" y="9281"/>
                  <a:pt x="15471" y="9273"/>
                  <a:pt x="15379" y="9252"/>
                </a:cubicBezTo>
                <a:cubicBezTo>
                  <a:pt x="15371" y="9252"/>
                  <a:pt x="15362" y="9252"/>
                  <a:pt x="15354" y="9252"/>
                </a:cubicBezTo>
              </a:path>
              <a:path w="8584" h="6872">
                <a:moveTo>
                  <a:pt x="14957" y="10468"/>
                </a:moveTo>
                <a:cubicBezTo>
                  <a:pt x="15048" y="10493"/>
                  <a:pt x="15136" y="10538"/>
                  <a:pt x="15230" y="10542"/>
                </a:cubicBezTo>
                <a:cubicBezTo>
                  <a:pt x="15304" y="10545"/>
                  <a:pt x="15379" y="10542"/>
                  <a:pt x="15453" y="10542"/>
                </a:cubicBezTo>
              </a:path>
              <a:path w="8584" h="6872">
                <a:moveTo>
                  <a:pt x="15652" y="10344"/>
                </a:moveTo>
                <a:cubicBezTo>
                  <a:pt x="15761" y="10336"/>
                  <a:pt x="15793" y="10311"/>
                  <a:pt x="15900" y="10344"/>
                </a:cubicBezTo>
                <a:cubicBezTo>
                  <a:pt x="15976" y="10367"/>
                  <a:pt x="15997" y="10391"/>
                  <a:pt x="16049" y="10443"/>
                </a:cubicBezTo>
                <a:cubicBezTo>
                  <a:pt x="15998" y="10524"/>
                  <a:pt x="15978" y="10539"/>
                  <a:pt x="15900" y="10567"/>
                </a:cubicBezTo>
                <a:cubicBezTo>
                  <a:pt x="15848" y="10586"/>
                  <a:pt x="15794" y="10615"/>
                  <a:pt x="15751" y="10641"/>
                </a:cubicBezTo>
                <a:cubicBezTo>
                  <a:pt x="15823" y="10650"/>
                  <a:pt x="15912" y="10671"/>
                  <a:pt x="15974" y="10716"/>
                </a:cubicBezTo>
                <a:cubicBezTo>
                  <a:pt x="16081" y="10794"/>
                  <a:pt x="16159" y="10871"/>
                  <a:pt x="16123" y="11013"/>
                </a:cubicBezTo>
                <a:cubicBezTo>
                  <a:pt x="16103" y="11093"/>
                  <a:pt x="15985" y="11088"/>
                  <a:pt x="15925" y="11088"/>
                </a:cubicBezTo>
                <a:cubicBezTo>
                  <a:pt x="15857" y="11088"/>
                  <a:pt x="15762" y="11091"/>
                  <a:pt x="15701" y="11063"/>
                </a:cubicBezTo>
                <a:cubicBezTo>
                  <a:pt x="15641" y="11035"/>
                  <a:pt x="15664" y="11009"/>
                  <a:pt x="15677" y="10964"/>
                </a:cubicBezTo>
              </a:path>
              <a:path w="8584" h="6872">
                <a:moveTo>
                  <a:pt x="16396" y="10691"/>
                </a:moveTo>
                <a:cubicBezTo>
                  <a:pt x="16520" y="10691"/>
                  <a:pt x="16644" y="10691"/>
                  <a:pt x="16768" y="10691"/>
                </a:cubicBezTo>
              </a:path>
              <a:path w="8584" h="6872">
                <a:moveTo>
                  <a:pt x="16446" y="10864"/>
                </a:moveTo>
                <a:cubicBezTo>
                  <a:pt x="16522" y="10921"/>
                  <a:pt x="16548" y="10914"/>
                  <a:pt x="16644" y="10914"/>
                </a:cubicBezTo>
              </a:path>
              <a:path w="8584" h="6872">
                <a:moveTo>
                  <a:pt x="17066" y="10567"/>
                </a:moveTo>
                <a:cubicBezTo>
                  <a:pt x="17117" y="10677"/>
                  <a:pt x="17158" y="10773"/>
                  <a:pt x="17239" y="10864"/>
                </a:cubicBezTo>
                <a:cubicBezTo>
                  <a:pt x="17306" y="10940"/>
                  <a:pt x="17420" y="11042"/>
                  <a:pt x="17512" y="11088"/>
                </a:cubicBezTo>
                <a:cubicBezTo>
                  <a:pt x="17571" y="11117"/>
                  <a:pt x="17645" y="11157"/>
                  <a:pt x="17686" y="11137"/>
                </a:cubicBezTo>
              </a:path>
              <a:path w="8584" h="6872">
                <a:moveTo>
                  <a:pt x="17413" y="10542"/>
                </a:moveTo>
                <a:cubicBezTo>
                  <a:pt x="17294" y="10702"/>
                  <a:pt x="17168" y="10865"/>
                  <a:pt x="17066" y="11038"/>
                </a:cubicBezTo>
                <a:cubicBezTo>
                  <a:pt x="17028" y="11114"/>
                  <a:pt x="16994" y="11146"/>
                  <a:pt x="16917" y="11162"/>
                </a:cubicBezTo>
              </a:path>
              <a:path w="8584" h="6872">
                <a:moveTo>
                  <a:pt x="14833" y="10120"/>
                </a:moveTo>
                <a:cubicBezTo>
                  <a:pt x="14833" y="10253"/>
                  <a:pt x="14829" y="10387"/>
                  <a:pt x="14808" y="10517"/>
                </a:cubicBezTo>
                <a:cubicBezTo>
                  <a:pt x="14785" y="10655"/>
                  <a:pt x="14771" y="10800"/>
                  <a:pt x="14759" y="10939"/>
                </a:cubicBezTo>
                <a:cubicBezTo>
                  <a:pt x="14751" y="11033"/>
                  <a:pt x="14734" y="11118"/>
                  <a:pt x="14734" y="11212"/>
                </a:cubicBezTo>
              </a:path>
              <a:path w="8584" h="6872">
                <a:moveTo>
                  <a:pt x="14982" y="9872"/>
                </a:moveTo>
                <a:cubicBezTo>
                  <a:pt x="15109" y="9872"/>
                  <a:pt x="15232" y="9890"/>
                  <a:pt x="15354" y="9897"/>
                </a:cubicBezTo>
                <a:cubicBezTo>
                  <a:pt x="15592" y="9911"/>
                  <a:pt x="15834" y="9904"/>
                  <a:pt x="16073" y="9922"/>
                </a:cubicBezTo>
                <a:cubicBezTo>
                  <a:pt x="16370" y="9945"/>
                  <a:pt x="16668" y="9966"/>
                  <a:pt x="16966" y="9971"/>
                </a:cubicBezTo>
                <a:cubicBezTo>
                  <a:pt x="17128" y="9974"/>
                  <a:pt x="17280" y="10011"/>
                  <a:pt x="17438" y="10021"/>
                </a:cubicBezTo>
                <a:cubicBezTo>
                  <a:pt x="17536" y="10027"/>
                  <a:pt x="17599" y="10016"/>
                  <a:pt x="17686" y="10071"/>
                </a:cubicBezTo>
                <a:cubicBezTo>
                  <a:pt x="17766" y="10122"/>
                  <a:pt x="17773" y="10175"/>
                  <a:pt x="17785" y="10269"/>
                </a:cubicBezTo>
                <a:cubicBezTo>
                  <a:pt x="17805" y="10429"/>
                  <a:pt x="17798" y="10606"/>
                  <a:pt x="17810" y="10765"/>
                </a:cubicBezTo>
                <a:cubicBezTo>
                  <a:pt x="17821" y="10913"/>
                  <a:pt x="17824" y="11066"/>
                  <a:pt x="17835" y="11212"/>
                </a:cubicBezTo>
                <a:cubicBezTo>
                  <a:pt x="17846" y="11362"/>
                  <a:pt x="17866" y="11509"/>
                  <a:pt x="17884" y="11658"/>
                </a:cubicBezTo>
                <a:cubicBezTo>
                  <a:pt x="17898" y="11780"/>
                  <a:pt x="17923" y="11886"/>
                  <a:pt x="17934" y="12005"/>
                </a:cubicBezTo>
                <a:cubicBezTo>
                  <a:pt x="17877" y="11992"/>
                  <a:pt x="17825" y="11968"/>
                  <a:pt x="17760" y="11931"/>
                </a:cubicBezTo>
                <a:cubicBezTo>
                  <a:pt x="17650" y="11867"/>
                  <a:pt x="17530" y="11799"/>
                  <a:pt x="17413" y="11757"/>
                </a:cubicBezTo>
                <a:cubicBezTo>
                  <a:pt x="17163" y="11667"/>
                  <a:pt x="16878" y="11659"/>
                  <a:pt x="16619" y="11633"/>
                </a:cubicBezTo>
                <a:cubicBezTo>
                  <a:pt x="16332" y="11605"/>
                  <a:pt x="16039" y="11589"/>
                  <a:pt x="15751" y="11584"/>
                </a:cubicBezTo>
                <a:cubicBezTo>
                  <a:pt x="15565" y="11581"/>
                  <a:pt x="15387" y="11574"/>
                  <a:pt x="15205" y="11559"/>
                </a:cubicBezTo>
                <a:cubicBezTo>
                  <a:pt x="15120" y="11552"/>
                  <a:pt x="14974" y="11590"/>
                  <a:pt x="14908" y="11509"/>
                </a:cubicBezTo>
                <a:cubicBezTo>
                  <a:pt x="14873" y="11476"/>
                  <a:pt x="14865" y="11454"/>
                  <a:pt x="14883" y="11410"/>
                </a:cubicBezTo>
              </a:path>
              <a:path w="8584" h="6872">
                <a:moveTo>
                  <a:pt x="14883" y="9996"/>
                </a:moveTo>
                <a:cubicBezTo>
                  <a:pt x="14851" y="9954"/>
                  <a:pt x="14815" y="9915"/>
                  <a:pt x="14784" y="9872"/>
                </a:cubicBezTo>
                <a:cubicBezTo>
                  <a:pt x="14724" y="9788"/>
                  <a:pt x="14684" y="9726"/>
                  <a:pt x="14610" y="9649"/>
                </a:cubicBezTo>
                <a:cubicBezTo>
                  <a:pt x="14498" y="9533"/>
                  <a:pt x="14375" y="9422"/>
                  <a:pt x="14263" y="9302"/>
                </a:cubicBezTo>
                <a:cubicBezTo>
                  <a:pt x="14107" y="9135"/>
                  <a:pt x="13953" y="8968"/>
                  <a:pt x="13791" y="8806"/>
                </a:cubicBezTo>
                <a:cubicBezTo>
                  <a:pt x="13596" y="8612"/>
                  <a:pt x="13416" y="8405"/>
                  <a:pt x="13221" y="8210"/>
                </a:cubicBezTo>
                <a:cubicBezTo>
                  <a:pt x="12996" y="7986"/>
                  <a:pt x="12777" y="7764"/>
                  <a:pt x="12551" y="7541"/>
                </a:cubicBezTo>
                <a:cubicBezTo>
                  <a:pt x="12319" y="7312"/>
                  <a:pt x="12100" y="7088"/>
                  <a:pt x="11857" y="6871"/>
                </a:cubicBezTo>
                <a:cubicBezTo>
                  <a:pt x="11530" y="6580"/>
                  <a:pt x="11189" y="6310"/>
                  <a:pt x="10840" y="6052"/>
                </a:cubicBezTo>
                <a:cubicBezTo>
                  <a:pt x="10656" y="5916"/>
                  <a:pt x="10484" y="5780"/>
                  <a:pt x="10294" y="5655"/>
                </a:cubicBezTo>
                <a:cubicBezTo>
                  <a:pt x="10182" y="5581"/>
                  <a:pt x="10065" y="5499"/>
                  <a:pt x="9947" y="5432"/>
                </a:cubicBezTo>
                <a:cubicBezTo>
                  <a:pt x="9883" y="5396"/>
                  <a:pt x="9829" y="5384"/>
                  <a:pt x="9773" y="5333"/>
                </a:cubicBezTo>
                <a:cubicBezTo>
                  <a:pt x="9813" y="5353"/>
                  <a:pt x="9820" y="5362"/>
                  <a:pt x="9847" y="5358"/>
                </a:cubicBezTo>
              </a:path>
              <a:path w="8584" h="6872">
                <a:moveTo>
                  <a:pt x="9500" y="5581"/>
                </a:moveTo>
                <a:cubicBezTo>
                  <a:pt x="9457" y="5538"/>
                  <a:pt x="9436" y="5493"/>
                  <a:pt x="9426" y="5432"/>
                </a:cubicBezTo>
                <a:cubicBezTo>
                  <a:pt x="9414" y="5360"/>
                  <a:pt x="9366" y="5312"/>
                  <a:pt x="9351" y="5234"/>
                </a:cubicBezTo>
                <a:cubicBezTo>
                  <a:pt x="9333" y="5140"/>
                  <a:pt x="9412" y="5159"/>
                  <a:pt x="9475" y="5159"/>
                </a:cubicBezTo>
                <a:cubicBezTo>
                  <a:pt x="9579" y="5159"/>
                  <a:pt x="9670" y="5181"/>
                  <a:pt x="9773" y="5184"/>
                </a:cubicBezTo>
                <a:cubicBezTo>
                  <a:pt x="9898" y="5188"/>
                  <a:pt x="10017" y="5229"/>
                  <a:pt x="10145" y="5234"/>
                </a:cubicBezTo>
                <a:cubicBezTo>
                  <a:pt x="10197" y="5234"/>
                  <a:pt x="10215" y="5235"/>
                  <a:pt x="10244" y="52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9"/>
          <p:cNvSpPr/>
          <p:nvPr/>
        </p:nvSpPr>
        <p:spPr>
          <a:xfrm>
            <a:off x="115920" y="3375000"/>
            <a:ext cx="2081160" cy="857160"/>
          </a:xfrm>
          <a:custGeom>
            <a:avLst/>
            <a:gdLst/>
            <a:ahLst/>
            <a:rect l="l" t="t" r="r" b="b"/>
            <a:pathLst>
              <a:path w="5781" h="2382">
                <a:moveTo>
                  <a:pt x="1215" y="9723"/>
                </a:moveTo>
                <a:lnTo>
                  <a:pt x="1215" y="9723"/>
                </a:lnTo>
              </a:path>
              <a:path w="5781" h="2382">
                <a:moveTo>
                  <a:pt x="1191" y="9847"/>
                </a:moveTo>
                <a:cubicBezTo>
                  <a:pt x="1161" y="9929"/>
                  <a:pt x="1128" y="10010"/>
                  <a:pt x="1116" y="10096"/>
                </a:cubicBezTo>
                <a:cubicBezTo>
                  <a:pt x="1107" y="10157"/>
                  <a:pt x="1138" y="10289"/>
                  <a:pt x="1166" y="10344"/>
                </a:cubicBezTo>
                <a:cubicBezTo>
                  <a:pt x="1194" y="10400"/>
                  <a:pt x="1242" y="10405"/>
                  <a:pt x="1290" y="10418"/>
                </a:cubicBezTo>
                <a:cubicBezTo>
                  <a:pt x="1384" y="10444"/>
                  <a:pt x="1428" y="10452"/>
                  <a:pt x="1513" y="10393"/>
                </a:cubicBezTo>
                <a:cubicBezTo>
                  <a:pt x="1560" y="10360"/>
                  <a:pt x="1622" y="10299"/>
                  <a:pt x="1637" y="10244"/>
                </a:cubicBezTo>
                <a:cubicBezTo>
                  <a:pt x="1654" y="10182"/>
                  <a:pt x="1678" y="10089"/>
                  <a:pt x="1662" y="10021"/>
                </a:cubicBezTo>
                <a:cubicBezTo>
                  <a:pt x="1646" y="9954"/>
                  <a:pt x="1631" y="9856"/>
                  <a:pt x="1588" y="9798"/>
                </a:cubicBezTo>
                <a:cubicBezTo>
                  <a:pt x="1542" y="9735"/>
                  <a:pt x="1483" y="9679"/>
                  <a:pt x="1439" y="9624"/>
                </a:cubicBezTo>
                <a:cubicBezTo>
                  <a:pt x="1398" y="9573"/>
                  <a:pt x="1353" y="9535"/>
                  <a:pt x="1290" y="9525"/>
                </a:cubicBezTo>
                <a:cubicBezTo>
                  <a:pt x="1185" y="9509"/>
                  <a:pt x="1177" y="9563"/>
                  <a:pt x="1141" y="9624"/>
                </a:cubicBezTo>
                <a:cubicBezTo>
                  <a:pt x="1101" y="9693"/>
                  <a:pt x="1115" y="9746"/>
                  <a:pt x="1141" y="9823"/>
                </a:cubicBezTo>
              </a:path>
              <a:path w="5781" h="2382">
                <a:moveTo>
                  <a:pt x="1984" y="9897"/>
                </a:moveTo>
                <a:cubicBezTo>
                  <a:pt x="2088" y="9912"/>
                  <a:pt x="2185" y="9927"/>
                  <a:pt x="2282" y="9947"/>
                </a:cubicBezTo>
              </a:path>
              <a:path w="5781" h="2382">
                <a:moveTo>
                  <a:pt x="2034" y="10046"/>
                </a:moveTo>
                <a:cubicBezTo>
                  <a:pt x="2104" y="10072"/>
                  <a:pt x="2156" y="10071"/>
                  <a:pt x="2232" y="10071"/>
                </a:cubicBezTo>
                <a:cubicBezTo>
                  <a:pt x="2249" y="10071"/>
                  <a:pt x="2265" y="10071"/>
                  <a:pt x="2282" y="10071"/>
                </a:cubicBezTo>
              </a:path>
              <a:path w="5781" h="2382">
                <a:moveTo>
                  <a:pt x="2729" y="9699"/>
                </a:moveTo>
                <a:cubicBezTo>
                  <a:pt x="2700" y="9727"/>
                  <a:pt x="2692" y="9740"/>
                  <a:pt x="2704" y="9773"/>
                </a:cubicBezTo>
                <a:cubicBezTo>
                  <a:pt x="2745" y="9731"/>
                  <a:pt x="2782" y="9708"/>
                  <a:pt x="2828" y="9674"/>
                </a:cubicBezTo>
                <a:cubicBezTo>
                  <a:pt x="2894" y="9625"/>
                  <a:pt x="2907" y="9620"/>
                  <a:pt x="2977" y="9674"/>
                </a:cubicBezTo>
                <a:cubicBezTo>
                  <a:pt x="3029" y="9714"/>
                  <a:pt x="3030" y="9764"/>
                  <a:pt x="3051" y="9823"/>
                </a:cubicBezTo>
                <a:cubicBezTo>
                  <a:pt x="3081" y="9908"/>
                  <a:pt x="3076" y="9983"/>
                  <a:pt x="3076" y="10071"/>
                </a:cubicBezTo>
                <a:cubicBezTo>
                  <a:pt x="3076" y="10166"/>
                  <a:pt x="3060" y="10209"/>
                  <a:pt x="3026" y="10294"/>
                </a:cubicBezTo>
                <a:cubicBezTo>
                  <a:pt x="3004" y="10351"/>
                  <a:pt x="2985" y="10438"/>
                  <a:pt x="2902" y="10418"/>
                </a:cubicBezTo>
                <a:cubicBezTo>
                  <a:pt x="2826" y="10400"/>
                  <a:pt x="2807" y="10336"/>
                  <a:pt x="2803" y="10269"/>
                </a:cubicBezTo>
                <a:cubicBezTo>
                  <a:pt x="2800" y="10217"/>
                  <a:pt x="2835" y="10147"/>
                  <a:pt x="2902" y="10170"/>
                </a:cubicBezTo>
                <a:cubicBezTo>
                  <a:pt x="2944" y="10184"/>
                  <a:pt x="3020" y="10265"/>
                  <a:pt x="3051" y="10294"/>
                </a:cubicBezTo>
                <a:cubicBezTo>
                  <a:pt x="3092" y="10332"/>
                  <a:pt x="3135" y="10357"/>
                  <a:pt x="3175" y="10393"/>
                </a:cubicBezTo>
                <a:cubicBezTo>
                  <a:pt x="3208" y="10423"/>
                  <a:pt x="3231" y="10434"/>
                  <a:pt x="3274" y="10443"/>
                </a:cubicBezTo>
              </a:path>
              <a:path w="5781" h="2382">
                <a:moveTo>
                  <a:pt x="3349" y="9971"/>
                </a:moveTo>
                <a:cubicBezTo>
                  <a:pt x="3377" y="10049"/>
                  <a:pt x="3411" y="10099"/>
                  <a:pt x="3448" y="10170"/>
                </a:cubicBezTo>
                <a:cubicBezTo>
                  <a:pt x="3485" y="10240"/>
                  <a:pt x="3552" y="10262"/>
                  <a:pt x="3597" y="10319"/>
                </a:cubicBezTo>
                <a:cubicBezTo>
                  <a:pt x="3646" y="10381"/>
                  <a:pt x="3639" y="10383"/>
                  <a:pt x="3721" y="10393"/>
                </a:cubicBezTo>
              </a:path>
              <a:path w="5781" h="2382">
                <a:moveTo>
                  <a:pt x="3597" y="9947"/>
                </a:moveTo>
                <a:cubicBezTo>
                  <a:pt x="3545" y="10034"/>
                  <a:pt x="3485" y="10125"/>
                  <a:pt x="3448" y="10220"/>
                </a:cubicBezTo>
                <a:cubicBezTo>
                  <a:pt x="3438" y="10245"/>
                  <a:pt x="3356" y="10443"/>
                  <a:pt x="3398" y="10468"/>
                </a:cubicBezTo>
                <a:cubicBezTo>
                  <a:pt x="3406" y="10460"/>
                  <a:pt x="3415" y="10451"/>
                  <a:pt x="3423" y="10443"/>
                </a:cubicBezTo>
              </a:path>
              <a:path w="5781" h="2382">
                <a:moveTo>
                  <a:pt x="4043" y="9872"/>
                </a:moveTo>
                <a:cubicBezTo>
                  <a:pt x="4043" y="9981"/>
                  <a:pt x="4062" y="10069"/>
                  <a:pt x="4068" y="10170"/>
                </a:cubicBezTo>
                <a:cubicBezTo>
                  <a:pt x="4072" y="10241"/>
                  <a:pt x="4081" y="10299"/>
                  <a:pt x="4093" y="10368"/>
                </a:cubicBezTo>
              </a:path>
              <a:path w="5781" h="2382">
                <a:moveTo>
                  <a:pt x="3994" y="10071"/>
                </a:moveTo>
                <a:cubicBezTo>
                  <a:pt x="4057" y="10088"/>
                  <a:pt x="4136" y="10109"/>
                  <a:pt x="4192" y="10120"/>
                </a:cubicBezTo>
                <a:cubicBezTo>
                  <a:pt x="4209" y="10120"/>
                  <a:pt x="4225" y="10120"/>
                  <a:pt x="4242" y="10120"/>
                </a:cubicBezTo>
              </a:path>
              <a:path w="5781" h="2382">
                <a:moveTo>
                  <a:pt x="4564" y="9872"/>
                </a:moveTo>
                <a:cubicBezTo>
                  <a:pt x="4533" y="9934"/>
                  <a:pt x="4493" y="9998"/>
                  <a:pt x="4514" y="10071"/>
                </a:cubicBezTo>
                <a:cubicBezTo>
                  <a:pt x="4539" y="10159"/>
                  <a:pt x="4596" y="10147"/>
                  <a:pt x="4663" y="10170"/>
                </a:cubicBezTo>
                <a:cubicBezTo>
                  <a:pt x="4729" y="10203"/>
                  <a:pt x="4762" y="10203"/>
                  <a:pt x="4812" y="10145"/>
                </a:cubicBezTo>
              </a:path>
              <a:path w="5781" h="2382">
                <a:moveTo>
                  <a:pt x="4862" y="9599"/>
                </a:moveTo>
                <a:cubicBezTo>
                  <a:pt x="4834" y="9675"/>
                  <a:pt x="4791" y="9744"/>
                  <a:pt x="4787" y="9823"/>
                </a:cubicBezTo>
                <a:cubicBezTo>
                  <a:pt x="4780" y="9944"/>
                  <a:pt x="4798" y="10057"/>
                  <a:pt x="4812" y="10170"/>
                </a:cubicBezTo>
                <a:cubicBezTo>
                  <a:pt x="4823" y="10255"/>
                  <a:pt x="4827" y="10335"/>
                  <a:pt x="4837" y="10418"/>
                </a:cubicBezTo>
              </a:path>
              <a:path w="5781" h="2382">
                <a:moveTo>
                  <a:pt x="3026" y="10567"/>
                </a:moveTo>
                <a:cubicBezTo>
                  <a:pt x="3159" y="10586"/>
                  <a:pt x="3293" y="10594"/>
                  <a:pt x="3423" y="10616"/>
                </a:cubicBezTo>
                <a:cubicBezTo>
                  <a:pt x="3563" y="10640"/>
                  <a:pt x="3702" y="10663"/>
                  <a:pt x="3845" y="10666"/>
                </a:cubicBezTo>
                <a:cubicBezTo>
                  <a:pt x="4001" y="10670"/>
                  <a:pt x="4159" y="10712"/>
                  <a:pt x="4316" y="10691"/>
                </a:cubicBezTo>
                <a:cubicBezTo>
                  <a:pt x="4435" y="10675"/>
                  <a:pt x="4542" y="10666"/>
                  <a:pt x="4663" y="10666"/>
                </a:cubicBezTo>
                <a:cubicBezTo>
                  <a:pt x="4680" y="10666"/>
                  <a:pt x="4854" y="10623"/>
                  <a:pt x="4837" y="10592"/>
                </a:cubicBezTo>
                <a:cubicBezTo>
                  <a:pt x="4793" y="10570"/>
                  <a:pt x="4781" y="10557"/>
                  <a:pt x="4762" y="10592"/>
                </a:cubicBezTo>
              </a:path>
              <a:path w="5781" h="2382">
                <a:moveTo>
                  <a:pt x="4390" y="11063"/>
                </a:moveTo>
                <a:cubicBezTo>
                  <a:pt x="4334" y="10982"/>
                  <a:pt x="4283" y="10909"/>
                  <a:pt x="4167" y="10914"/>
                </a:cubicBezTo>
                <a:cubicBezTo>
                  <a:pt x="4072" y="10918"/>
                  <a:pt x="4049" y="10992"/>
                  <a:pt x="4093" y="11063"/>
                </a:cubicBezTo>
                <a:cubicBezTo>
                  <a:pt x="4136" y="11133"/>
                  <a:pt x="4196" y="11192"/>
                  <a:pt x="4242" y="11261"/>
                </a:cubicBezTo>
                <a:cubicBezTo>
                  <a:pt x="4290" y="11333"/>
                  <a:pt x="4328" y="11407"/>
                  <a:pt x="4366" y="11485"/>
                </a:cubicBezTo>
                <a:cubicBezTo>
                  <a:pt x="4392" y="11537"/>
                  <a:pt x="4459" y="11622"/>
                  <a:pt x="4440" y="11683"/>
                </a:cubicBezTo>
                <a:cubicBezTo>
                  <a:pt x="4428" y="11723"/>
                  <a:pt x="4355" y="11769"/>
                  <a:pt x="4316" y="11757"/>
                </a:cubicBezTo>
                <a:cubicBezTo>
                  <a:pt x="4280" y="11746"/>
                  <a:pt x="4214" y="11692"/>
                  <a:pt x="4192" y="11658"/>
                </a:cubicBezTo>
                <a:cubicBezTo>
                  <a:pt x="4142" y="11582"/>
                  <a:pt x="4168" y="11490"/>
                  <a:pt x="4192" y="11410"/>
                </a:cubicBezTo>
                <a:cubicBezTo>
                  <a:pt x="4214" y="11337"/>
                  <a:pt x="4240" y="11312"/>
                  <a:pt x="4291" y="11261"/>
                </a:cubicBezTo>
                <a:cubicBezTo>
                  <a:pt x="4318" y="11234"/>
                  <a:pt x="4380" y="11178"/>
                  <a:pt x="4415" y="11162"/>
                </a:cubicBezTo>
                <a:cubicBezTo>
                  <a:pt x="4423" y="11162"/>
                  <a:pt x="4432" y="11162"/>
                  <a:pt x="4440" y="11162"/>
                </a:cubicBezTo>
              </a:path>
              <a:path w="5781" h="2382">
                <a:moveTo>
                  <a:pt x="5383" y="10641"/>
                </a:moveTo>
                <a:cubicBezTo>
                  <a:pt x="5383" y="10658"/>
                  <a:pt x="5383" y="10674"/>
                  <a:pt x="5383" y="10691"/>
                </a:cubicBezTo>
              </a:path>
              <a:path w="5781" h="2382">
                <a:moveTo>
                  <a:pt x="5953" y="9897"/>
                </a:moveTo>
                <a:cubicBezTo>
                  <a:pt x="5923" y="9837"/>
                  <a:pt x="5904" y="9766"/>
                  <a:pt x="5829" y="9748"/>
                </a:cubicBezTo>
                <a:cubicBezTo>
                  <a:pt x="5794" y="9740"/>
                  <a:pt x="5671" y="9731"/>
                  <a:pt x="5655" y="9773"/>
                </a:cubicBezTo>
                <a:cubicBezTo>
                  <a:pt x="5632" y="9833"/>
                  <a:pt x="5671" y="9902"/>
                  <a:pt x="5705" y="9947"/>
                </a:cubicBezTo>
                <a:cubicBezTo>
                  <a:pt x="5733" y="9983"/>
                  <a:pt x="5769" y="10046"/>
                  <a:pt x="5804" y="10071"/>
                </a:cubicBezTo>
                <a:cubicBezTo>
                  <a:pt x="5871" y="10119"/>
                  <a:pt x="5895" y="10181"/>
                  <a:pt x="5953" y="10244"/>
                </a:cubicBezTo>
                <a:cubicBezTo>
                  <a:pt x="6007" y="10303"/>
                  <a:pt x="6041" y="10346"/>
                  <a:pt x="6077" y="10418"/>
                </a:cubicBezTo>
                <a:cubicBezTo>
                  <a:pt x="6110" y="10485"/>
                  <a:pt x="6113" y="10532"/>
                  <a:pt x="6077" y="10592"/>
                </a:cubicBezTo>
                <a:cubicBezTo>
                  <a:pt x="6016" y="10583"/>
                  <a:pt x="5977" y="10562"/>
                  <a:pt x="5928" y="10517"/>
                </a:cubicBezTo>
                <a:cubicBezTo>
                  <a:pt x="5888" y="10480"/>
                  <a:pt x="5814" y="10424"/>
                  <a:pt x="5804" y="10368"/>
                </a:cubicBezTo>
                <a:cubicBezTo>
                  <a:pt x="5789" y="10288"/>
                  <a:pt x="5833" y="10185"/>
                  <a:pt x="5879" y="10120"/>
                </a:cubicBezTo>
                <a:cubicBezTo>
                  <a:pt x="5916" y="10067"/>
                  <a:pt x="5928" y="10020"/>
                  <a:pt x="5953" y="9971"/>
                </a:cubicBezTo>
                <a:cubicBezTo>
                  <a:pt x="5985" y="9907"/>
                  <a:pt x="5981" y="9900"/>
                  <a:pt x="5928" y="9847"/>
                </a:cubicBezTo>
              </a:path>
              <a:path w="5781" h="2382">
                <a:moveTo>
                  <a:pt x="769" y="9748"/>
                </a:moveTo>
                <a:cubicBezTo>
                  <a:pt x="769" y="9756"/>
                  <a:pt x="769" y="9765"/>
                  <a:pt x="769" y="9773"/>
                </a:cubicBezTo>
              </a:path>
              <a:path w="5781" h="2382">
                <a:moveTo>
                  <a:pt x="645" y="9401"/>
                </a:moveTo>
                <a:cubicBezTo>
                  <a:pt x="539" y="9372"/>
                  <a:pt x="499" y="9378"/>
                  <a:pt x="397" y="9426"/>
                </a:cubicBezTo>
                <a:cubicBezTo>
                  <a:pt x="297" y="9474"/>
                  <a:pt x="332" y="9485"/>
                  <a:pt x="347" y="9575"/>
                </a:cubicBezTo>
                <a:cubicBezTo>
                  <a:pt x="357" y="9636"/>
                  <a:pt x="376" y="9674"/>
                  <a:pt x="422" y="9723"/>
                </a:cubicBezTo>
                <a:cubicBezTo>
                  <a:pt x="479" y="9785"/>
                  <a:pt x="508" y="9847"/>
                  <a:pt x="546" y="9922"/>
                </a:cubicBezTo>
                <a:cubicBezTo>
                  <a:pt x="579" y="9987"/>
                  <a:pt x="611" y="10044"/>
                  <a:pt x="595" y="10120"/>
                </a:cubicBezTo>
                <a:cubicBezTo>
                  <a:pt x="584" y="10174"/>
                  <a:pt x="547" y="10268"/>
                  <a:pt x="471" y="10244"/>
                </a:cubicBezTo>
                <a:cubicBezTo>
                  <a:pt x="384" y="10216"/>
                  <a:pt x="430" y="10100"/>
                  <a:pt x="446" y="10046"/>
                </a:cubicBezTo>
                <a:cubicBezTo>
                  <a:pt x="469" y="9966"/>
                  <a:pt x="509" y="9917"/>
                  <a:pt x="546" y="9847"/>
                </a:cubicBezTo>
                <a:cubicBezTo>
                  <a:pt x="574" y="9795"/>
                  <a:pt x="605" y="9742"/>
                  <a:pt x="645" y="9699"/>
                </a:cubicBezTo>
                <a:cubicBezTo>
                  <a:pt x="693" y="9646"/>
                  <a:pt x="724" y="9605"/>
                  <a:pt x="794" y="9599"/>
                </a:cubicBezTo>
                <a:cubicBezTo>
                  <a:pt x="802" y="9599"/>
                  <a:pt x="811" y="9599"/>
                  <a:pt x="819" y="9599"/>
                </a:cubicBezTo>
              </a:path>
              <a:path w="5781" h="2382">
                <a:moveTo>
                  <a:pt x="4663" y="10988"/>
                </a:moveTo>
                <a:cubicBezTo>
                  <a:pt x="4671" y="10996"/>
                  <a:pt x="4680" y="11005"/>
                  <a:pt x="4688" y="11013"/>
                </a:cubicBezTo>
                <a:cubicBezTo>
                  <a:pt x="4639" y="11062"/>
                  <a:pt x="4590" y="11095"/>
                  <a:pt x="4539" y="11137"/>
                </a:cubicBezTo>
                <a:cubicBezTo>
                  <a:pt x="4462" y="11201"/>
                  <a:pt x="4388" y="11265"/>
                  <a:pt x="4316" y="11336"/>
                </a:cubicBezTo>
                <a:cubicBezTo>
                  <a:pt x="4241" y="11410"/>
                  <a:pt x="4168" y="11519"/>
                  <a:pt x="4093" y="11584"/>
                </a:cubicBezTo>
                <a:cubicBezTo>
                  <a:pt x="4047" y="11624"/>
                  <a:pt x="4014" y="11662"/>
                  <a:pt x="3969" y="11708"/>
                </a:cubicBezTo>
                <a:cubicBezTo>
                  <a:pt x="3902" y="11775"/>
                  <a:pt x="3986" y="11691"/>
                  <a:pt x="3994" y="11683"/>
                </a:cubicBezTo>
              </a:path>
              <a:path w="5781" h="2382">
                <a:moveTo>
                  <a:pt x="6052" y="9773"/>
                </a:moveTo>
                <a:cubicBezTo>
                  <a:pt x="5972" y="9853"/>
                  <a:pt x="5885" y="9918"/>
                  <a:pt x="5804" y="9996"/>
                </a:cubicBezTo>
                <a:cubicBezTo>
                  <a:pt x="5725" y="10071"/>
                  <a:pt x="5682" y="10155"/>
                  <a:pt x="5631" y="10244"/>
                </a:cubicBezTo>
                <a:cubicBezTo>
                  <a:pt x="5579" y="10334"/>
                  <a:pt x="5511" y="10407"/>
                  <a:pt x="5457" y="10492"/>
                </a:cubicBezTo>
                <a:cubicBezTo>
                  <a:pt x="5432" y="10542"/>
                  <a:pt x="5424" y="10558"/>
                  <a:pt x="5383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10"/>
          <p:cNvSpPr/>
          <p:nvPr/>
        </p:nvSpPr>
        <p:spPr>
          <a:xfrm>
            <a:off x="2705040" y="3463920"/>
            <a:ext cx="1501920" cy="457200"/>
          </a:xfrm>
          <a:custGeom>
            <a:avLst/>
            <a:gdLst/>
            <a:ahLst/>
            <a:rect l="l" t="t" r="r" b="b"/>
            <a:pathLst>
              <a:path w="4168" h="1266">
                <a:moveTo>
                  <a:pt x="7665" y="9823"/>
                </a:moveTo>
                <a:cubicBezTo>
                  <a:pt x="7643" y="9859"/>
                  <a:pt x="7601" y="9925"/>
                  <a:pt x="7590" y="9971"/>
                </a:cubicBezTo>
                <a:cubicBezTo>
                  <a:pt x="7572" y="10045"/>
                  <a:pt x="7558" y="10120"/>
                  <a:pt x="7541" y="10195"/>
                </a:cubicBezTo>
                <a:cubicBezTo>
                  <a:pt x="7518" y="10293"/>
                  <a:pt x="7504" y="10347"/>
                  <a:pt x="7541" y="10443"/>
                </a:cubicBezTo>
                <a:cubicBezTo>
                  <a:pt x="7587" y="10564"/>
                  <a:pt x="7596" y="10620"/>
                  <a:pt x="7714" y="10666"/>
                </a:cubicBezTo>
                <a:cubicBezTo>
                  <a:pt x="7821" y="10708"/>
                  <a:pt x="7837" y="10704"/>
                  <a:pt x="7938" y="10691"/>
                </a:cubicBezTo>
                <a:cubicBezTo>
                  <a:pt x="8035" y="10678"/>
                  <a:pt x="8060" y="10634"/>
                  <a:pt x="8111" y="10542"/>
                </a:cubicBezTo>
                <a:cubicBezTo>
                  <a:pt x="8165" y="10445"/>
                  <a:pt x="8161" y="10380"/>
                  <a:pt x="8161" y="10269"/>
                </a:cubicBezTo>
                <a:cubicBezTo>
                  <a:pt x="8161" y="10163"/>
                  <a:pt x="8128" y="10012"/>
                  <a:pt x="8062" y="9922"/>
                </a:cubicBezTo>
                <a:cubicBezTo>
                  <a:pt x="8012" y="9855"/>
                  <a:pt x="7935" y="9788"/>
                  <a:pt x="7863" y="9748"/>
                </a:cubicBezTo>
                <a:cubicBezTo>
                  <a:pt x="7800" y="9713"/>
                  <a:pt x="7728" y="9709"/>
                  <a:pt x="7665" y="9748"/>
                </a:cubicBezTo>
                <a:cubicBezTo>
                  <a:pt x="7601" y="9788"/>
                  <a:pt x="7621" y="9869"/>
                  <a:pt x="7640" y="9922"/>
                </a:cubicBezTo>
                <a:cubicBezTo>
                  <a:pt x="7648" y="9938"/>
                  <a:pt x="7657" y="9955"/>
                  <a:pt x="7665" y="9971"/>
                </a:cubicBezTo>
              </a:path>
              <a:path w="4168" h="1266">
                <a:moveTo>
                  <a:pt x="8458" y="10071"/>
                </a:moveTo>
                <a:cubicBezTo>
                  <a:pt x="8552" y="10071"/>
                  <a:pt x="8619" y="10091"/>
                  <a:pt x="8706" y="10096"/>
                </a:cubicBezTo>
                <a:cubicBezTo>
                  <a:pt x="8723" y="10096"/>
                  <a:pt x="8739" y="10096"/>
                  <a:pt x="8756" y="10096"/>
                </a:cubicBezTo>
              </a:path>
              <a:path w="4168" h="1266">
                <a:moveTo>
                  <a:pt x="8483" y="10344"/>
                </a:moveTo>
                <a:cubicBezTo>
                  <a:pt x="8609" y="10370"/>
                  <a:pt x="8679" y="10368"/>
                  <a:pt x="8806" y="10344"/>
                </a:cubicBezTo>
              </a:path>
              <a:path w="4168" h="1266">
                <a:moveTo>
                  <a:pt x="8954" y="9996"/>
                </a:moveTo>
                <a:cubicBezTo>
                  <a:pt x="8986" y="10107"/>
                  <a:pt x="9017" y="10196"/>
                  <a:pt x="9079" y="10294"/>
                </a:cubicBezTo>
                <a:cubicBezTo>
                  <a:pt x="9142" y="10394"/>
                  <a:pt x="9208" y="10493"/>
                  <a:pt x="9302" y="10567"/>
                </a:cubicBezTo>
                <a:cubicBezTo>
                  <a:pt x="9363" y="10615"/>
                  <a:pt x="9445" y="10698"/>
                  <a:pt x="9525" y="10716"/>
                </a:cubicBezTo>
                <a:cubicBezTo>
                  <a:pt x="9542" y="10716"/>
                  <a:pt x="9558" y="10716"/>
                  <a:pt x="9575" y="10716"/>
                </a:cubicBezTo>
              </a:path>
              <a:path w="4168" h="1266">
                <a:moveTo>
                  <a:pt x="9252" y="9897"/>
                </a:moveTo>
                <a:cubicBezTo>
                  <a:pt x="9175" y="10012"/>
                  <a:pt x="9119" y="10111"/>
                  <a:pt x="9079" y="10244"/>
                </a:cubicBezTo>
                <a:cubicBezTo>
                  <a:pt x="9045" y="10357"/>
                  <a:pt x="8997" y="10479"/>
                  <a:pt x="8979" y="10592"/>
                </a:cubicBezTo>
                <a:cubicBezTo>
                  <a:pt x="8970" y="10646"/>
                  <a:pt x="8979" y="10675"/>
                  <a:pt x="9004" y="10716"/>
                </a:cubicBezTo>
              </a:path>
              <a:path w="4168" h="1266">
                <a:moveTo>
                  <a:pt x="9475" y="9624"/>
                </a:moveTo>
                <a:cubicBezTo>
                  <a:pt x="9578" y="9630"/>
                  <a:pt x="9667" y="9604"/>
                  <a:pt x="9674" y="9723"/>
                </a:cubicBezTo>
                <a:cubicBezTo>
                  <a:pt x="9678" y="9783"/>
                  <a:pt x="9638" y="9827"/>
                  <a:pt x="9599" y="9872"/>
                </a:cubicBezTo>
                <a:cubicBezTo>
                  <a:pt x="9535" y="9945"/>
                  <a:pt x="9596" y="10001"/>
                  <a:pt x="9674" y="10021"/>
                </a:cubicBezTo>
                <a:cubicBezTo>
                  <a:pt x="9741" y="10038"/>
                  <a:pt x="9828" y="10038"/>
                  <a:pt x="9897" y="10046"/>
                </a:cubicBezTo>
              </a:path>
              <a:path w="4168" h="1266">
                <a:moveTo>
                  <a:pt x="9897" y="10368"/>
                </a:moveTo>
                <a:cubicBezTo>
                  <a:pt x="10018" y="10388"/>
                  <a:pt x="10122" y="10393"/>
                  <a:pt x="10244" y="10393"/>
                </a:cubicBezTo>
              </a:path>
              <a:path w="4168" h="1266">
                <a:moveTo>
                  <a:pt x="10641" y="9947"/>
                </a:moveTo>
                <a:cubicBezTo>
                  <a:pt x="10616" y="10071"/>
                  <a:pt x="10595" y="10192"/>
                  <a:pt x="10592" y="10319"/>
                </a:cubicBezTo>
                <a:cubicBezTo>
                  <a:pt x="10589" y="10433"/>
                  <a:pt x="10604" y="10532"/>
                  <a:pt x="10616" y="10641"/>
                </a:cubicBezTo>
                <a:cubicBezTo>
                  <a:pt x="10622" y="10695"/>
                  <a:pt x="10615" y="10828"/>
                  <a:pt x="10666" y="10790"/>
                </a:cubicBezTo>
                <a:cubicBezTo>
                  <a:pt x="10674" y="10782"/>
                  <a:pt x="10683" y="10773"/>
                  <a:pt x="10691" y="10765"/>
                </a:cubicBezTo>
              </a:path>
              <a:path w="4168" h="1266">
                <a:moveTo>
                  <a:pt x="11013" y="9996"/>
                </a:moveTo>
                <a:cubicBezTo>
                  <a:pt x="10963" y="10127"/>
                  <a:pt x="10919" y="10229"/>
                  <a:pt x="10914" y="10368"/>
                </a:cubicBezTo>
                <a:cubicBezTo>
                  <a:pt x="10910" y="10483"/>
                  <a:pt x="10951" y="10553"/>
                  <a:pt x="11013" y="10641"/>
                </a:cubicBezTo>
                <a:cubicBezTo>
                  <a:pt x="11068" y="10719"/>
                  <a:pt x="11188" y="10840"/>
                  <a:pt x="11286" y="10864"/>
                </a:cubicBezTo>
                <a:cubicBezTo>
                  <a:pt x="11381" y="10888"/>
                  <a:pt x="11498" y="10851"/>
                  <a:pt x="11584" y="10815"/>
                </a:cubicBezTo>
                <a:cubicBezTo>
                  <a:pt x="11644" y="10790"/>
                  <a:pt x="11727" y="10680"/>
                  <a:pt x="11658" y="10616"/>
                </a:cubicBezTo>
                <a:cubicBezTo>
                  <a:pt x="11576" y="10540"/>
                  <a:pt x="11350" y="10688"/>
                  <a:pt x="11311" y="10716"/>
                </a:cubicBezTo>
                <a:cubicBezTo>
                  <a:pt x="11242" y="10765"/>
                  <a:pt x="11220" y="10817"/>
                  <a:pt x="11187" y="108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11"/>
          <p:cNvSpPr/>
          <p:nvPr/>
        </p:nvSpPr>
        <p:spPr>
          <a:xfrm>
            <a:off x="2394000" y="3902040"/>
            <a:ext cx="1357200" cy="1714680"/>
          </a:xfrm>
          <a:custGeom>
            <a:avLst/>
            <a:gdLst/>
            <a:ahLst/>
            <a:rect l="l" t="t" r="r" b="b"/>
            <a:pathLst>
              <a:path w="3771" h="4763">
                <a:moveTo>
                  <a:pt x="6796" y="10840"/>
                </a:moveTo>
                <a:cubicBezTo>
                  <a:pt x="6820" y="10888"/>
                  <a:pt x="6838" y="10979"/>
                  <a:pt x="6846" y="11038"/>
                </a:cubicBezTo>
                <a:cubicBezTo>
                  <a:pt x="6855" y="11107"/>
                  <a:pt x="6852" y="11194"/>
                  <a:pt x="6871" y="11261"/>
                </a:cubicBezTo>
                <a:cubicBezTo>
                  <a:pt x="6887" y="11320"/>
                  <a:pt x="6896" y="11346"/>
                  <a:pt x="6896" y="11410"/>
                </a:cubicBezTo>
              </a:path>
              <a:path w="3771" h="4763">
                <a:moveTo>
                  <a:pt x="6648" y="11013"/>
                </a:moveTo>
                <a:cubicBezTo>
                  <a:pt x="6707" y="11049"/>
                  <a:pt x="6774" y="11036"/>
                  <a:pt x="6846" y="11063"/>
                </a:cubicBezTo>
                <a:cubicBezTo>
                  <a:pt x="6949" y="11102"/>
                  <a:pt x="7058" y="11088"/>
                  <a:pt x="7169" y="11088"/>
                </a:cubicBezTo>
              </a:path>
              <a:path w="3771" h="4763">
                <a:moveTo>
                  <a:pt x="7565" y="10864"/>
                </a:moveTo>
                <a:cubicBezTo>
                  <a:pt x="7565" y="11065"/>
                  <a:pt x="7559" y="11267"/>
                  <a:pt x="7590" y="11460"/>
                </a:cubicBezTo>
                <a:cubicBezTo>
                  <a:pt x="7600" y="11524"/>
                  <a:pt x="7570" y="11579"/>
                  <a:pt x="7615" y="11609"/>
                </a:cubicBezTo>
              </a:path>
              <a:path w="3771" h="4763">
                <a:moveTo>
                  <a:pt x="7838" y="11063"/>
                </a:moveTo>
                <a:cubicBezTo>
                  <a:pt x="7810" y="11139"/>
                  <a:pt x="7752" y="11233"/>
                  <a:pt x="7739" y="11311"/>
                </a:cubicBezTo>
                <a:cubicBezTo>
                  <a:pt x="7729" y="11370"/>
                  <a:pt x="7736" y="11510"/>
                  <a:pt x="7764" y="11559"/>
                </a:cubicBezTo>
                <a:cubicBezTo>
                  <a:pt x="7798" y="11618"/>
                  <a:pt x="7882" y="11677"/>
                  <a:pt x="7938" y="11708"/>
                </a:cubicBezTo>
                <a:cubicBezTo>
                  <a:pt x="8001" y="11743"/>
                  <a:pt x="8073" y="11747"/>
                  <a:pt x="8136" y="11708"/>
                </a:cubicBezTo>
                <a:cubicBezTo>
                  <a:pt x="8176" y="11683"/>
                  <a:pt x="8218" y="11604"/>
                  <a:pt x="8210" y="11559"/>
                </a:cubicBezTo>
                <a:cubicBezTo>
                  <a:pt x="8189" y="11439"/>
                  <a:pt x="8128" y="11442"/>
                  <a:pt x="8037" y="11509"/>
                </a:cubicBezTo>
                <a:cubicBezTo>
                  <a:pt x="7988" y="11546"/>
                  <a:pt x="7971" y="11625"/>
                  <a:pt x="7987" y="11683"/>
                </a:cubicBezTo>
                <a:cubicBezTo>
                  <a:pt x="7995" y="11700"/>
                  <a:pt x="8004" y="11716"/>
                  <a:pt x="8012" y="11733"/>
                </a:cubicBezTo>
              </a:path>
              <a:path w="3771" h="4763">
                <a:moveTo>
                  <a:pt x="8136" y="12502"/>
                </a:moveTo>
                <a:cubicBezTo>
                  <a:pt x="8126" y="12579"/>
                  <a:pt x="8111" y="12643"/>
                  <a:pt x="8111" y="12725"/>
                </a:cubicBezTo>
                <a:cubicBezTo>
                  <a:pt x="8111" y="12946"/>
                  <a:pt x="8075" y="13218"/>
                  <a:pt x="8136" y="13419"/>
                </a:cubicBezTo>
                <a:cubicBezTo>
                  <a:pt x="8136" y="13427"/>
                  <a:pt x="8136" y="13436"/>
                  <a:pt x="8136" y="13444"/>
                </a:cubicBezTo>
              </a:path>
              <a:path w="3771" h="4763">
                <a:moveTo>
                  <a:pt x="8384" y="12650"/>
                </a:moveTo>
                <a:cubicBezTo>
                  <a:pt x="8347" y="12790"/>
                  <a:pt x="8314" y="12876"/>
                  <a:pt x="8310" y="13022"/>
                </a:cubicBezTo>
                <a:cubicBezTo>
                  <a:pt x="8307" y="13127"/>
                  <a:pt x="8314" y="13200"/>
                  <a:pt x="8359" y="13295"/>
                </a:cubicBezTo>
                <a:cubicBezTo>
                  <a:pt x="8392" y="13365"/>
                  <a:pt x="8454" y="13426"/>
                  <a:pt x="8533" y="13444"/>
                </a:cubicBezTo>
                <a:cubicBezTo>
                  <a:pt x="8610" y="13461"/>
                  <a:pt x="8653" y="13442"/>
                  <a:pt x="8682" y="13370"/>
                </a:cubicBezTo>
                <a:cubicBezTo>
                  <a:pt x="8718" y="13280"/>
                  <a:pt x="8697" y="13247"/>
                  <a:pt x="8682" y="13171"/>
                </a:cubicBezTo>
                <a:cubicBezTo>
                  <a:pt x="8682" y="13127"/>
                  <a:pt x="8685" y="13113"/>
                  <a:pt x="8657" y="13097"/>
                </a:cubicBezTo>
                <a:cubicBezTo>
                  <a:pt x="8566" y="13110"/>
                  <a:pt x="8563" y="13151"/>
                  <a:pt x="8558" y="13246"/>
                </a:cubicBezTo>
                <a:cubicBezTo>
                  <a:pt x="8555" y="13312"/>
                  <a:pt x="8546" y="13386"/>
                  <a:pt x="8582" y="13444"/>
                </a:cubicBezTo>
                <a:cubicBezTo>
                  <a:pt x="8590" y="13452"/>
                  <a:pt x="8599" y="13461"/>
                  <a:pt x="8607" y="13469"/>
                </a:cubicBezTo>
              </a:path>
              <a:path w="3771" h="4763">
                <a:moveTo>
                  <a:pt x="8954" y="12774"/>
                </a:moveTo>
                <a:cubicBezTo>
                  <a:pt x="9012" y="12758"/>
                  <a:pt x="9072" y="12736"/>
                  <a:pt x="9128" y="12725"/>
                </a:cubicBezTo>
              </a:path>
              <a:path w="3771" h="4763">
                <a:moveTo>
                  <a:pt x="8930" y="12973"/>
                </a:moveTo>
                <a:cubicBezTo>
                  <a:pt x="9059" y="13034"/>
                  <a:pt x="9068" y="13047"/>
                  <a:pt x="9203" y="13047"/>
                </a:cubicBezTo>
              </a:path>
              <a:path w="3771" h="4763">
                <a:moveTo>
                  <a:pt x="9475" y="12725"/>
                </a:moveTo>
                <a:cubicBezTo>
                  <a:pt x="9511" y="12840"/>
                  <a:pt x="9534" y="12944"/>
                  <a:pt x="9599" y="13047"/>
                </a:cubicBezTo>
                <a:cubicBezTo>
                  <a:pt x="9667" y="13155"/>
                  <a:pt x="9728" y="13283"/>
                  <a:pt x="9823" y="13370"/>
                </a:cubicBezTo>
                <a:cubicBezTo>
                  <a:pt x="9892" y="13416"/>
                  <a:pt x="9912" y="13428"/>
                  <a:pt x="9947" y="13469"/>
                </a:cubicBezTo>
              </a:path>
              <a:path w="3771" h="4763">
                <a:moveTo>
                  <a:pt x="9897" y="12725"/>
                </a:moveTo>
                <a:cubicBezTo>
                  <a:pt x="9832" y="12843"/>
                  <a:pt x="9791" y="12945"/>
                  <a:pt x="9748" y="13072"/>
                </a:cubicBezTo>
                <a:cubicBezTo>
                  <a:pt x="9715" y="13171"/>
                  <a:pt x="9682" y="13271"/>
                  <a:pt x="9649" y="13370"/>
                </a:cubicBezTo>
                <a:cubicBezTo>
                  <a:pt x="9627" y="13437"/>
                  <a:pt x="9617" y="13509"/>
                  <a:pt x="9599" y="13568"/>
                </a:cubicBezTo>
                <a:cubicBezTo>
                  <a:pt x="9599" y="13576"/>
                  <a:pt x="9599" y="13585"/>
                  <a:pt x="9599" y="13593"/>
                </a:cubicBezTo>
              </a:path>
              <a:path w="3771" h="4763">
                <a:moveTo>
                  <a:pt x="10021" y="12254"/>
                </a:moveTo>
                <a:cubicBezTo>
                  <a:pt x="10058" y="12244"/>
                  <a:pt x="10195" y="12189"/>
                  <a:pt x="10220" y="12254"/>
                </a:cubicBezTo>
                <a:cubicBezTo>
                  <a:pt x="10248" y="12326"/>
                  <a:pt x="10161" y="12385"/>
                  <a:pt x="10120" y="12427"/>
                </a:cubicBezTo>
                <a:cubicBezTo>
                  <a:pt x="10074" y="12474"/>
                  <a:pt x="10051" y="12494"/>
                  <a:pt x="10096" y="12551"/>
                </a:cubicBezTo>
                <a:cubicBezTo>
                  <a:pt x="10150" y="12620"/>
                  <a:pt x="10215" y="12645"/>
                  <a:pt x="10294" y="12675"/>
                </a:cubicBezTo>
                <a:cubicBezTo>
                  <a:pt x="10359" y="12697"/>
                  <a:pt x="10374" y="12705"/>
                  <a:pt x="10418" y="12700"/>
                </a:cubicBezTo>
              </a:path>
              <a:path w="3771" h="4763">
                <a:moveTo>
                  <a:pt x="9227" y="13097"/>
                </a:moveTo>
                <a:cubicBezTo>
                  <a:pt x="9227" y="13212"/>
                  <a:pt x="9237" y="13309"/>
                  <a:pt x="9252" y="13419"/>
                </a:cubicBezTo>
                <a:cubicBezTo>
                  <a:pt x="9264" y="13505"/>
                  <a:pt x="9257" y="13545"/>
                  <a:pt x="9327" y="13568"/>
                </a:cubicBezTo>
                <a:cubicBezTo>
                  <a:pt x="9338" y="13443"/>
                  <a:pt x="9366" y="13326"/>
                  <a:pt x="9376" y="13196"/>
                </a:cubicBezTo>
                <a:cubicBezTo>
                  <a:pt x="9388" y="13038"/>
                  <a:pt x="9421" y="12882"/>
                  <a:pt x="9426" y="12725"/>
                </a:cubicBezTo>
                <a:cubicBezTo>
                  <a:pt x="9430" y="12603"/>
                  <a:pt x="9413" y="12496"/>
                  <a:pt x="9401" y="12378"/>
                </a:cubicBezTo>
                <a:cubicBezTo>
                  <a:pt x="9395" y="12318"/>
                  <a:pt x="9366" y="12209"/>
                  <a:pt x="9376" y="12154"/>
                </a:cubicBezTo>
                <a:cubicBezTo>
                  <a:pt x="9402" y="12007"/>
                  <a:pt x="9491" y="12051"/>
                  <a:pt x="9599" y="12030"/>
                </a:cubicBezTo>
                <a:cubicBezTo>
                  <a:pt x="9732" y="12004"/>
                  <a:pt x="9840" y="12047"/>
                  <a:pt x="9971" y="12030"/>
                </a:cubicBezTo>
                <a:cubicBezTo>
                  <a:pt x="10068" y="12017"/>
                  <a:pt x="10155" y="12000"/>
                  <a:pt x="10244" y="11956"/>
                </a:cubicBezTo>
              </a:path>
              <a:path w="3771" h="4763">
                <a:moveTo>
                  <a:pt x="7193" y="12105"/>
                </a:moveTo>
                <a:cubicBezTo>
                  <a:pt x="7193" y="12215"/>
                  <a:pt x="7180" y="12323"/>
                  <a:pt x="7218" y="12427"/>
                </a:cubicBezTo>
                <a:cubicBezTo>
                  <a:pt x="7242" y="12492"/>
                  <a:pt x="7244" y="12527"/>
                  <a:pt x="7293" y="12576"/>
                </a:cubicBezTo>
              </a:path>
              <a:path w="3771" h="4763">
                <a:moveTo>
                  <a:pt x="7020" y="12254"/>
                </a:moveTo>
                <a:cubicBezTo>
                  <a:pt x="7104" y="12254"/>
                  <a:pt x="7188" y="12260"/>
                  <a:pt x="7268" y="12278"/>
                </a:cubicBezTo>
                <a:cubicBezTo>
                  <a:pt x="7335" y="12301"/>
                  <a:pt x="7353" y="12306"/>
                  <a:pt x="7392" y="12328"/>
                </a:cubicBezTo>
              </a:path>
              <a:path w="3771" h="4763">
                <a:moveTo>
                  <a:pt x="7020" y="12576"/>
                </a:moveTo>
                <a:cubicBezTo>
                  <a:pt x="7165" y="12622"/>
                  <a:pt x="7295" y="12645"/>
                  <a:pt x="7441" y="12675"/>
                </a:cubicBezTo>
              </a:path>
              <a:path w="3771" h="4763">
                <a:moveTo>
                  <a:pt x="7293" y="13171"/>
                </a:moveTo>
                <a:cubicBezTo>
                  <a:pt x="7315" y="13268"/>
                  <a:pt x="7324" y="13405"/>
                  <a:pt x="7367" y="13494"/>
                </a:cubicBezTo>
                <a:cubicBezTo>
                  <a:pt x="7407" y="13577"/>
                  <a:pt x="7449" y="13659"/>
                  <a:pt x="7491" y="13742"/>
                </a:cubicBezTo>
                <a:cubicBezTo>
                  <a:pt x="7468" y="13604"/>
                  <a:pt x="7457" y="13524"/>
                  <a:pt x="7466" y="13395"/>
                </a:cubicBezTo>
                <a:cubicBezTo>
                  <a:pt x="7474" y="13286"/>
                  <a:pt x="7471" y="13179"/>
                  <a:pt x="7491" y="13072"/>
                </a:cubicBezTo>
                <a:cubicBezTo>
                  <a:pt x="7512" y="12958"/>
                  <a:pt x="7529" y="12839"/>
                  <a:pt x="7541" y="12725"/>
                </a:cubicBezTo>
                <a:cubicBezTo>
                  <a:pt x="7561" y="12539"/>
                  <a:pt x="7502" y="12330"/>
                  <a:pt x="7565" y="12154"/>
                </a:cubicBezTo>
                <a:cubicBezTo>
                  <a:pt x="7650" y="12165"/>
                  <a:pt x="7722" y="12179"/>
                  <a:pt x="7813" y="12179"/>
                </a:cubicBezTo>
                <a:cubicBezTo>
                  <a:pt x="7923" y="12179"/>
                  <a:pt x="8023" y="12204"/>
                  <a:pt x="8136" y="12204"/>
                </a:cubicBezTo>
                <a:cubicBezTo>
                  <a:pt x="8256" y="12204"/>
                  <a:pt x="8392" y="12202"/>
                  <a:pt x="8508" y="12229"/>
                </a:cubicBezTo>
                <a:cubicBezTo>
                  <a:pt x="8572" y="12244"/>
                  <a:pt x="8648" y="12255"/>
                  <a:pt x="8706" y="12278"/>
                </a:cubicBezTo>
                <a:cubicBezTo>
                  <a:pt x="8714" y="12286"/>
                  <a:pt x="8723" y="12295"/>
                  <a:pt x="8731" y="12303"/>
                </a:cubicBezTo>
              </a:path>
              <a:path w="3771" h="4763">
                <a:moveTo>
                  <a:pt x="7813" y="14238"/>
                </a:moveTo>
                <a:cubicBezTo>
                  <a:pt x="7804" y="14313"/>
                  <a:pt x="7779" y="14381"/>
                  <a:pt x="7789" y="14461"/>
                </a:cubicBezTo>
                <a:cubicBezTo>
                  <a:pt x="7803" y="14576"/>
                  <a:pt x="7849" y="14675"/>
                  <a:pt x="7863" y="14784"/>
                </a:cubicBezTo>
              </a:path>
              <a:path w="3771" h="4763">
                <a:moveTo>
                  <a:pt x="7590" y="14436"/>
                </a:moveTo>
                <a:cubicBezTo>
                  <a:pt x="7725" y="14399"/>
                  <a:pt x="7777" y="14412"/>
                  <a:pt x="7913" y="14412"/>
                </a:cubicBezTo>
                <a:cubicBezTo>
                  <a:pt x="7938" y="14412"/>
                  <a:pt x="7962" y="14412"/>
                  <a:pt x="7987" y="14412"/>
                </a:cubicBezTo>
              </a:path>
              <a:path w="3771" h="4763">
                <a:moveTo>
                  <a:pt x="7565" y="14957"/>
                </a:moveTo>
                <a:cubicBezTo>
                  <a:pt x="7682" y="14996"/>
                  <a:pt x="7743" y="15018"/>
                  <a:pt x="7863" y="14982"/>
                </a:cubicBezTo>
                <a:cubicBezTo>
                  <a:pt x="7936" y="14958"/>
                  <a:pt x="7960" y="14949"/>
                  <a:pt x="8012" y="14957"/>
                </a:cubicBezTo>
              </a:path>
              <a:path w="3771" h="4763">
                <a:moveTo>
                  <a:pt x="8682" y="14511"/>
                </a:moveTo>
                <a:cubicBezTo>
                  <a:pt x="8622" y="14571"/>
                  <a:pt x="8587" y="14625"/>
                  <a:pt x="8533" y="14684"/>
                </a:cubicBezTo>
                <a:cubicBezTo>
                  <a:pt x="8502" y="14718"/>
                  <a:pt x="8506" y="14746"/>
                  <a:pt x="8483" y="14784"/>
                </a:cubicBezTo>
                <a:cubicBezTo>
                  <a:pt x="8526" y="14809"/>
                  <a:pt x="8610" y="14846"/>
                  <a:pt x="8657" y="14858"/>
                </a:cubicBezTo>
                <a:cubicBezTo>
                  <a:pt x="8723" y="14875"/>
                  <a:pt x="8787" y="14899"/>
                  <a:pt x="8855" y="14908"/>
                </a:cubicBezTo>
              </a:path>
              <a:path w="3771" h="4763">
                <a:moveTo>
                  <a:pt x="8954" y="14362"/>
                </a:moveTo>
                <a:cubicBezTo>
                  <a:pt x="8907" y="14513"/>
                  <a:pt x="8846" y="14674"/>
                  <a:pt x="8830" y="14833"/>
                </a:cubicBezTo>
                <a:cubicBezTo>
                  <a:pt x="8810" y="15023"/>
                  <a:pt x="8774" y="15214"/>
                  <a:pt x="8756" y="15404"/>
                </a:cubicBezTo>
                <a:cubicBezTo>
                  <a:pt x="8749" y="15480"/>
                  <a:pt x="8758" y="15534"/>
                  <a:pt x="8781" y="15602"/>
                </a:cubicBezTo>
              </a:path>
              <a:path w="3771" h="4763">
                <a:moveTo>
                  <a:pt x="9128" y="14908"/>
                </a:moveTo>
                <a:cubicBezTo>
                  <a:pt x="9237" y="14864"/>
                  <a:pt x="9291" y="14846"/>
                  <a:pt x="9401" y="14883"/>
                </a:cubicBezTo>
                <a:cubicBezTo>
                  <a:pt x="9451" y="14908"/>
                  <a:pt x="9467" y="14916"/>
                  <a:pt x="9500" y="14883"/>
                </a:cubicBezTo>
              </a:path>
              <a:path w="3771" h="4763">
                <a:moveTo>
                  <a:pt x="9227" y="15131"/>
                </a:moveTo>
                <a:cubicBezTo>
                  <a:pt x="9318" y="15180"/>
                  <a:pt x="9372" y="15196"/>
                  <a:pt x="9475" y="15205"/>
                </a:cubicBezTo>
              </a:path>
              <a:path w="3771" h="4763">
                <a:moveTo>
                  <a:pt x="9823" y="14511"/>
                </a:moveTo>
                <a:cubicBezTo>
                  <a:pt x="9876" y="14648"/>
                  <a:pt x="9937" y="14774"/>
                  <a:pt x="9996" y="14908"/>
                </a:cubicBezTo>
                <a:cubicBezTo>
                  <a:pt x="10085" y="15112"/>
                  <a:pt x="10166" y="15304"/>
                  <a:pt x="10269" y="15503"/>
                </a:cubicBezTo>
              </a:path>
              <a:path w="3771" h="4763">
                <a:moveTo>
                  <a:pt x="10244" y="14684"/>
                </a:moveTo>
                <a:cubicBezTo>
                  <a:pt x="10115" y="14958"/>
                  <a:pt x="9991" y="15225"/>
                  <a:pt x="9872" y="155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Ink 12"/>
          <p:cNvSpPr/>
          <p:nvPr/>
        </p:nvSpPr>
        <p:spPr>
          <a:xfrm>
            <a:off x="3670200" y="4010040"/>
            <a:ext cx="482760" cy="303120"/>
          </a:xfrm>
          <a:custGeom>
            <a:avLst/>
            <a:gdLst/>
            <a:ahLst/>
            <a:rect l="l" t="t" r="r" b="b"/>
            <a:pathLst>
              <a:path w="1340" h="845">
                <a:moveTo>
                  <a:pt x="10368" y="11237"/>
                </a:moveTo>
                <a:cubicBezTo>
                  <a:pt x="10330" y="11301"/>
                  <a:pt x="10364" y="11315"/>
                  <a:pt x="10368" y="11385"/>
                </a:cubicBezTo>
                <a:cubicBezTo>
                  <a:pt x="10373" y="11468"/>
                  <a:pt x="10401" y="11507"/>
                  <a:pt x="10418" y="11584"/>
                </a:cubicBezTo>
                <a:cubicBezTo>
                  <a:pt x="10430" y="11638"/>
                  <a:pt x="10435" y="11701"/>
                  <a:pt x="10443" y="11757"/>
                </a:cubicBezTo>
              </a:path>
              <a:path w="1340" h="845">
                <a:moveTo>
                  <a:pt x="10195" y="11460"/>
                </a:moveTo>
                <a:cubicBezTo>
                  <a:pt x="10203" y="11435"/>
                  <a:pt x="10212" y="11410"/>
                  <a:pt x="10220" y="11385"/>
                </a:cubicBezTo>
                <a:cubicBezTo>
                  <a:pt x="10299" y="11439"/>
                  <a:pt x="10358" y="11435"/>
                  <a:pt x="10443" y="11460"/>
                </a:cubicBezTo>
                <a:cubicBezTo>
                  <a:pt x="10459" y="11468"/>
                  <a:pt x="10476" y="11477"/>
                  <a:pt x="10492" y="11485"/>
                </a:cubicBezTo>
              </a:path>
              <a:path w="1340" h="845">
                <a:moveTo>
                  <a:pt x="10815" y="11137"/>
                </a:moveTo>
                <a:cubicBezTo>
                  <a:pt x="10815" y="11338"/>
                  <a:pt x="10809" y="11541"/>
                  <a:pt x="10840" y="11733"/>
                </a:cubicBezTo>
                <a:cubicBezTo>
                  <a:pt x="10850" y="11793"/>
                  <a:pt x="10843" y="11822"/>
                  <a:pt x="10864" y="11881"/>
                </a:cubicBezTo>
              </a:path>
              <a:path w="1340" h="845">
                <a:moveTo>
                  <a:pt x="11162" y="11286"/>
                </a:moveTo>
                <a:cubicBezTo>
                  <a:pt x="11141" y="11376"/>
                  <a:pt x="11135" y="11474"/>
                  <a:pt x="11112" y="11559"/>
                </a:cubicBezTo>
                <a:cubicBezTo>
                  <a:pt x="11092" y="11633"/>
                  <a:pt x="11087" y="11681"/>
                  <a:pt x="11112" y="11757"/>
                </a:cubicBezTo>
                <a:cubicBezTo>
                  <a:pt x="11134" y="11822"/>
                  <a:pt x="11181" y="11891"/>
                  <a:pt x="11237" y="11931"/>
                </a:cubicBezTo>
                <a:cubicBezTo>
                  <a:pt x="11315" y="11987"/>
                  <a:pt x="11397" y="11998"/>
                  <a:pt x="11485" y="11956"/>
                </a:cubicBezTo>
                <a:cubicBezTo>
                  <a:pt x="11561" y="11920"/>
                  <a:pt x="11540" y="11788"/>
                  <a:pt x="11509" y="11733"/>
                </a:cubicBezTo>
                <a:cubicBezTo>
                  <a:pt x="11468" y="11660"/>
                  <a:pt x="11337" y="11688"/>
                  <a:pt x="11286" y="11733"/>
                </a:cubicBezTo>
                <a:cubicBezTo>
                  <a:pt x="11226" y="11785"/>
                  <a:pt x="11223" y="11896"/>
                  <a:pt x="11187" y="119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13"/>
          <p:cNvSpPr/>
          <p:nvPr/>
        </p:nvSpPr>
        <p:spPr>
          <a:xfrm>
            <a:off x="500040" y="4197240"/>
            <a:ext cx="1305000" cy="812880"/>
          </a:xfrm>
          <a:custGeom>
            <a:avLst/>
            <a:gdLst/>
            <a:ahLst/>
            <a:rect l="l" t="t" r="r" b="b"/>
            <a:pathLst>
              <a:path w="3623" h="2258">
                <a:moveTo>
                  <a:pt x="1513" y="11807"/>
                </a:moveTo>
                <a:cubicBezTo>
                  <a:pt x="1481" y="11870"/>
                  <a:pt x="1450" y="11937"/>
                  <a:pt x="1439" y="12005"/>
                </a:cubicBezTo>
                <a:cubicBezTo>
                  <a:pt x="1425" y="12091"/>
                  <a:pt x="1372" y="12188"/>
                  <a:pt x="1389" y="12278"/>
                </a:cubicBezTo>
                <a:cubicBezTo>
                  <a:pt x="1404" y="12356"/>
                  <a:pt x="1426" y="12428"/>
                  <a:pt x="1463" y="12502"/>
                </a:cubicBezTo>
                <a:cubicBezTo>
                  <a:pt x="1486" y="12547"/>
                  <a:pt x="1556" y="12616"/>
                  <a:pt x="1612" y="12626"/>
                </a:cubicBezTo>
                <a:cubicBezTo>
                  <a:pt x="1706" y="12643"/>
                  <a:pt x="1781" y="12597"/>
                  <a:pt x="1836" y="12526"/>
                </a:cubicBezTo>
                <a:cubicBezTo>
                  <a:pt x="1913" y="12426"/>
                  <a:pt x="1881" y="12385"/>
                  <a:pt x="1910" y="12278"/>
                </a:cubicBezTo>
                <a:cubicBezTo>
                  <a:pt x="1938" y="12174"/>
                  <a:pt x="1925" y="12134"/>
                  <a:pt x="1910" y="12030"/>
                </a:cubicBezTo>
                <a:cubicBezTo>
                  <a:pt x="1898" y="11948"/>
                  <a:pt x="1898" y="11910"/>
                  <a:pt x="1860" y="11832"/>
                </a:cubicBezTo>
                <a:cubicBezTo>
                  <a:pt x="1838" y="11787"/>
                  <a:pt x="1802" y="11713"/>
                  <a:pt x="1761" y="11683"/>
                </a:cubicBezTo>
                <a:cubicBezTo>
                  <a:pt x="1695" y="11635"/>
                  <a:pt x="1642" y="11659"/>
                  <a:pt x="1588" y="11708"/>
                </a:cubicBezTo>
                <a:cubicBezTo>
                  <a:pt x="1546" y="11747"/>
                  <a:pt x="1501" y="11799"/>
                  <a:pt x="1488" y="11857"/>
                </a:cubicBezTo>
                <a:cubicBezTo>
                  <a:pt x="1467" y="11950"/>
                  <a:pt x="1474" y="11985"/>
                  <a:pt x="1488" y="12080"/>
                </a:cubicBezTo>
                <a:cubicBezTo>
                  <a:pt x="1488" y="12131"/>
                  <a:pt x="1489" y="12150"/>
                  <a:pt x="1513" y="12179"/>
                </a:cubicBezTo>
              </a:path>
              <a:path w="3623" h="2258">
                <a:moveTo>
                  <a:pt x="2133" y="12179"/>
                </a:moveTo>
                <a:cubicBezTo>
                  <a:pt x="2217" y="12187"/>
                  <a:pt x="2265" y="12204"/>
                  <a:pt x="2356" y="12204"/>
                </a:cubicBezTo>
                <a:cubicBezTo>
                  <a:pt x="2364" y="12204"/>
                  <a:pt x="2373" y="12204"/>
                  <a:pt x="2381" y="12204"/>
                </a:cubicBezTo>
              </a:path>
              <a:path w="3623" h="2258">
                <a:moveTo>
                  <a:pt x="2232" y="12328"/>
                </a:moveTo>
                <a:cubicBezTo>
                  <a:pt x="2358" y="12378"/>
                  <a:pt x="2368" y="12369"/>
                  <a:pt x="2480" y="12353"/>
                </a:cubicBezTo>
              </a:path>
              <a:path w="3623" h="2258">
                <a:moveTo>
                  <a:pt x="2654" y="11906"/>
                </a:moveTo>
                <a:cubicBezTo>
                  <a:pt x="2704" y="11877"/>
                  <a:pt x="2732" y="11837"/>
                  <a:pt x="2778" y="11807"/>
                </a:cubicBezTo>
                <a:cubicBezTo>
                  <a:pt x="2833" y="11772"/>
                  <a:pt x="2864" y="11737"/>
                  <a:pt x="2927" y="11733"/>
                </a:cubicBezTo>
                <a:cubicBezTo>
                  <a:pt x="3073" y="11725"/>
                  <a:pt x="3076" y="11844"/>
                  <a:pt x="3076" y="11956"/>
                </a:cubicBezTo>
                <a:cubicBezTo>
                  <a:pt x="3076" y="12039"/>
                  <a:pt x="3051" y="12061"/>
                  <a:pt x="3026" y="12129"/>
                </a:cubicBezTo>
                <a:cubicBezTo>
                  <a:pt x="2988" y="12234"/>
                  <a:pt x="2955" y="12239"/>
                  <a:pt x="2902" y="12328"/>
                </a:cubicBezTo>
                <a:cubicBezTo>
                  <a:pt x="2859" y="12399"/>
                  <a:pt x="2804" y="12461"/>
                  <a:pt x="2753" y="12526"/>
                </a:cubicBezTo>
                <a:cubicBezTo>
                  <a:pt x="2720" y="12569"/>
                  <a:pt x="2675" y="12609"/>
                  <a:pt x="2753" y="12650"/>
                </a:cubicBezTo>
                <a:cubicBezTo>
                  <a:pt x="2818" y="12684"/>
                  <a:pt x="2929" y="12696"/>
                  <a:pt x="3001" y="12700"/>
                </a:cubicBezTo>
                <a:cubicBezTo>
                  <a:pt x="3069" y="12704"/>
                  <a:pt x="3113" y="12696"/>
                  <a:pt x="3175" y="12675"/>
                </a:cubicBezTo>
              </a:path>
              <a:path w="3623" h="2258">
                <a:moveTo>
                  <a:pt x="3423" y="12204"/>
                </a:moveTo>
                <a:cubicBezTo>
                  <a:pt x="3433" y="12325"/>
                  <a:pt x="3472" y="12376"/>
                  <a:pt x="3522" y="12477"/>
                </a:cubicBezTo>
                <a:cubicBezTo>
                  <a:pt x="3575" y="12583"/>
                  <a:pt x="3637" y="12661"/>
                  <a:pt x="3721" y="12750"/>
                </a:cubicBezTo>
                <a:cubicBezTo>
                  <a:pt x="3776" y="12808"/>
                  <a:pt x="3825" y="12859"/>
                  <a:pt x="3894" y="12898"/>
                </a:cubicBezTo>
              </a:path>
              <a:path w="3623" h="2258">
                <a:moveTo>
                  <a:pt x="3770" y="12229"/>
                </a:moveTo>
                <a:cubicBezTo>
                  <a:pt x="3698" y="12271"/>
                  <a:pt x="3644" y="12333"/>
                  <a:pt x="3597" y="12402"/>
                </a:cubicBezTo>
                <a:cubicBezTo>
                  <a:pt x="3554" y="12466"/>
                  <a:pt x="3510" y="12535"/>
                  <a:pt x="3473" y="12601"/>
                </a:cubicBezTo>
                <a:cubicBezTo>
                  <a:pt x="3434" y="12671"/>
                  <a:pt x="3407" y="12707"/>
                  <a:pt x="3448" y="12774"/>
                </a:cubicBezTo>
              </a:path>
              <a:path w="3623" h="2258">
                <a:moveTo>
                  <a:pt x="4192" y="12179"/>
                </a:moveTo>
                <a:cubicBezTo>
                  <a:pt x="4164" y="12285"/>
                  <a:pt x="4142" y="12368"/>
                  <a:pt x="4142" y="12477"/>
                </a:cubicBezTo>
                <a:cubicBezTo>
                  <a:pt x="4142" y="12576"/>
                  <a:pt x="4142" y="12675"/>
                  <a:pt x="4142" y="12774"/>
                </a:cubicBezTo>
              </a:path>
              <a:path w="3623" h="2258">
                <a:moveTo>
                  <a:pt x="3994" y="12427"/>
                </a:moveTo>
                <a:cubicBezTo>
                  <a:pt x="4085" y="12427"/>
                  <a:pt x="4154" y="12444"/>
                  <a:pt x="4242" y="12452"/>
                </a:cubicBezTo>
              </a:path>
              <a:path w="3623" h="2258">
                <a:moveTo>
                  <a:pt x="4614" y="12129"/>
                </a:moveTo>
                <a:cubicBezTo>
                  <a:pt x="4592" y="12157"/>
                  <a:pt x="4524" y="12221"/>
                  <a:pt x="4514" y="12254"/>
                </a:cubicBezTo>
                <a:cubicBezTo>
                  <a:pt x="4489" y="12340"/>
                  <a:pt x="4498" y="12356"/>
                  <a:pt x="4564" y="12427"/>
                </a:cubicBezTo>
                <a:cubicBezTo>
                  <a:pt x="4606" y="12472"/>
                  <a:pt x="4681" y="12499"/>
                  <a:pt x="4738" y="12502"/>
                </a:cubicBezTo>
                <a:cubicBezTo>
                  <a:pt x="4787" y="12502"/>
                  <a:pt x="4804" y="12502"/>
                  <a:pt x="4837" y="12502"/>
                </a:cubicBezTo>
              </a:path>
              <a:path w="3623" h="2258">
                <a:moveTo>
                  <a:pt x="4961" y="11857"/>
                </a:moveTo>
                <a:cubicBezTo>
                  <a:pt x="4917" y="11933"/>
                  <a:pt x="4891" y="11962"/>
                  <a:pt x="4887" y="12055"/>
                </a:cubicBezTo>
                <a:cubicBezTo>
                  <a:pt x="4882" y="12155"/>
                  <a:pt x="4862" y="12249"/>
                  <a:pt x="4862" y="12353"/>
                </a:cubicBezTo>
                <a:cubicBezTo>
                  <a:pt x="4862" y="12506"/>
                  <a:pt x="4853" y="12652"/>
                  <a:pt x="4837" y="12799"/>
                </a:cubicBezTo>
                <a:cubicBezTo>
                  <a:pt x="4837" y="12890"/>
                  <a:pt x="4837" y="12932"/>
                  <a:pt x="4837" y="12998"/>
                </a:cubicBezTo>
              </a:path>
              <a:path w="3623" h="2258">
                <a:moveTo>
                  <a:pt x="4142" y="13345"/>
                </a:moveTo>
                <a:cubicBezTo>
                  <a:pt x="4214" y="13363"/>
                  <a:pt x="4313" y="13391"/>
                  <a:pt x="4390" y="13370"/>
                </a:cubicBezTo>
                <a:cubicBezTo>
                  <a:pt x="4407" y="13362"/>
                  <a:pt x="4423" y="13353"/>
                  <a:pt x="4440" y="13345"/>
                </a:cubicBezTo>
              </a:path>
              <a:path w="3623" h="2258">
                <a:moveTo>
                  <a:pt x="4738" y="13271"/>
                </a:moveTo>
                <a:cubicBezTo>
                  <a:pt x="4679" y="13363"/>
                  <a:pt x="4646" y="13380"/>
                  <a:pt x="4713" y="13469"/>
                </a:cubicBezTo>
                <a:cubicBezTo>
                  <a:pt x="4764" y="13537"/>
                  <a:pt x="4803" y="13539"/>
                  <a:pt x="4862" y="13568"/>
                </a:cubicBezTo>
                <a:cubicBezTo>
                  <a:pt x="4870" y="13576"/>
                  <a:pt x="4879" y="13585"/>
                  <a:pt x="4887" y="13593"/>
                </a:cubicBezTo>
              </a:path>
              <a:path w="3623" h="2258">
                <a:moveTo>
                  <a:pt x="5011" y="13246"/>
                </a:moveTo>
                <a:cubicBezTo>
                  <a:pt x="4960" y="13390"/>
                  <a:pt x="4958" y="13453"/>
                  <a:pt x="4936" y="13593"/>
                </a:cubicBezTo>
                <a:cubicBezTo>
                  <a:pt x="4919" y="13702"/>
                  <a:pt x="4913" y="13809"/>
                  <a:pt x="4887" y="139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14"/>
          <p:cNvSpPr/>
          <p:nvPr/>
        </p:nvSpPr>
        <p:spPr>
          <a:xfrm>
            <a:off x="339840" y="4606920"/>
            <a:ext cx="330120" cy="287280"/>
          </a:xfrm>
          <a:custGeom>
            <a:avLst/>
            <a:gdLst/>
            <a:ahLst/>
            <a:rect l="l" t="t" r="r" b="b"/>
            <a:pathLst>
              <a:path w="918" h="795">
                <a:moveTo>
                  <a:pt x="943" y="13122"/>
                </a:moveTo>
                <a:cubicBezTo>
                  <a:pt x="1012" y="13161"/>
                  <a:pt x="1034" y="13171"/>
                  <a:pt x="1116" y="13171"/>
                </a:cubicBezTo>
                <a:cubicBezTo>
                  <a:pt x="1166" y="13171"/>
                  <a:pt x="1182" y="13171"/>
                  <a:pt x="1215" y="13171"/>
                </a:cubicBezTo>
              </a:path>
              <a:path w="918" h="795">
                <a:moveTo>
                  <a:pt x="1513" y="12998"/>
                </a:moveTo>
                <a:cubicBezTo>
                  <a:pt x="1509" y="13005"/>
                  <a:pt x="1388" y="13159"/>
                  <a:pt x="1389" y="13171"/>
                </a:cubicBezTo>
                <a:cubicBezTo>
                  <a:pt x="1395" y="13249"/>
                  <a:pt x="1485" y="13253"/>
                  <a:pt x="1538" y="13271"/>
                </a:cubicBezTo>
                <a:cubicBezTo>
                  <a:pt x="1598" y="13291"/>
                  <a:pt x="1628" y="13295"/>
                  <a:pt x="1687" y="13295"/>
                </a:cubicBezTo>
              </a:path>
              <a:path w="918" h="795">
                <a:moveTo>
                  <a:pt x="1860" y="12799"/>
                </a:moveTo>
                <a:cubicBezTo>
                  <a:pt x="1826" y="12858"/>
                  <a:pt x="1828" y="12929"/>
                  <a:pt x="1811" y="12998"/>
                </a:cubicBezTo>
                <a:cubicBezTo>
                  <a:pt x="1785" y="13102"/>
                  <a:pt x="1780" y="13192"/>
                  <a:pt x="1761" y="13295"/>
                </a:cubicBezTo>
                <a:cubicBezTo>
                  <a:pt x="1742" y="13395"/>
                  <a:pt x="1736" y="13494"/>
                  <a:pt x="1712" y="135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Ink 15"/>
          <p:cNvSpPr/>
          <p:nvPr/>
        </p:nvSpPr>
        <p:spPr>
          <a:xfrm>
            <a:off x="465120" y="5106960"/>
            <a:ext cx="785880" cy="1386000"/>
          </a:xfrm>
          <a:custGeom>
            <a:avLst/>
            <a:gdLst/>
            <a:ahLst/>
            <a:rect l="l" t="t" r="r" b="b"/>
            <a:pathLst>
              <a:path w="2184" h="3846">
                <a:moveTo>
                  <a:pt x="1290" y="14585"/>
                </a:moveTo>
                <a:cubicBezTo>
                  <a:pt x="1364" y="14585"/>
                  <a:pt x="1444" y="14581"/>
                  <a:pt x="1513" y="14560"/>
                </a:cubicBezTo>
                <a:cubicBezTo>
                  <a:pt x="1530" y="14552"/>
                  <a:pt x="1546" y="14544"/>
                  <a:pt x="1563" y="14536"/>
                </a:cubicBezTo>
              </a:path>
              <a:path w="2184" h="3846">
                <a:moveTo>
                  <a:pt x="1860" y="14362"/>
                </a:moveTo>
                <a:cubicBezTo>
                  <a:pt x="1827" y="14396"/>
                  <a:pt x="1794" y="14428"/>
                  <a:pt x="1761" y="14461"/>
                </a:cubicBezTo>
                <a:cubicBezTo>
                  <a:pt x="1705" y="14517"/>
                  <a:pt x="1694" y="14583"/>
                  <a:pt x="1786" y="14610"/>
                </a:cubicBezTo>
                <a:cubicBezTo>
                  <a:pt x="1833" y="14624"/>
                  <a:pt x="1861" y="14628"/>
                  <a:pt x="1910" y="14635"/>
                </a:cubicBezTo>
              </a:path>
              <a:path w="2184" h="3846">
                <a:moveTo>
                  <a:pt x="2034" y="14188"/>
                </a:moveTo>
                <a:cubicBezTo>
                  <a:pt x="2024" y="14272"/>
                  <a:pt x="1996" y="14351"/>
                  <a:pt x="1984" y="14436"/>
                </a:cubicBezTo>
                <a:cubicBezTo>
                  <a:pt x="1971" y="14534"/>
                  <a:pt x="1944" y="14637"/>
                  <a:pt x="1935" y="14734"/>
                </a:cubicBezTo>
                <a:cubicBezTo>
                  <a:pt x="1925" y="14844"/>
                  <a:pt x="1910" y="14944"/>
                  <a:pt x="1910" y="15056"/>
                </a:cubicBezTo>
                <a:cubicBezTo>
                  <a:pt x="1910" y="15139"/>
                  <a:pt x="1913" y="15176"/>
                  <a:pt x="1935" y="15255"/>
                </a:cubicBezTo>
              </a:path>
              <a:path w="2184" h="3846">
                <a:moveTo>
                  <a:pt x="2133" y="14734"/>
                </a:moveTo>
                <a:cubicBezTo>
                  <a:pt x="2232" y="14734"/>
                  <a:pt x="2266" y="14734"/>
                  <a:pt x="2332" y="14734"/>
                </a:cubicBezTo>
              </a:path>
              <a:path w="2184" h="3846">
                <a:moveTo>
                  <a:pt x="2133" y="14957"/>
                </a:moveTo>
                <a:cubicBezTo>
                  <a:pt x="2201" y="14983"/>
                  <a:pt x="2230" y="14982"/>
                  <a:pt x="2307" y="14982"/>
                </a:cubicBezTo>
              </a:path>
              <a:path w="2184" h="3846">
                <a:moveTo>
                  <a:pt x="2580" y="14536"/>
                </a:moveTo>
                <a:cubicBezTo>
                  <a:pt x="2649" y="14475"/>
                  <a:pt x="2672" y="14442"/>
                  <a:pt x="2753" y="14486"/>
                </a:cubicBezTo>
                <a:cubicBezTo>
                  <a:pt x="2835" y="14530"/>
                  <a:pt x="2842" y="14548"/>
                  <a:pt x="2803" y="14635"/>
                </a:cubicBezTo>
                <a:cubicBezTo>
                  <a:pt x="2773" y="14702"/>
                  <a:pt x="2741" y="14750"/>
                  <a:pt x="2704" y="14808"/>
                </a:cubicBezTo>
                <a:cubicBezTo>
                  <a:pt x="2675" y="14853"/>
                  <a:pt x="2644" y="14956"/>
                  <a:pt x="2654" y="15007"/>
                </a:cubicBezTo>
                <a:cubicBezTo>
                  <a:pt x="2671" y="15093"/>
                  <a:pt x="2687" y="15107"/>
                  <a:pt x="2753" y="15156"/>
                </a:cubicBezTo>
                <a:cubicBezTo>
                  <a:pt x="2783" y="15185"/>
                  <a:pt x="2798" y="15190"/>
                  <a:pt x="2828" y="15156"/>
                </a:cubicBezTo>
              </a:path>
              <a:path w="2184" h="3846">
                <a:moveTo>
                  <a:pt x="3051" y="14684"/>
                </a:moveTo>
                <a:cubicBezTo>
                  <a:pt x="3082" y="14768"/>
                  <a:pt x="3119" y="14849"/>
                  <a:pt x="3150" y="14932"/>
                </a:cubicBezTo>
                <a:cubicBezTo>
                  <a:pt x="3183" y="15020"/>
                  <a:pt x="3198" y="15125"/>
                  <a:pt x="3249" y="15205"/>
                </a:cubicBezTo>
                <a:cubicBezTo>
                  <a:pt x="3279" y="15235"/>
                  <a:pt x="3293" y="15246"/>
                  <a:pt x="3324" y="15255"/>
                </a:cubicBezTo>
              </a:path>
              <a:path w="2184" h="3846">
                <a:moveTo>
                  <a:pt x="3324" y="14734"/>
                </a:moveTo>
                <a:cubicBezTo>
                  <a:pt x="3213" y="14819"/>
                  <a:pt x="3109" y="14894"/>
                  <a:pt x="3026" y="15007"/>
                </a:cubicBezTo>
                <a:cubicBezTo>
                  <a:pt x="2990" y="15056"/>
                  <a:pt x="2962" y="15081"/>
                  <a:pt x="2927" y="15131"/>
                </a:cubicBezTo>
              </a:path>
              <a:path w="2184" h="3846">
                <a:moveTo>
                  <a:pt x="2654" y="15255"/>
                </a:moveTo>
                <a:cubicBezTo>
                  <a:pt x="2742" y="15280"/>
                  <a:pt x="2903" y="15348"/>
                  <a:pt x="3001" y="15329"/>
                </a:cubicBezTo>
                <a:cubicBezTo>
                  <a:pt x="3061" y="15317"/>
                  <a:pt x="3168" y="15325"/>
                  <a:pt x="3225" y="15304"/>
                </a:cubicBezTo>
                <a:cubicBezTo>
                  <a:pt x="3261" y="15290"/>
                  <a:pt x="3278" y="15280"/>
                  <a:pt x="3324" y="15280"/>
                </a:cubicBezTo>
              </a:path>
              <a:path w="2184" h="3846">
                <a:moveTo>
                  <a:pt x="2977" y="15553"/>
                </a:moveTo>
                <a:cubicBezTo>
                  <a:pt x="3036" y="15588"/>
                  <a:pt x="3084" y="15559"/>
                  <a:pt x="3150" y="15577"/>
                </a:cubicBezTo>
                <a:cubicBezTo>
                  <a:pt x="3191" y="15588"/>
                  <a:pt x="3306" y="15603"/>
                  <a:pt x="3324" y="15652"/>
                </a:cubicBezTo>
                <a:cubicBezTo>
                  <a:pt x="3344" y="15707"/>
                  <a:pt x="3282" y="15743"/>
                  <a:pt x="3249" y="15776"/>
                </a:cubicBezTo>
                <a:cubicBezTo>
                  <a:pt x="3207" y="15818"/>
                  <a:pt x="3133" y="15855"/>
                  <a:pt x="3101" y="15900"/>
                </a:cubicBezTo>
                <a:cubicBezTo>
                  <a:pt x="3043" y="15981"/>
                  <a:pt x="3085" y="16011"/>
                  <a:pt x="3125" y="16073"/>
                </a:cubicBezTo>
                <a:cubicBezTo>
                  <a:pt x="3168" y="16141"/>
                  <a:pt x="3201" y="16181"/>
                  <a:pt x="3274" y="16222"/>
                </a:cubicBezTo>
                <a:cubicBezTo>
                  <a:pt x="3315" y="16245"/>
                  <a:pt x="3353" y="16263"/>
                  <a:pt x="3398" y="16272"/>
                </a:cubicBezTo>
              </a:path>
              <a:path w="2184" h="3846">
                <a:moveTo>
                  <a:pt x="1910" y="15205"/>
                </a:moveTo>
                <a:cubicBezTo>
                  <a:pt x="1819" y="15228"/>
                  <a:pt x="1746" y="15253"/>
                  <a:pt x="1662" y="15280"/>
                </a:cubicBezTo>
                <a:cubicBezTo>
                  <a:pt x="1594" y="15302"/>
                  <a:pt x="1527" y="15347"/>
                  <a:pt x="1463" y="15379"/>
                </a:cubicBezTo>
                <a:cubicBezTo>
                  <a:pt x="1447" y="15387"/>
                  <a:pt x="1430" y="15396"/>
                  <a:pt x="1414" y="15404"/>
                </a:cubicBezTo>
              </a:path>
              <a:path w="2184" h="3846">
                <a:moveTo>
                  <a:pt x="1662" y="15404"/>
                </a:moveTo>
                <a:cubicBezTo>
                  <a:pt x="1729" y="15422"/>
                  <a:pt x="1801" y="15462"/>
                  <a:pt x="1860" y="15478"/>
                </a:cubicBezTo>
                <a:cubicBezTo>
                  <a:pt x="1925" y="15495"/>
                  <a:pt x="2053" y="15533"/>
                  <a:pt x="1960" y="15627"/>
                </a:cubicBezTo>
                <a:cubicBezTo>
                  <a:pt x="1915" y="15672"/>
                  <a:pt x="1838" y="15690"/>
                  <a:pt x="1786" y="15726"/>
                </a:cubicBezTo>
                <a:cubicBezTo>
                  <a:pt x="1743" y="15756"/>
                  <a:pt x="1658" y="15811"/>
                  <a:pt x="1662" y="15875"/>
                </a:cubicBezTo>
                <a:cubicBezTo>
                  <a:pt x="1666" y="15952"/>
                  <a:pt x="1722" y="16016"/>
                  <a:pt x="1786" y="16049"/>
                </a:cubicBezTo>
                <a:cubicBezTo>
                  <a:pt x="1851" y="16083"/>
                  <a:pt x="1913" y="16091"/>
                  <a:pt x="1984" y="16098"/>
                </a:cubicBezTo>
              </a:path>
              <a:path w="2184" h="3846">
                <a:moveTo>
                  <a:pt x="1389" y="16818"/>
                </a:moveTo>
                <a:cubicBezTo>
                  <a:pt x="1461" y="16837"/>
                  <a:pt x="1541" y="16855"/>
                  <a:pt x="1612" y="16867"/>
                </a:cubicBezTo>
                <a:cubicBezTo>
                  <a:pt x="1629" y="16867"/>
                  <a:pt x="1645" y="16867"/>
                  <a:pt x="1662" y="16867"/>
                </a:cubicBezTo>
              </a:path>
              <a:path w="2184" h="3846">
                <a:moveTo>
                  <a:pt x="1836" y="16718"/>
                </a:moveTo>
                <a:cubicBezTo>
                  <a:pt x="1917" y="16718"/>
                  <a:pt x="1991" y="16730"/>
                  <a:pt x="2059" y="16743"/>
                </a:cubicBezTo>
                <a:cubicBezTo>
                  <a:pt x="2125" y="16755"/>
                  <a:pt x="2134" y="16769"/>
                  <a:pt x="2183" y="16818"/>
                </a:cubicBezTo>
                <a:cubicBezTo>
                  <a:pt x="2142" y="16858"/>
                  <a:pt x="2104" y="16883"/>
                  <a:pt x="2059" y="16917"/>
                </a:cubicBezTo>
                <a:cubicBezTo>
                  <a:pt x="2018" y="16948"/>
                  <a:pt x="1978" y="16988"/>
                  <a:pt x="1935" y="17016"/>
                </a:cubicBezTo>
                <a:cubicBezTo>
                  <a:pt x="1887" y="17047"/>
                  <a:pt x="1826" y="17102"/>
                  <a:pt x="1811" y="17165"/>
                </a:cubicBezTo>
                <a:cubicBezTo>
                  <a:pt x="1796" y="17230"/>
                  <a:pt x="1847" y="17299"/>
                  <a:pt x="1910" y="17314"/>
                </a:cubicBezTo>
                <a:cubicBezTo>
                  <a:pt x="1981" y="17331"/>
                  <a:pt x="2120" y="17328"/>
                  <a:pt x="2183" y="17289"/>
                </a:cubicBezTo>
                <a:cubicBezTo>
                  <a:pt x="2191" y="17281"/>
                  <a:pt x="2200" y="17272"/>
                  <a:pt x="2208" y="17264"/>
                </a:cubicBezTo>
              </a:path>
              <a:path w="2184" h="3846">
                <a:moveTo>
                  <a:pt x="2332" y="16867"/>
                </a:moveTo>
                <a:cubicBezTo>
                  <a:pt x="2361" y="16897"/>
                  <a:pt x="2369" y="16908"/>
                  <a:pt x="2406" y="16917"/>
                </a:cubicBezTo>
              </a:path>
              <a:path w="2184" h="3846">
                <a:moveTo>
                  <a:pt x="2307" y="16892"/>
                </a:moveTo>
                <a:cubicBezTo>
                  <a:pt x="2400" y="16881"/>
                  <a:pt x="2483" y="16867"/>
                  <a:pt x="2580" y="16867"/>
                </a:cubicBezTo>
                <a:cubicBezTo>
                  <a:pt x="2596" y="16867"/>
                  <a:pt x="2613" y="16867"/>
                  <a:pt x="2629" y="16867"/>
                </a:cubicBezTo>
              </a:path>
              <a:path w="2184" h="3846">
                <a:moveTo>
                  <a:pt x="2332" y="17090"/>
                </a:moveTo>
                <a:cubicBezTo>
                  <a:pt x="2439" y="17090"/>
                  <a:pt x="2530" y="17098"/>
                  <a:pt x="2629" y="17066"/>
                </a:cubicBezTo>
              </a:path>
              <a:path w="2184" h="3846">
                <a:moveTo>
                  <a:pt x="2803" y="16793"/>
                </a:moveTo>
                <a:cubicBezTo>
                  <a:pt x="2843" y="16861"/>
                  <a:pt x="2870" y="16917"/>
                  <a:pt x="2902" y="16991"/>
                </a:cubicBezTo>
                <a:cubicBezTo>
                  <a:pt x="2940" y="17080"/>
                  <a:pt x="2971" y="17171"/>
                  <a:pt x="3001" y="17264"/>
                </a:cubicBezTo>
              </a:path>
              <a:path w="2184" h="3846">
                <a:moveTo>
                  <a:pt x="3299" y="16917"/>
                </a:moveTo>
                <a:cubicBezTo>
                  <a:pt x="3185" y="16927"/>
                  <a:pt x="3153" y="16969"/>
                  <a:pt x="3051" y="17016"/>
                </a:cubicBezTo>
                <a:cubicBezTo>
                  <a:pt x="2951" y="17062"/>
                  <a:pt x="2849" y="17112"/>
                  <a:pt x="2753" y="17165"/>
                </a:cubicBezTo>
                <a:cubicBezTo>
                  <a:pt x="2663" y="17224"/>
                  <a:pt x="2623" y="17250"/>
                  <a:pt x="2555" y="17289"/>
                </a:cubicBezTo>
              </a:path>
              <a:path w="2184" h="3846">
                <a:moveTo>
                  <a:pt x="3175" y="16694"/>
                </a:moveTo>
                <a:cubicBezTo>
                  <a:pt x="3158" y="16537"/>
                  <a:pt x="3172" y="16548"/>
                  <a:pt x="3101" y="16421"/>
                </a:cubicBezTo>
                <a:cubicBezTo>
                  <a:pt x="3035" y="16303"/>
                  <a:pt x="2885" y="16222"/>
                  <a:pt x="2778" y="16148"/>
                </a:cubicBezTo>
                <a:cubicBezTo>
                  <a:pt x="2673" y="16075"/>
                  <a:pt x="2552" y="16060"/>
                  <a:pt x="2431" y="16024"/>
                </a:cubicBezTo>
                <a:cubicBezTo>
                  <a:pt x="2316" y="15990"/>
                  <a:pt x="2204" y="15999"/>
                  <a:pt x="2084" y="15999"/>
                </a:cubicBezTo>
                <a:cubicBezTo>
                  <a:pt x="1980" y="15999"/>
                  <a:pt x="1779" y="16021"/>
                  <a:pt x="1687" y="16073"/>
                </a:cubicBezTo>
                <a:cubicBezTo>
                  <a:pt x="1610" y="16116"/>
                  <a:pt x="1549" y="16175"/>
                  <a:pt x="1488" y="16222"/>
                </a:cubicBezTo>
                <a:cubicBezTo>
                  <a:pt x="1418" y="16276"/>
                  <a:pt x="1372" y="16308"/>
                  <a:pt x="1339" y="16396"/>
                </a:cubicBezTo>
                <a:cubicBezTo>
                  <a:pt x="1314" y="16462"/>
                  <a:pt x="1299" y="16524"/>
                  <a:pt x="1290" y="16594"/>
                </a:cubicBezTo>
                <a:cubicBezTo>
                  <a:pt x="1278" y="16691"/>
                  <a:pt x="1305" y="16775"/>
                  <a:pt x="1315" y="16867"/>
                </a:cubicBezTo>
                <a:cubicBezTo>
                  <a:pt x="1333" y="17026"/>
                  <a:pt x="1360" y="17129"/>
                  <a:pt x="1414" y="17289"/>
                </a:cubicBezTo>
                <a:cubicBezTo>
                  <a:pt x="1453" y="17404"/>
                  <a:pt x="1495" y="17464"/>
                  <a:pt x="1563" y="17562"/>
                </a:cubicBezTo>
                <a:cubicBezTo>
                  <a:pt x="1632" y="17661"/>
                  <a:pt x="1689" y="17737"/>
                  <a:pt x="1786" y="17810"/>
                </a:cubicBezTo>
                <a:cubicBezTo>
                  <a:pt x="1888" y="17886"/>
                  <a:pt x="2037" y="17974"/>
                  <a:pt x="2158" y="18008"/>
                </a:cubicBezTo>
                <a:cubicBezTo>
                  <a:pt x="2280" y="18042"/>
                  <a:pt x="2385" y="18018"/>
                  <a:pt x="2505" y="18008"/>
                </a:cubicBezTo>
                <a:cubicBezTo>
                  <a:pt x="2624" y="17998"/>
                  <a:pt x="2740" y="17982"/>
                  <a:pt x="2853" y="17934"/>
                </a:cubicBezTo>
                <a:cubicBezTo>
                  <a:pt x="2963" y="17887"/>
                  <a:pt x="3064" y="17817"/>
                  <a:pt x="3150" y="17735"/>
                </a:cubicBezTo>
                <a:cubicBezTo>
                  <a:pt x="3251" y="17639"/>
                  <a:pt x="3302" y="17556"/>
                  <a:pt x="3373" y="17438"/>
                </a:cubicBezTo>
                <a:cubicBezTo>
                  <a:pt x="3441" y="17324"/>
                  <a:pt x="3469" y="17222"/>
                  <a:pt x="3473" y="17090"/>
                </a:cubicBezTo>
                <a:cubicBezTo>
                  <a:pt x="3477" y="16934"/>
                  <a:pt x="3436" y="16820"/>
                  <a:pt x="3349" y="16694"/>
                </a:cubicBezTo>
                <a:cubicBezTo>
                  <a:pt x="3242" y="16540"/>
                  <a:pt x="3085" y="16466"/>
                  <a:pt x="2927" y="163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Ink 16"/>
          <p:cNvSpPr/>
          <p:nvPr/>
        </p:nvSpPr>
        <p:spPr>
          <a:xfrm>
            <a:off x="5160960" y="2428920"/>
            <a:ext cx="2000160" cy="54000"/>
          </a:xfrm>
          <a:custGeom>
            <a:avLst/>
            <a:gdLst/>
            <a:ahLst/>
            <a:rect l="l" t="t" r="r" b="b"/>
            <a:pathLst>
              <a:path w="5557" h="150">
                <a:moveTo>
                  <a:pt x="14337" y="6846"/>
                </a:moveTo>
                <a:cubicBezTo>
                  <a:pt x="14414" y="6832"/>
                  <a:pt x="14474" y="6812"/>
                  <a:pt x="14560" y="6821"/>
                </a:cubicBezTo>
                <a:cubicBezTo>
                  <a:pt x="14758" y="6841"/>
                  <a:pt x="14954" y="6846"/>
                  <a:pt x="15156" y="6846"/>
                </a:cubicBezTo>
                <a:cubicBezTo>
                  <a:pt x="15719" y="6846"/>
                  <a:pt x="16280" y="6852"/>
                  <a:pt x="16842" y="6871"/>
                </a:cubicBezTo>
                <a:cubicBezTo>
                  <a:pt x="17173" y="6882"/>
                  <a:pt x="17504" y="6892"/>
                  <a:pt x="17835" y="6896"/>
                </a:cubicBezTo>
                <a:cubicBezTo>
                  <a:pt x="18389" y="6902"/>
                  <a:pt x="18945" y="6904"/>
                  <a:pt x="19496" y="6871"/>
                </a:cubicBezTo>
                <a:cubicBezTo>
                  <a:pt x="19596" y="6865"/>
                  <a:pt x="19756" y="6875"/>
                  <a:pt x="19844" y="6821"/>
                </a:cubicBezTo>
                <a:cubicBezTo>
                  <a:pt x="19885" y="6780"/>
                  <a:pt x="19909" y="6772"/>
                  <a:pt x="19869" y="67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ind all values of x such that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(x) = g(x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5x + 3; g(x) = 3x +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9x + 15; g(x) = 2x +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Ink 4"/>
          <p:cNvSpPr/>
          <p:nvPr/>
        </p:nvSpPr>
        <p:spPr>
          <a:xfrm>
            <a:off x="608040" y="3071880"/>
            <a:ext cx="2562120" cy="473040"/>
          </a:xfrm>
          <a:custGeom>
            <a:avLst/>
            <a:gdLst/>
            <a:ahLst/>
            <a:rect l="l" t="t" r="r" b="b"/>
            <a:pathLst>
              <a:path w="7120" h="1315">
                <a:moveTo>
                  <a:pt x="1761" y="8582"/>
                </a:moveTo>
                <a:cubicBezTo>
                  <a:pt x="1821" y="8618"/>
                  <a:pt x="1886" y="8607"/>
                  <a:pt x="1960" y="8607"/>
                </a:cubicBezTo>
                <a:cubicBezTo>
                  <a:pt x="2051" y="8607"/>
                  <a:pt x="2141" y="8607"/>
                  <a:pt x="2232" y="8607"/>
                </a:cubicBezTo>
              </a:path>
              <a:path w="7120" h="1315">
                <a:moveTo>
                  <a:pt x="1836" y="8533"/>
                </a:moveTo>
                <a:cubicBezTo>
                  <a:pt x="1816" y="8611"/>
                  <a:pt x="1790" y="8682"/>
                  <a:pt x="1786" y="8756"/>
                </a:cubicBezTo>
                <a:cubicBezTo>
                  <a:pt x="1783" y="8813"/>
                  <a:pt x="1769" y="8824"/>
                  <a:pt x="1761" y="8880"/>
                </a:cubicBezTo>
                <a:cubicBezTo>
                  <a:pt x="1807" y="8834"/>
                  <a:pt x="1863" y="8786"/>
                  <a:pt x="1935" y="8806"/>
                </a:cubicBezTo>
                <a:cubicBezTo>
                  <a:pt x="1980" y="8818"/>
                  <a:pt x="2042" y="8848"/>
                  <a:pt x="2084" y="8880"/>
                </a:cubicBezTo>
                <a:cubicBezTo>
                  <a:pt x="2142" y="8924"/>
                  <a:pt x="2182" y="8987"/>
                  <a:pt x="2208" y="9054"/>
                </a:cubicBezTo>
                <a:cubicBezTo>
                  <a:pt x="2239" y="9135"/>
                  <a:pt x="2281" y="9196"/>
                  <a:pt x="2232" y="9277"/>
                </a:cubicBezTo>
                <a:cubicBezTo>
                  <a:pt x="2203" y="9325"/>
                  <a:pt x="2168" y="9387"/>
                  <a:pt x="2108" y="9401"/>
                </a:cubicBezTo>
                <a:cubicBezTo>
                  <a:pt x="2043" y="9416"/>
                  <a:pt x="1955" y="9443"/>
                  <a:pt x="1885" y="9426"/>
                </a:cubicBezTo>
                <a:cubicBezTo>
                  <a:pt x="1844" y="9416"/>
                  <a:pt x="1765" y="9374"/>
                  <a:pt x="1736" y="9351"/>
                </a:cubicBezTo>
                <a:cubicBezTo>
                  <a:pt x="1691" y="9315"/>
                  <a:pt x="1695" y="9307"/>
                  <a:pt x="1687" y="9252"/>
                </a:cubicBezTo>
              </a:path>
              <a:path w="7120" h="1315">
                <a:moveTo>
                  <a:pt x="2629" y="8979"/>
                </a:moveTo>
                <a:cubicBezTo>
                  <a:pt x="2671" y="9045"/>
                  <a:pt x="2709" y="9115"/>
                  <a:pt x="2753" y="9178"/>
                </a:cubicBezTo>
                <a:cubicBezTo>
                  <a:pt x="2817" y="9269"/>
                  <a:pt x="2870" y="9306"/>
                  <a:pt x="2952" y="9376"/>
                </a:cubicBezTo>
                <a:cubicBezTo>
                  <a:pt x="3016" y="9431"/>
                  <a:pt x="3074" y="9462"/>
                  <a:pt x="3150" y="9500"/>
                </a:cubicBezTo>
                <a:cubicBezTo>
                  <a:pt x="3200" y="9525"/>
                  <a:pt x="3216" y="9533"/>
                  <a:pt x="3249" y="9500"/>
                </a:cubicBezTo>
              </a:path>
              <a:path w="7120" h="1315">
                <a:moveTo>
                  <a:pt x="3001" y="8930"/>
                </a:moveTo>
                <a:cubicBezTo>
                  <a:pt x="2950" y="9011"/>
                  <a:pt x="2901" y="9095"/>
                  <a:pt x="2853" y="9178"/>
                </a:cubicBezTo>
                <a:cubicBezTo>
                  <a:pt x="2816" y="9243"/>
                  <a:pt x="2790" y="9313"/>
                  <a:pt x="2753" y="9376"/>
                </a:cubicBezTo>
                <a:cubicBezTo>
                  <a:pt x="2718" y="9436"/>
                  <a:pt x="2688" y="9460"/>
                  <a:pt x="2679" y="9525"/>
                </a:cubicBezTo>
              </a:path>
              <a:path w="7120" h="1315">
                <a:moveTo>
                  <a:pt x="3448" y="8979"/>
                </a:moveTo>
                <a:cubicBezTo>
                  <a:pt x="3448" y="9096"/>
                  <a:pt x="3426" y="9243"/>
                  <a:pt x="3473" y="9351"/>
                </a:cubicBezTo>
                <a:cubicBezTo>
                  <a:pt x="3495" y="9401"/>
                  <a:pt x="3496" y="9433"/>
                  <a:pt x="3522" y="9475"/>
                </a:cubicBezTo>
              </a:path>
              <a:path w="7120" h="1315">
                <a:moveTo>
                  <a:pt x="3274" y="9203"/>
                </a:moveTo>
                <a:cubicBezTo>
                  <a:pt x="3353" y="9212"/>
                  <a:pt x="3414" y="9227"/>
                  <a:pt x="3497" y="9227"/>
                </a:cubicBezTo>
                <a:cubicBezTo>
                  <a:pt x="3606" y="9227"/>
                  <a:pt x="3674" y="9234"/>
                  <a:pt x="3770" y="9203"/>
                </a:cubicBezTo>
              </a:path>
              <a:path w="7120" h="1315">
                <a:moveTo>
                  <a:pt x="4043" y="8756"/>
                </a:moveTo>
                <a:cubicBezTo>
                  <a:pt x="4063" y="8687"/>
                  <a:pt x="4106" y="8649"/>
                  <a:pt x="4192" y="8632"/>
                </a:cubicBezTo>
                <a:cubicBezTo>
                  <a:pt x="4252" y="8620"/>
                  <a:pt x="4378" y="8659"/>
                  <a:pt x="4415" y="8706"/>
                </a:cubicBezTo>
                <a:cubicBezTo>
                  <a:pt x="4477" y="8784"/>
                  <a:pt x="4415" y="8865"/>
                  <a:pt x="4366" y="8930"/>
                </a:cubicBezTo>
                <a:cubicBezTo>
                  <a:pt x="4332" y="8974"/>
                  <a:pt x="4282" y="8993"/>
                  <a:pt x="4242" y="9029"/>
                </a:cubicBezTo>
                <a:cubicBezTo>
                  <a:pt x="4203" y="9065"/>
                  <a:pt x="4145" y="9072"/>
                  <a:pt x="4093" y="9079"/>
                </a:cubicBezTo>
                <a:cubicBezTo>
                  <a:pt x="4139" y="9051"/>
                  <a:pt x="4206" y="9041"/>
                  <a:pt x="4266" y="9054"/>
                </a:cubicBezTo>
                <a:cubicBezTo>
                  <a:pt x="4337" y="9070"/>
                  <a:pt x="4399" y="9117"/>
                  <a:pt x="4440" y="9178"/>
                </a:cubicBezTo>
                <a:cubicBezTo>
                  <a:pt x="4482" y="9240"/>
                  <a:pt x="4510" y="9328"/>
                  <a:pt x="4514" y="9401"/>
                </a:cubicBezTo>
                <a:cubicBezTo>
                  <a:pt x="4519" y="9495"/>
                  <a:pt x="4507" y="9509"/>
                  <a:pt x="4440" y="9575"/>
                </a:cubicBezTo>
                <a:cubicBezTo>
                  <a:pt x="4403" y="9612"/>
                  <a:pt x="4297" y="9622"/>
                  <a:pt x="4242" y="9624"/>
                </a:cubicBezTo>
                <a:cubicBezTo>
                  <a:pt x="4182" y="9627"/>
                  <a:pt x="4097" y="9608"/>
                  <a:pt x="4043" y="9575"/>
                </a:cubicBezTo>
                <a:cubicBezTo>
                  <a:pt x="3990" y="9543"/>
                  <a:pt x="4003" y="9513"/>
                  <a:pt x="4018" y="9475"/>
                </a:cubicBezTo>
              </a:path>
              <a:path w="7120" h="1315">
                <a:moveTo>
                  <a:pt x="4738" y="9227"/>
                </a:moveTo>
                <a:cubicBezTo>
                  <a:pt x="4844" y="9227"/>
                  <a:pt x="4914" y="9244"/>
                  <a:pt x="5011" y="9252"/>
                </a:cubicBezTo>
                <a:cubicBezTo>
                  <a:pt x="5019" y="9252"/>
                  <a:pt x="5027" y="9252"/>
                  <a:pt x="5035" y="9252"/>
                </a:cubicBezTo>
              </a:path>
              <a:path w="7120" h="1315">
                <a:moveTo>
                  <a:pt x="4862" y="9401"/>
                </a:moveTo>
                <a:cubicBezTo>
                  <a:pt x="4983" y="9425"/>
                  <a:pt x="5043" y="9412"/>
                  <a:pt x="5159" y="9401"/>
                </a:cubicBezTo>
              </a:path>
              <a:path w="7120" h="1315">
                <a:moveTo>
                  <a:pt x="5606" y="8855"/>
                </a:moveTo>
                <a:cubicBezTo>
                  <a:pt x="5721" y="8793"/>
                  <a:pt x="5814" y="8717"/>
                  <a:pt x="5953" y="8756"/>
                </a:cubicBezTo>
                <a:cubicBezTo>
                  <a:pt x="6020" y="8775"/>
                  <a:pt x="6049" y="8818"/>
                  <a:pt x="6052" y="8880"/>
                </a:cubicBezTo>
                <a:cubicBezTo>
                  <a:pt x="6057" y="8990"/>
                  <a:pt x="6010" y="8983"/>
                  <a:pt x="5953" y="9054"/>
                </a:cubicBezTo>
                <a:cubicBezTo>
                  <a:pt x="5895" y="9126"/>
                  <a:pt x="5842" y="9137"/>
                  <a:pt x="5755" y="9178"/>
                </a:cubicBezTo>
                <a:cubicBezTo>
                  <a:pt x="5661" y="9223"/>
                  <a:pt x="5633" y="9203"/>
                  <a:pt x="5755" y="9203"/>
                </a:cubicBezTo>
                <a:cubicBezTo>
                  <a:pt x="5836" y="9203"/>
                  <a:pt x="5904" y="9194"/>
                  <a:pt x="5978" y="9227"/>
                </a:cubicBezTo>
                <a:cubicBezTo>
                  <a:pt x="6048" y="9258"/>
                  <a:pt x="6103" y="9265"/>
                  <a:pt x="6152" y="9327"/>
                </a:cubicBezTo>
                <a:cubicBezTo>
                  <a:pt x="6200" y="9388"/>
                  <a:pt x="6201" y="9453"/>
                  <a:pt x="6201" y="9525"/>
                </a:cubicBezTo>
                <a:cubicBezTo>
                  <a:pt x="6201" y="9565"/>
                  <a:pt x="6169" y="9678"/>
                  <a:pt x="6127" y="9699"/>
                </a:cubicBezTo>
                <a:cubicBezTo>
                  <a:pt x="6078" y="9723"/>
                  <a:pt x="5959" y="9737"/>
                  <a:pt x="5904" y="9723"/>
                </a:cubicBezTo>
                <a:cubicBezTo>
                  <a:pt x="5860" y="9712"/>
                  <a:pt x="5723" y="9674"/>
                  <a:pt x="5705" y="9624"/>
                </a:cubicBezTo>
                <a:cubicBezTo>
                  <a:pt x="5705" y="9583"/>
                  <a:pt x="5705" y="9575"/>
                  <a:pt x="5705" y="9550"/>
                </a:cubicBezTo>
              </a:path>
              <a:path w="7120" h="1315">
                <a:moveTo>
                  <a:pt x="6400" y="9153"/>
                </a:moveTo>
                <a:cubicBezTo>
                  <a:pt x="6454" y="9239"/>
                  <a:pt x="6501" y="9304"/>
                  <a:pt x="6573" y="9376"/>
                </a:cubicBezTo>
                <a:cubicBezTo>
                  <a:pt x="6652" y="9455"/>
                  <a:pt x="6733" y="9508"/>
                  <a:pt x="6821" y="9575"/>
                </a:cubicBezTo>
                <a:cubicBezTo>
                  <a:pt x="6926" y="9654"/>
                  <a:pt x="7006" y="9692"/>
                  <a:pt x="7119" y="9748"/>
                </a:cubicBezTo>
              </a:path>
              <a:path w="7120" h="1315">
                <a:moveTo>
                  <a:pt x="6772" y="9103"/>
                </a:moveTo>
                <a:cubicBezTo>
                  <a:pt x="6709" y="9198"/>
                  <a:pt x="6647" y="9303"/>
                  <a:pt x="6598" y="9401"/>
                </a:cubicBezTo>
                <a:cubicBezTo>
                  <a:pt x="6557" y="9483"/>
                  <a:pt x="6514" y="9609"/>
                  <a:pt x="6499" y="9699"/>
                </a:cubicBezTo>
                <a:cubicBezTo>
                  <a:pt x="6490" y="9755"/>
                  <a:pt x="6474" y="9760"/>
                  <a:pt x="6499" y="9773"/>
                </a:cubicBezTo>
              </a:path>
              <a:path w="7120" h="1315">
                <a:moveTo>
                  <a:pt x="7243" y="9103"/>
                </a:moveTo>
                <a:cubicBezTo>
                  <a:pt x="7247" y="9218"/>
                  <a:pt x="7240" y="9383"/>
                  <a:pt x="7268" y="9500"/>
                </a:cubicBezTo>
                <a:cubicBezTo>
                  <a:pt x="7283" y="9562"/>
                  <a:pt x="7317" y="9649"/>
                  <a:pt x="7342" y="9699"/>
                </a:cubicBezTo>
              </a:path>
              <a:path w="7120" h="1315">
                <a:moveTo>
                  <a:pt x="7069" y="9376"/>
                </a:moveTo>
                <a:cubicBezTo>
                  <a:pt x="7202" y="9376"/>
                  <a:pt x="7343" y="9393"/>
                  <a:pt x="7466" y="9351"/>
                </a:cubicBezTo>
              </a:path>
              <a:path w="7120" h="1315">
                <a:moveTo>
                  <a:pt x="7938" y="9079"/>
                </a:moveTo>
                <a:cubicBezTo>
                  <a:pt x="7938" y="9160"/>
                  <a:pt x="7958" y="9222"/>
                  <a:pt x="7962" y="9302"/>
                </a:cubicBezTo>
                <a:cubicBezTo>
                  <a:pt x="7966" y="9378"/>
                  <a:pt x="7971" y="9475"/>
                  <a:pt x="7987" y="9550"/>
                </a:cubicBezTo>
                <a:cubicBezTo>
                  <a:pt x="8003" y="9624"/>
                  <a:pt x="8007" y="9705"/>
                  <a:pt x="8037" y="9773"/>
                </a:cubicBezTo>
                <a:cubicBezTo>
                  <a:pt x="8045" y="9790"/>
                  <a:pt x="8054" y="9806"/>
                  <a:pt x="8062" y="9823"/>
                </a:cubicBezTo>
              </a:path>
              <a:path w="7120" h="1315">
                <a:moveTo>
                  <a:pt x="8186" y="9079"/>
                </a:moveTo>
                <a:cubicBezTo>
                  <a:pt x="8290" y="9034"/>
                  <a:pt x="8368" y="9009"/>
                  <a:pt x="8483" y="9004"/>
                </a:cubicBezTo>
                <a:cubicBezTo>
                  <a:pt x="8531" y="9002"/>
                  <a:pt x="8562" y="8988"/>
                  <a:pt x="8607" y="8979"/>
                </a:cubicBezTo>
              </a:path>
              <a:path w="7120" h="1315">
                <a:moveTo>
                  <a:pt x="8285" y="9079"/>
                </a:moveTo>
                <a:cubicBezTo>
                  <a:pt x="8255" y="9125"/>
                  <a:pt x="8164" y="9233"/>
                  <a:pt x="8186" y="9302"/>
                </a:cubicBezTo>
                <a:cubicBezTo>
                  <a:pt x="8198" y="9341"/>
                  <a:pt x="8284" y="9372"/>
                  <a:pt x="8310" y="9376"/>
                </a:cubicBezTo>
                <a:cubicBezTo>
                  <a:pt x="8414" y="9392"/>
                  <a:pt x="8470" y="9343"/>
                  <a:pt x="8582" y="9376"/>
                </a:cubicBezTo>
                <a:cubicBezTo>
                  <a:pt x="8660" y="9399"/>
                  <a:pt x="8715" y="9431"/>
                  <a:pt x="8756" y="9500"/>
                </a:cubicBezTo>
                <a:cubicBezTo>
                  <a:pt x="8805" y="9583"/>
                  <a:pt x="8819" y="9633"/>
                  <a:pt x="8781" y="9723"/>
                </a:cubicBezTo>
                <a:cubicBezTo>
                  <a:pt x="8768" y="9753"/>
                  <a:pt x="8719" y="9837"/>
                  <a:pt x="8682" y="9847"/>
                </a:cubicBezTo>
                <a:cubicBezTo>
                  <a:pt x="8605" y="9869"/>
                  <a:pt x="8525" y="9828"/>
                  <a:pt x="8458" y="97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Ink 5"/>
          <p:cNvSpPr/>
          <p:nvPr/>
        </p:nvSpPr>
        <p:spPr>
          <a:xfrm>
            <a:off x="527040" y="3044880"/>
            <a:ext cx="2625840" cy="1687320"/>
          </a:xfrm>
          <a:custGeom>
            <a:avLst/>
            <a:gdLst/>
            <a:ahLst/>
            <a:rect l="l" t="t" r="r" b="b"/>
            <a:pathLst>
              <a:path w="7294" h="4689">
                <a:moveTo>
                  <a:pt x="5060" y="10294"/>
                </a:moveTo>
                <a:cubicBezTo>
                  <a:pt x="5124" y="10294"/>
                  <a:pt x="5231" y="10325"/>
                  <a:pt x="5283" y="10319"/>
                </a:cubicBezTo>
                <a:cubicBezTo>
                  <a:pt x="5300" y="10311"/>
                  <a:pt x="5316" y="10302"/>
                  <a:pt x="5333" y="10294"/>
                </a:cubicBezTo>
              </a:path>
              <a:path w="7294" h="4689">
                <a:moveTo>
                  <a:pt x="5705" y="10046"/>
                </a:moveTo>
                <a:cubicBezTo>
                  <a:pt x="5741" y="10010"/>
                  <a:pt x="5814" y="9966"/>
                  <a:pt x="5854" y="9971"/>
                </a:cubicBezTo>
                <a:cubicBezTo>
                  <a:pt x="5900" y="9977"/>
                  <a:pt x="5994" y="9993"/>
                  <a:pt x="6028" y="10021"/>
                </a:cubicBezTo>
                <a:cubicBezTo>
                  <a:pt x="6071" y="10056"/>
                  <a:pt x="6099" y="10112"/>
                  <a:pt x="6077" y="10170"/>
                </a:cubicBezTo>
                <a:cubicBezTo>
                  <a:pt x="6063" y="10206"/>
                  <a:pt x="6014" y="10271"/>
                  <a:pt x="5978" y="10294"/>
                </a:cubicBezTo>
                <a:cubicBezTo>
                  <a:pt x="5936" y="10321"/>
                  <a:pt x="5898" y="10344"/>
                  <a:pt x="5854" y="10368"/>
                </a:cubicBezTo>
                <a:cubicBezTo>
                  <a:pt x="5904" y="10319"/>
                  <a:pt x="5931" y="10298"/>
                  <a:pt x="6003" y="10294"/>
                </a:cubicBezTo>
                <a:cubicBezTo>
                  <a:pt x="6049" y="10291"/>
                  <a:pt x="6148" y="10308"/>
                  <a:pt x="6176" y="10344"/>
                </a:cubicBezTo>
                <a:cubicBezTo>
                  <a:pt x="6223" y="10404"/>
                  <a:pt x="6248" y="10465"/>
                  <a:pt x="6251" y="10542"/>
                </a:cubicBezTo>
                <a:cubicBezTo>
                  <a:pt x="6256" y="10659"/>
                  <a:pt x="6209" y="10633"/>
                  <a:pt x="6127" y="10691"/>
                </a:cubicBezTo>
                <a:cubicBezTo>
                  <a:pt x="6075" y="10727"/>
                  <a:pt x="6019" y="10716"/>
                  <a:pt x="5953" y="10716"/>
                </a:cubicBezTo>
                <a:cubicBezTo>
                  <a:pt x="5881" y="10716"/>
                  <a:pt x="5852" y="10689"/>
                  <a:pt x="5804" y="10641"/>
                </a:cubicBezTo>
                <a:cubicBezTo>
                  <a:pt x="5760" y="10597"/>
                  <a:pt x="5761" y="10589"/>
                  <a:pt x="5779" y="10542"/>
                </a:cubicBezTo>
              </a:path>
              <a:path w="7294" h="4689">
                <a:moveTo>
                  <a:pt x="6548" y="10294"/>
                </a:moveTo>
                <a:cubicBezTo>
                  <a:pt x="6603" y="10390"/>
                  <a:pt x="6658" y="10442"/>
                  <a:pt x="6722" y="10517"/>
                </a:cubicBezTo>
                <a:cubicBezTo>
                  <a:pt x="6797" y="10605"/>
                  <a:pt x="6857" y="10665"/>
                  <a:pt x="6945" y="10740"/>
                </a:cubicBezTo>
                <a:cubicBezTo>
                  <a:pt x="6992" y="10787"/>
                  <a:pt x="7004" y="10801"/>
                  <a:pt x="7045" y="10815"/>
                </a:cubicBezTo>
              </a:path>
              <a:path w="7294" h="4689">
                <a:moveTo>
                  <a:pt x="6871" y="10071"/>
                </a:moveTo>
                <a:cubicBezTo>
                  <a:pt x="6817" y="10191"/>
                  <a:pt x="6767" y="10307"/>
                  <a:pt x="6697" y="10418"/>
                </a:cubicBezTo>
                <a:cubicBezTo>
                  <a:pt x="6647" y="10497"/>
                  <a:pt x="6605" y="10593"/>
                  <a:pt x="6548" y="10666"/>
                </a:cubicBezTo>
                <a:cubicBezTo>
                  <a:pt x="6532" y="10683"/>
                  <a:pt x="6515" y="10699"/>
                  <a:pt x="6499" y="10716"/>
                </a:cubicBezTo>
              </a:path>
              <a:path w="7294" h="4689">
                <a:moveTo>
                  <a:pt x="1463" y="9897"/>
                </a:moveTo>
                <a:cubicBezTo>
                  <a:pt x="1527" y="9906"/>
                  <a:pt x="1566" y="9922"/>
                  <a:pt x="1637" y="9922"/>
                </a:cubicBezTo>
                <a:cubicBezTo>
                  <a:pt x="1662" y="9922"/>
                  <a:pt x="1687" y="9922"/>
                  <a:pt x="1712" y="9922"/>
                </a:cubicBezTo>
              </a:path>
              <a:path w="7294" h="4689">
                <a:moveTo>
                  <a:pt x="2059" y="9674"/>
                </a:moveTo>
                <a:cubicBezTo>
                  <a:pt x="2170" y="9699"/>
                  <a:pt x="2312" y="9692"/>
                  <a:pt x="2282" y="9847"/>
                </a:cubicBezTo>
                <a:cubicBezTo>
                  <a:pt x="2277" y="9875"/>
                  <a:pt x="2215" y="9962"/>
                  <a:pt x="2183" y="9971"/>
                </a:cubicBezTo>
                <a:cubicBezTo>
                  <a:pt x="2136" y="9984"/>
                  <a:pt x="2108" y="9989"/>
                  <a:pt x="2059" y="9996"/>
                </a:cubicBezTo>
                <a:cubicBezTo>
                  <a:pt x="2131" y="10004"/>
                  <a:pt x="2198" y="10015"/>
                  <a:pt x="2257" y="10046"/>
                </a:cubicBezTo>
                <a:cubicBezTo>
                  <a:pt x="2306" y="10072"/>
                  <a:pt x="2389" y="10139"/>
                  <a:pt x="2406" y="10195"/>
                </a:cubicBezTo>
                <a:cubicBezTo>
                  <a:pt x="2420" y="10243"/>
                  <a:pt x="2370" y="10294"/>
                  <a:pt x="2332" y="10319"/>
                </a:cubicBezTo>
                <a:cubicBezTo>
                  <a:pt x="2249" y="10373"/>
                  <a:pt x="2179" y="10333"/>
                  <a:pt x="2108" y="10319"/>
                </a:cubicBezTo>
                <a:cubicBezTo>
                  <a:pt x="2047" y="10307"/>
                  <a:pt x="2053" y="10313"/>
                  <a:pt x="2009" y="10269"/>
                </a:cubicBezTo>
              </a:path>
              <a:path w="7294" h="4689">
                <a:moveTo>
                  <a:pt x="2555" y="9996"/>
                </a:moveTo>
                <a:cubicBezTo>
                  <a:pt x="2626" y="10082"/>
                  <a:pt x="2658" y="10184"/>
                  <a:pt x="2729" y="10269"/>
                </a:cubicBezTo>
                <a:cubicBezTo>
                  <a:pt x="2776" y="10325"/>
                  <a:pt x="2898" y="10441"/>
                  <a:pt x="2902" y="10443"/>
                </a:cubicBezTo>
                <a:cubicBezTo>
                  <a:pt x="2948" y="10467"/>
                  <a:pt x="3064" y="10591"/>
                  <a:pt x="3125" y="10567"/>
                </a:cubicBezTo>
                <a:cubicBezTo>
                  <a:pt x="3142" y="10550"/>
                  <a:pt x="3158" y="10534"/>
                  <a:pt x="3175" y="10517"/>
                </a:cubicBezTo>
              </a:path>
              <a:path w="7294" h="4689">
                <a:moveTo>
                  <a:pt x="3026" y="9947"/>
                </a:moveTo>
                <a:cubicBezTo>
                  <a:pt x="2955" y="10043"/>
                  <a:pt x="2894" y="10152"/>
                  <a:pt x="2828" y="10244"/>
                </a:cubicBezTo>
                <a:cubicBezTo>
                  <a:pt x="2782" y="10308"/>
                  <a:pt x="2757" y="10384"/>
                  <a:pt x="2704" y="10443"/>
                </a:cubicBezTo>
                <a:cubicBezTo>
                  <a:pt x="2673" y="10478"/>
                  <a:pt x="2679" y="10496"/>
                  <a:pt x="2679" y="10542"/>
                </a:cubicBezTo>
              </a:path>
              <a:path w="7294" h="4689">
                <a:moveTo>
                  <a:pt x="3522" y="10120"/>
                </a:moveTo>
                <a:cubicBezTo>
                  <a:pt x="3636" y="10120"/>
                  <a:pt x="3677" y="10130"/>
                  <a:pt x="3770" y="10096"/>
                </a:cubicBezTo>
              </a:path>
              <a:path w="7294" h="4689">
                <a:moveTo>
                  <a:pt x="4043" y="9897"/>
                </a:moveTo>
                <a:cubicBezTo>
                  <a:pt x="4201" y="9850"/>
                  <a:pt x="4181" y="9872"/>
                  <a:pt x="4316" y="9897"/>
                </a:cubicBezTo>
                <a:cubicBezTo>
                  <a:pt x="4361" y="9897"/>
                  <a:pt x="4374" y="9893"/>
                  <a:pt x="4390" y="9922"/>
                </a:cubicBezTo>
                <a:cubicBezTo>
                  <a:pt x="4383" y="9976"/>
                  <a:pt x="4375" y="10043"/>
                  <a:pt x="4316" y="10071"/>
                </a:cubicBezTo>
                <a:cubicBezTo>
                  <a:pt x="4252" y="10101"/>
                  <a:pt x="4186" y="10113"/>
                  <a:pt x="4118" y="10120"/>
                </a:cubicBezTo>
                <a:cubicBezTo>
                  <a:pt x="4179" y="10157"/>
                  <a:pt x="4254" y="10139"/>
                  <a:pt x="4316" y="10170"/>
                </a:cubicBezTo>
                <a:cubicBezTo>
                  <a:pt x="4348" y="10186"/>
                  <a:pt x="4441" y="10241"/>
                  <a:pt x="4465" y="10269"/>
                </a:cubicBezTo>
                <a:cubicBezTo>
                  <a:pt x="4504" y="10315"/>
                  <a:pt x="4553" y="10390"/>
                  <a:pt x="4564" y="10443"/>
                </a:cubicBezTo>
                <a:cubicBezTo>
                  <a:pt x="4564" y="10459"/>
                  <a:pt x="4564" y="10476"/>
                  <a:pt x="4564" y="10492"/>
                </a:cubicBezTo>
                <a:cubicBezTo>
                  <a:pt x="4496" y="10538"/>
                  <a:pt x="4447" y="10542"/>
                  <a:pt x="4366" y="10542"/>
                </a:cubicBezTo>
                <a:cubicBezTo>
                  <a:pt x="4281" y="10542"/>
                  <a:pt x="4195" y="10521"/>
                  <a:pt x="4118" y="10492"/>
                </a:cubicBezTo>
              </a:path>
              <a:path w="7294" h="4689">
                <a:moveTo>
                  <a:pt x="7516" y="10294"/>
                </a:moveTo>
                <a:cubicBezTo>
                  <a:pt x="7602" y="10305"/>
                  <a:pt x="7631" y="10308"/>
                  <a:pt x="7714" y="10294"/>
                </a:cubicBezTo>
                <a:cubicBezTo>
                  <a:pt x="7766" y="10294"/>
                  <a:pt x="7784" y="10293"/>
                  <a:pt x="7813" y="10269"/>
                </a:cubicBezTo>
              </a:path>
              <a:path w="7294" h="4689">
                <a:moveTo>
                  <a:pt x="8210" y="9971"/>
                </a:moveTo>
                <a:cubicBezTo>
                  <a:pt x="8315" y="9951"/>
                  <a:pt x="8406" y="9942"/>
                  <a:pt x="8508" y="9971"/>
                </a:cubicBezTo>
                <a:cubicBezTo>
                  <a:pt x="8557" y="9985"/>
                  <a:pt x="8611" y="10023"/>
                  <a:pt x="8657" y="10046"/>
                </a:cubicBezTo>
                <a:cubicBezTo>
                  <a:pt x="8645" y="10130"/>
                  <a:pt x="8624" y="10120"/>
                  <a:pt x="8558" y="10170"/>
                </a:cubicBezTo>
                <a:cubicBezTo>
                  <a:pt x="8499" y="10215"/>
                  <a:pt x="8444" y="10217"/>
                  <a:pt x="8384" y="10244"/>
                </a:cubicBezTo>
                <a:cubicBezTo>
                  <a:pt x="8356" y="10272"/>
                  <a:pt x="8343" y="10281"/>
                  <a:pt x="8310" y="10269"/>
                </a:cubicBezTo>
                <a:cubicBezTo>
                  <a:pt x="8361" y="10300"/>
                  <a:pt x="8403" y="10299"/>
                  <a:pt x="8458" y="10319"/>
                </a:cubicBezTo>
                <a:cubicBezTo>
                  <a:pt x="8523" y="10342"/>
                  <a:pt x="8600" y="10348"/>
                  <a:pt x="8657" y="10393"/>
                </a:cubicBezTo>
                <a:cubicBezTo>
                  <a:pt x="8720" y="10442"/>
                  <a:pt x="8753" y="10489"/>
                  <a:pt x="8756" y="10567"/>
                </a:cubicBezTo>
                <a:cubicBezTo>
                  <a:pt x="8762" y="10698"/>
                  <a:pt x="8702" y="10684"/>
                  <a:pt x="8632" y="10765"/>
                </a:cubicBezTo>
                <a:cubicBezTo>
                  <a:pt x="8580" y="10825"/>
                  <a:pt x="8539" y="10857"/>
                  <a:pt x="8458" y="10889"/>
                </a:cubicBezTo>
                <a:cubicBezTo>
                  <a:pt x="8340" y="10935"/>
                  <a:pt x="8233" y="10908"/>
                  <a:pt x="8111" y="10889"/>
                </a:cubicBezTo>
              </a:path>
              <a:path w="7294" h="4689">
                <a:moveTo>
                  <a:pt x="2084" y="11286"/>
                </a:moveTo>
                <a:cubicBezTo>
                  <a:pt x="2151" y="11218"/>
                  <a:pt x="2195" y="11176"/>
                  <a:pt x="2282" y="11137"/>
                </a:cubicBezTo>
                <a:cubicBezTo>
                  <a:pt x="2364" y="11100"/>
                  <a:pt x="2416" y="11062"/>
                  <a:pt x="2505" y="11112"/>
                </a:cubicBezTo>
                <a:cubicBezTo>
                  <a:pt x="2565" y="11146"/>
                  <a:pt x="2525" y="11247"/>
                  <a:pt x="2505" y="11286"/>
                </a:cubicBezTo>
                <a:cubicBezTo>
                  <a:pt x="2470" y="11355"/>
                  <a:pt x="2422" y="11418"/>
                  <a:pt x="2381" y="11485"/>
                </a:cubicBezTo>
                <a:cubicBezTo>
                  <a:pt x="2336" y="11559"/>
                  <a:pt x="2273" y="11608"/>
                  <a:pt x="2232" y="11683"/>
                </a:cubicBezTo>
                <a:cubicBezTo>
                  <a:pt x="2203" y="11735"/>
                  <a:pt x="2175" y="11765"/>
                  <a:pt x="2133" y="11807"/>
                </a:cubicBezTo>
                <a:cubicBezTo>
                  <a:pt x="2066" y="11874"/>
                  <a:pt x="2171" y="11768"/>
                  <a:pt x="2183" y="11757"/>
                </a:cubicBezTo>
                <a:cubicBezTo>
                  <a:pt x="2236" y="11706"/>
                  <a:pt x="2319" y="11738"/>
                  <a:pt x="2381" y="11757"/>
                </a:cubicBezTo>
                <a:cubicBezTo>
                  <a:pt x="2448" y="11778"/>
                  <a:pt x="2532" y="11798"/>
                  <a:pt x="2604" y="11782"/>
                </a:cubicBezTo>
                <a:cubicBezTo>
                  <a:pt x="2629" y="11774"/>
                  <a:pt x="2654" y="11765"/>
                  <a:pt x="2679" y="11757"/>
                </a:cubicBezTo>
              </a:path>
              <a:path w="7294" h="4689">
                <a:moveTo>
                  <a:pt x="2853" y="11336"/>
                </a:moveTo>
                <a:cubicBezTo>
                  <a:pt x="2896" y="11401"/>
                  <a:pt x="2943" y="11491"/>
                  <a:pt x="2977" y="11559"/>
                </a:cubicBezTo>
                <a:cubicBezTo>
                  <a:pt x="3035" y="11676"/>
                  <a:pt x="3093" y="11731"/>
                  <a:pt x="3175" y="11832"/>
                </a:cubicBezTo>
                <a:cubicBezTo>
                  <a:pt x="3224" y="11892"/>
                  <a:pt x="3303" y="12030"/>
                  <a:pt x="3398" y="12030"/>
                </a:cubicBezTo>
                <a:cubicBezTo>
                  <a:pt x="3423" y="12022"/>
                  <a:pt x="3448" y="12013"/>
                  <a:pt x="3473" y="12005"/>
                </a:cubicBezTo>
              </a:path>
              <a:path w="7294" h="4689">
                <a:moveTo>
                  <a:pt x="3324" y="11286"/>
                </a:moveTo>
                <a:cubicBezTo>
                  <a:pt x="3277" y="11361"/>
                  <a:pt x="3213" y="11427"/>
                  <a:pt x="3175" y="11509"/>
                </a:cubicBezTo>
                <a:cubicBezTo>
                  <a:pt x="3126" y="11614"/>
                  <a:pt x="3051" y="11703"/>
                  <a:pt x="3001" y="11807"/>
                </a:cubicBezTo>
                <a:cubicBezTo>
                  <a:pt x="2968" y="11875"/>
                  <a:pt x="2956" y="11902"/>
                  <a:pt x="2902" y="11956"/>
                </a:cubicBezTo>
              </a:path>
              <a:path w="7294" h="4689">
                <a:moveTo>
                  <a:pt x="4564" y="8458"/>
                </a:moveTo>
                <a:cubicBezTo>
                  <a:pt x="4556" y="8547"/>
                  <a:pt x="4533" y="8648"/>
                  <a:pt x="4490" y="8731"/>
                </a:cubicBezTo>
                <a:cubicBezTo>
                  <a:pt x="4428" y="8852"/>
                  <a:pt x="4360" y="8972"/>
                  <a:pt x="4316" y="9103"/>
                </a:cubicBezTo>
                <a:cubicBezTo>
                  <a:pt x="4265" y="9257"/>
                  <a:pt x="4206" y="9401"/>
                  <a:pt x="4142" y="9550"/>
                </a:cubicBezTo>
                <a:cubicBezTo>
                  <a:pt x="4084" y="9686"/>
                  <a:pt x="4019" y="9832"/>
                  <a:pt x="3969" y="9971"/>
                </a:cubicBezTo>
                <a:cubicBezTo>
                  <a:pt x="3924" y="10095"/>
                  <a:pt x="3902" y="10224"/>
                  <a:pt x="3845" y="10344"/>
                </a:cubicBezTo>
                <a:cubicBezTo>
                  <a:pt x="3820" y="10396"/>
                  <a:pt x="3813" y="10444"/>
                  <a:pt x="3795" y="10492"/>
                </a:cubicBezTo>
              </a:path>
              <a:path w="7294" h="4689">
                <a:moveTo>
                  <a:pt x="4390" y="11782"/>
                </a:moveTo>
                <a:cubicBezTo>
                  <a:pt x="4467" y="11756"/>
                  <a:pt x="4532" y="11757"/>
                  <a:pt x="4614" y="11757"/>
                </a:cubicBezTo>
                <a:cubicBezTo>
                  <a:pt x="4639" y="11757"/>
                  <a:pt x="4663" y="11757"/>
                  <a:pt x="4688" y="11757"/>
                </a:cubicBezTo>
              </a:path>
              <a:path w="7294" h="4689">
                <a:moveTo>
                  <a:pt x="4514" y="11956"/>
                </a:moveTo>
                <a:cubicBezTo>
                  <a:pt x="4600" y="12006"/>
                  <a:pt x="4681" y="12078"/>
                  <a:pt x="4787" y="12055"/>
                </a:cubicBezTo>
                <a:cubicBezTo>
                  <a:pt x="4812" y="12047"/>
                  <a:pt x="4837" y="12038"/>
                  <a:pt x="4862" y="12030"/>
                </a:cubicBezTo>
              </a:path>
              <a:path w="7294" h="4689">
                <a:moveTo>
                  <a:pt x="6821" y="8806"/>
                </a:moveTo>
                <a:cubicBezTo>
                  <a:pt x="6855" y="8729"/>
                  <a:pt x="6875" y="8703"/>
                  <a:pt x="6846" y="8706"/>
                </a:cubicBezTo>
                <a:cubicBezTo>
                  <a:pt x="6780" y="8713"/>
                  <a:pt x="6736" y="8814"/>
                  <a:pt x="6697" y="8855"/>
                </a:cubicBezTo>
                <a:cubicBezTo>
                  <a:pt x="6611" y="8947"/>
                  <a:pt x="6567" y="9050"/>
                  <a:pt x="6499" y="9153"/>
                </a:cubicBezTo>
                <a:cubicBezTo>
                  <a:pt x="6388" y="9322"/>
                  <a:pt x="6297" y="9498"/>
                  <a:pt x="6201" y="9674"/>
                </a:cubicBezTo>
                <a:cubicBezTo>
                  <a:pt x="6122" y="9819"/>
                  <a:pt x="6045" y="9968"/>
                  <a:pt x="5978" y="10120"/>
                </a:cubicBezTo>
                <a:cubicBezTo>
                  <a:pt x="5924" y="10243"/>
                  <a:pt x="5875" y="10368"/>
                  <a:pt x="5829" y="10492"/>
                </a:cubicBezTo>
                <a:cubicBezTo>
                  <a:pt x="5791" y="10594"/>
                  <a:pt x="5754" y="10693"/>
                  <a:pt x="5705" y="10790"/>
                </a:cubicBezTo>
                <a:cubicBezTo>
                  <a:pt x="5680" y="10840"/>
                  <a:pt x="5672" y="10856"/>
                  <a:pt x="5655" y="10889"/>
                </a:cubicBezTo>
              </a:path>
              <a:path w="7294" h="4689">
                <a:moveTo>
                  <a:pt x="5432" y="11658"/>
                </a:moveTo>
                <a:cubicBezTo>
                  <a:pt x="5432" y="11771"/>
                  <a:pt x="5446" y="11873"/>
                  <a:pt x="5457" y="11981"/>
                </a:cubicBezTo>
                <a:cubicBezTo>
                  <a:pt x="5468" y="12091"/>
                  <a:pt x="5404" y="12475"/>
                  <a:pt x="5482" y="12526"/>
                </a:cubicBezTo>
              </a:path>
              <a:path w="7294" h="4689">
                <a:moveTo>
                  <a:pt x="5779" y="11708"/>
                </a:moveTo>
                <a:cubicBezTo>
                  <a:pt x="5828" y="11660"/>
                  <a:pt x="5903" y="11552"/>
                  <a:pt x="5978" y="11534"/>
                </a:cubicBezTo>
                <a:cubicBezTo>
                  <a:pt x="6062" y="11514"/>
                  <a:pt x="6096" y="11521"/>
                  <a:pt x="6176" y="11534"/>
                </a:cubicBezTo>
                <a:cubicBezTo>
                  <a:pt x="6228" y="11543"/>
                  <a:pt x="6300" y="11571"/>
                  <a:pt x="6325" y="11633"/>
                </a:cubicBezTo>
                <a:cubicBezTo>
                  <a:pt x="6351" y="11698"/>
                  <a:pt x="6350" y="11785"/>
                  <a:pt x="6350" y="11857"/>
                </a:cubicBezTo>
                <a:cubicBezTo>
                  <a:pt x="6350" y="11974"/>
                  <a:pt x="6332" y="12091"/>
                  <a:pt x="6300" y="12204"/>
                </a:cubicBezTo>
                <a:cubicBezTo>
                  <a:pt x="6275" y="12291"/>
                  <a:pt x="6205" y="12400"/>
                  <a:pt x="6152" y="12477"/>
                </a:cubicBezTo>
                <a:cubicBezTo>
                  <a:pt x="6107" y="12542"/>
                  <a:pt x="6055" y="12559"/>
                  <a:pt x="6003" y="12551"/>
                </a:cubicBezTo>
                <a:cubicBezTo>
                  <a:pt x="6011" y="12479"/>
                  <a:pt x="6018" y="12447"/>
                  <a:pt x="6052" y="12378"/>
                </a:cubicBezTo>
                <a:cubicBezTo>
                  <a:pt x="6097" y="12286"/>
                  <a:pt x="6115" y="12293"/>
                  <a:pt x="6201" y="12303"/>
                </a:cubicBezTo>
                <a:cubicBezTo>
                  <a:pt x="6293" y="12313"/>
                  <a:pt x="6343" y="12356"/>
                  <a:pt x="6424" y="12402"/>
                </a:cubicBezTo>
                <a:cubicBezTo>
                  <a:pt x="6509" y="12450"/>
                  <a:pt x="6606" y="12492"/>
                  <a:pt x="6697" y="12526"/>
                </a:cubicBezTo>
                <a:cubicBezTo>
                  <a:pt x="6722" y="12535"/>
                  <a:pt x="6896" y="12629"/>
                  <a:pt x="6921" y="12601"/>
                </a:cubicBezTo>
                <a:cubicBezTo>
                  <a:pt x="6921" y="12584"/>
                  <a:pt x="6921" y="12568"/>
                  <a:pt x="6921" y="12551"/>
                </a:cubicBezTo>
              </a:path>
              <a:path w="7294" h="4689">
                <a:moveTo>
                  <a:pt x="2406" y="12303"/>
                </a:moveTo>
                <a:cubicBezTo>
                  <a:pt x="2534" y="12252"/>
                  <a:pt x="2644" y="12273"/>
                  <a:pt x="2778" y="12254"/>
                </a:cubicBezTo>
                <a:cubicBezTo>
                  <a:pt x="2911" y="12235"/>
                  <a:pt x="3039" y="12208"/>
                  <a:pt x="3175" y="12204"/>
                </a:cubicBezTo>
                <a:cubicBezTo>
                  <a:pt x="3284" y="12201"/>
                  <a:pt x="3415" y="12199"/>
                  <a:pt x="3522" y="12179"/>
                </a:cubicBezTo>
                <a:cubicBezTo>
                  <a:pt x="3560" y="12172"/>
                  <a:pt x="3727" y="12157"/>
                  <a:pt x="3671" y="12129"/>
                </a:cubicBezTo>
              </a:path>
              <a:path w="7294" h="4689">
                <a:moveTo>
                  <a:pt x="2952" y="12526"/>
                </a:moveTo>
                <a:cubicBezTo>
                  <a:pt x="3019" y="12502"/>
                  <a:pt x="3065" y="12489"/>
                  <a:pt x="3125" y="12452"/>
                </a:cubicBezTo>
                <a:cubicBezTo>
                  <a:pt x="3175" y="12422"/>
                  <a:pt x="3245" y="12405"/>
                  <a:pt x="3299" y="12402"/>
                </a:cubicBezTo>
                <a:cubicBezTo>
                  <a:pt x="3345" y="12399"/>
                  <a:pt x="3430" y="12390"/>
                  <a:pt x="3448" y="12452"/>
                </a:cubicBezTo>
                <a:cubicBezTo>
                  <a:pt x="3465" y="12511"/>
                  <a:pt x="3400" y="12556"/>
                  <a:pt x="3373" y="12601"/>
                </a:cubicBezTo>
                <a:cubicBezTo>
                  <a:pt x="3325" y="12681"/>
                  <a:pt x="3279" y="12703"/>
                  <a:pt x="3225" y="12774"/>
                </a:cubicBezTo>
                <a:cubicBezTo>
                  <a:pt x="3181" y="12831"/>
                  <a:pt x="3121" y="12863"/>
                  <a:pt x="3076" y="12923"/>
                </a:cubicBezTo>
                <a:cubicBezTo>
                  <a:pt x="3026" y="12990"/>
                  <a:pt x="2996" y="13045"/>
                  <a:pt x="3076" y="13097"/>
                </a:cubicBezTo>
                <a:cubicBezTo>
                  <a:pt x="3136" y="13136"/>
                  <a:pt x="3230" y="13143"/>
                  <a:pt x="3299" y="13146"/>
                </a:cubicBezTo>
                <a:cubicBezTo>
                  <a:pt x="3394" y="13150"/>
                  <a:pt x="3479" y="13129"/>
                  <a:pt x="3572" y="131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Ink 6"/>
          <p:cNvSpPr/>
          <p:nvPr/>
        </p:nvSpPr>
        <p:spPr>
          <a:xfrm>
            <a:off x="1177920" y="4527720"/>
            <a:ext cx="1171440" cy="1169640"/>
          </a:xfrm>
          <a:custGeom>
            <a:avLst/>
            <a:gdLst/>
            <a:ahLst/>
            <a:rect l="l" t="t" r="r" b="b"/>
            <a:pathLst>
              <a:path w="3251" h="3250">
                <a:moveTo>
                  <a:pt x="5333" y="12626"/>
                </a:moveTo>
                <a:cubicBezTo>
                  <a:pt x="5465" y="12582"/>
                  <a:pt x="5542" y="12576"/>
                  <a:pt x="5680" y="12576"/>
                </a:cubicBezTo>
                <a:cubicBezTo>
                  <a:pt x="5800" y="12576"/>
                  <a:pt x="5910" y="12597"/>
                  <a:pt x="6028" y="12601"/>
                </a:cubicBezTo>
                <a:cubicBezTo>
                  <a:pt x="6131" y="12604"/>
                  <a:pt x="6221" y="12626"/>
                  <a:pt x="6325" y="12626"/>
                </a:cubicBezTo>
                <a:cubicBezTo>
                  <a:pt x="6375" y="12626"/>
                  <a:pt x="6424" y="12626"/>
                  <a:pt x="6474" y="12626"/>
                </a:cubicBezTo>
              </a:path>
              <a:path w="3251" h="3250">
                <a:moveTo>
                  <a:pt x="5804" y="12849"/>
                </a:moveTo>
                <a:cubicBezTo>
                  <a:pt x="5878" y="12868"/>
                  <a:pt x="5984" y="12849"/>
                  <a:pt x="6077" y="12849"/>
                </a:cubicBezTo>
                <a:cubicBezTo>
                  <a:pt x="6145" y="12849"/>
                  <a:pt x="6240" y="12862"/>
                  <a:pt x="6300" y="12898"/>
                </a:cubicBezTo>
                <a:cubicBezTo>
                  <a:pt x="6363" y="12936"/>
                  <a:pt x="6356" y="12977"/>
                  <a:pt x="6350" y="13022"/>
                </a:cubicBezTo>
                <a:cubicBezTo>
                  <a:pt x="6341" y="13092"/>
                  <a:pt x="6269" y="13182"/>
                  <a:pt x="6201" y="13221"/>
                </a:cubicBezTo>
                <a:cubicBezTo>
                  <a:pt x="6141" y="13255"/>
                  <a:pt x="6047" y="13258"/>
                  <a:pt x="6003" y="13320"/>
                </a:cubicBezTo>
                <a:cubicBezTo>
                  <a:pt x="5995" y="13337"/>
                  <a:pt x="5986" y="13353"/>
                  <a:pt x="5978" y="13370"/>
                </a:cubicBezTo>
                <a:cubicBezTo>
                  <a:pt x="6036" y="13437"/>
                  <a:pt x="6111" y="13485"/>
                  <a:pt x="6201" y="13519"/>
                </a:cubicBezTo>
                <a:cubicBezTo>
                  <a:pt x="6292" y="13553"/>
                  <a:pt x="6379" y="13623"/>
                  <a:pt x="6474" y="13643"/>
                </a:cubicBezTo>
                <a:cubicBezTo>
                  <a:pt x="6491" y="13643"/>
                  <a:pt x="6507" y="13643"/>
                  <a:pt x="6524" y="13643"/>
                </a:cubicBezTo>
              </a:path>
              <a:path w="3251" h="3250">
                <a:moveTo>
                  <a:pt x="3894" y="14114"/>
                </a:moveTo>
                <a:cubicBezTo>
                  <a:pt x="3943" y="14175"/>
                  <a:pt x="3968" y="14250"/>
                  <a:pt x="4018" y="14312"/>
                </a:cubicBezTo>
                <a:cubicBezTo>
                  <a:pt x="4091" y="14402"/>
                  <a:pt x="4164" y="14530"/>
                  <a:pt x="4217" y="14635"/>
                </a:cubicBezTo>
                <a:cubicBezTo>
                  <a:pt x="4295" y="14788"/>
                  <a:pt x="4370" y="14906"/>
                  <a:pt x="4490" y="15032"/>
                </a:cubicBezTo>
                <a:cubicBezTo>
                  <a:pt x="4506" y="15048"/>
                  <a:pt x="4523" y="15065"/>
                  <a:pt x="4539" y="15081"/>
                </a:cubicBezTo>
              </a:path>
              <a:path w="3251" h="3250">
                <a:moveTo>
                  <a:pt x="4291" y="14064"/>
                </a:moveTo>
                <a:cubicBezTo>
                  <a:pt x="4211" y="14206"/>
                  <a:pt x="4120" y="14403"/>
                  <a:pt x="4018" y="14536"/>
                </a:cubicBezTo>
                <a:cubicBezTo>
                  <a:pt x="3945" y="14631"/>
                  <a:pt x="3911" y="14736"/>
                  <a:pt x="3845" y="14833"/>
                </a:cubicBezTo>
                <a:cubicBezTo>
                  <a:pt x="3806" y="14872"/>
                  <a:pt x="3789" y="14874"/>
                  <a:pt x="3795" y="14908"/>
                </a:cubicBezTo>
              </a:path>
              <a:path w="3251" h="3250">
                <a:moveTo>
                  <a:pt x="4415" y="14362"/>
                </a:moveTo>
                <a:cubicBezTo>
                  <a:pt x="4538" y="14362"/>
                  <a:pt x="4673" y="14380"/>
                  <a:pt x="4787" y="14337"/>
                </a:cubicBezTo>
              </a:path>
              <a:path w="3251" h="3250">
                <a:moveTo>
                  <a:pt x="4514" y="14536"/>
                </a:moveTo>
                <a:cubicBezTo>
                  <a:pt x="4626" y="14603"/>
                  <a:pt x="4654" y="14631"/>
                  <a:pt x="4738" y="14585"/>
                </a:cubicBezTo>
              </a:path>
              <a:path w="3251" h="3250">
                <a:moveTo>
                  <a:pt x="5234" y="14114"/>
                </a:moveTo>
                <a:cubicBezTo>
                  <a:pt x="5193" y="14165"/>
                  <a:pt x="5159" y="14226"/>
                  <a:pt x="5135" y="14288"/>
                </a:cubicBezTo>
                <a:cubicBezTo>
                  <a:pt x="5102" y="14372"/>
                  <a:pt x="5088" y="14470"/>
                  <a:pt x="5085" y="14560"/>
                </a:cubicBezTo>
                <a:cubicBezTo>
                  <a:pt x="5081" y="14657"/>
                  <a:pt x="5081" y="14772"/>
                  <a:pt x="5135" y="14858"/>
                </a:cubicBezTo>
                <a:cubicBezTo>
                  <a:pt x="5178" y="14927"/>
                  <a:pt x="5229" y="14998"/>
                  <a:pt x="5308" y="15007"/>
                </a:cubicBezTo>
                <a:cubicBezTo>
                  <a:pt x="5367" y="15014"/>
                  <a:pt x="5418" y="14967"/>
                  <a:pt x="5432" y="14908"/>
                </a:cubicBezTo>
                <a:cubicBezTo>
                  <a:pt x="5445" y="14852"/>
                  <a:pt x="5474" y="14769"/>
                  <a:pt x="5457" y="14709"/>
                </a:cubicBezTo>
                <a:cubicBezTo>
                  <a:pt x="5443" y="14660"/>
                  <a:pt x="5411" y="14589"/>
                  <a:pt x="5358" y="14585"/>
                </a:cubicBezTo>
                <a:cubicBezTo>
                  <a:pt x="5250" y="14577"/>
                  <a:pt x="5221" y="14672"/>
                  <a:pt x="5184" y="14759"/>
                </a:cubicBezTo>
                <a:cubicBezTo>
                  <a:pt x="5145" y="14852"/>
                  <a:pt x="5135" y="14940"/>
                  <a:pt x="5110" y="15032"/>
                </a:cubicBezTo>
                <a:cubicBezTo>
                  <a:pt x="5102" y="15048"/>
                  <a:pt x="5093" y="15065"/>
                  <a:pt x="5085" y="15081"/>
                </a:cubicBezTo>
              </a:path>
              <a:path w="3251" h="3250">
                <a:moveTo>
                  <a:pt x="5655" y="14362"/>
                </a:moveTo>
                <a:cubicBezTo>
                  <a:pt x="5607" y="14036"/>
                  <a:pt x="5585" y="13858"/>
                  <a:pt x="5358" y="13618"/>
                </a:cubicBezTo>
                <a:cubicBezTo>
                  <a:pt x="5209" y="13460"/>
                  <a:pt x="5074" y="13376"/>
                  <a:pt x="4887" y="13271"/>
                </a:cubicBezTo>
                <a:cubicBezTo>
                  <a:pt x="4676" y="13153"/>
                  <a:pt x="4439" y="13077"/>
                  <a:pt x="4192" y="13097"/>
                </a:cubicBezTo>
                <a:cubicBezTo>
                  <a:pt x="4032" y="13110"/>
                  <a:pt x="3857" y="13162"/>
                  <a:pt x="3721" y="13246"/>
                </a:cubicBezTo>
                <a:cubicBezTo>
                  <a:pt x="3571" y="13339"/>
                  <a:pt x="3479" y="13439"/>
                  <a:pt x="3398" y="13593"/>
                </a:cubicBezTo>
                <a:cubicBezTo>
                  <a:pt x="3293" y="13793"/>
                  <a:pt x="3253" y="13987"/>
                  <a:pt x="3274" y="14213"/>
                </a:cubicBezTo>
                <a:cubicBezTo>
                  <a:pt x="3292" y="14398"/>
                  <a:pt x="3375" y="14613"/>
                  <a:pt x="3448" y="14784"/>
                </a:cubicBezTo>
                <a:cubicBezTo>
                  <a:pt x="3560" y="15047"/>
                  <a:pt x="3731" y="15226"/>
                  <a:pt x="3919" y="15429"/>
                </a:cubicBezTo>
                <a:cubicBezTo>
                  <a:pt x="4061" y="15582"/>
                  <a:pt x="4183" y="15711"/>
                  <a:pt x="4390" y="15776"/>
                </a:cubicBezTo>
                <a:cubicBezTo>
                  <a:pt x="4603" y="15843"/>
                  <a:pt x="4831" y="15841"/>
                  <a:pt x="5035" y="15751"/>
                </a:cubicBezTo>
                <a:cubicBezTo>
                  <a:pt x="5363" y="15606"/>
                  <a:pt x="5578" y="15325"/>
                  <a:pt x="5705" y="15007"/>
                </a:cubicBezTo>
                <a:cubicBezTo>
                  <a:pt x="5796" y="14778"/>
                  <a:pt x="5854" y="14561"/>
                  <a:pt x="5829" y="14312"/>
                </a:cubicBezTo>
                <a:cubicBezTo>
                  <a:pt x="5812" y="14140"/>
                  <a:pt x="5767" y="13943"/>
                  <a:pt x="5680" y="13791"/>
                </a:cubicBezTo>
                <a:cubicBezTo>
                  <a:pt x="5618" y="13683"/>
                  <a:pt x="5526" y="13619"/>
                  <a:pt x="5432" y="135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7"/>
          <p:cNvSpPr/>
          <p:nvPr/>
        </p:nvSpPr>
        <p:spPr>
          <a:xfrm>
            <a:off x="5153040" y="3071880"/>
            <a:ext cx="2911320" cy="714240"/>
          </a:xfrm>
          <a:custGeom>
            <a:avLst/>
            <a:gdLst/>
            <a:ahLst/>
            <a:rect l="l" t="t" r="r" b="b"/>
            <a:pathLst>
              <a:path w="8088" h="1985">
                <a:moveTo>
                  <a:pt x="14312" y="9153"/>
                </a:moveTo>
                <a:cubicBezTo>
                  <a:pt x="14356" y="9219"/>
                  <a:pt x="14386" y="9298"/>
                  <a:pt x="14412" y="9376"/>
                </a:cubicBezTo>
                <a:cubicBezTo>
                  <a:pt x="14449" y="9486"/>
                  <a:pt x="14500" y="9600"/>
                  <a:pt x="14560" y="9699"/>
                </a:cubicBezTo>
                <a:cubicBezTo>
                  <a:pt x="14617" y="9793"/>
                  <a:pt x="14671" y="9860"/>
                  <a:pt x="14734" y="9947"/>
                </a:cubicBezTo>
                <a:cubicBezTo>
                  <a:pt x="14779" y="10009"/>
                  <a:pt x="14778" y="9996"/>
                  <a:pt x="14858" y="9996"/>
                </a:cubicBezTo>
              </a:path>
              <a:path w="8088" h="1985">
                <a:moveTo>
                  <a:pt x="14709" y="9029"/>
                </a:moveTo>
                <a:cubicBezTo>
                  <a:pt x="14684" y="9178"/>
                  <a:pt x="14650" y="9307"/>
                  <a:pt x="14610" y="9451"/>
                </a:cubicBezTo>
                <a:cubicBezTo>
                  <a:pt x="14579" y="9566"/>
                  <a:pt x="14555" y="9687"/>
                  <a:pt x="14511" y="9798"/>
                </a:cubicBezTo>
                <a:cubicBezTo>
                  <a:pt x="14486" y="9862"/>
                  <a:pt x="14462" y="9942"/>
                  <a:pt x="14436" y="9996"/>
                </a:cubicBezTo>
                <a:cubicBezTo>
                  <a:pt x="14414" y="10019"/>
                  <a:pt x="14406" y="10030"/>
                  <a:pt x="14412" y="9996"/>
                </a:cubicBezTo>
              </a:path>
              <a:path w="8088" h="1985">
                <a:moveTo>
                  <a:pt x="14833" y="8582"/>
                </a:moveTo>
                <a:cubicBezTo>
                  <a:pt x="14923" y="8547"/>
                  <a:pt x="14945" y="8522"/>
                  <a:pt x="15032" y="8582"/>
                </a:cubicBezTo>
                <a:cubicBezTo>
                  <a:pt x="15089" y="8622"/>
                  <a:pt x="15032" y="8737"/>
                  <a:pt x="15007" y="8781"/>
                </a:cubicBezTo>
                <a:cubicBezTo>
                  <a:pt x="14988" y="8814"/>
                  <a:pt x="14867" y="8920"/>
                  <a:pt x="14957" y="8954"/>
                </a:cubicBezTo>
                <a:cubicBezTo>
                  <a:pt x="15037" y="8984"/>
                  <a:pt x="15092" y="8964"/>
                  <a:pt x="15180" y="8954"/>
                </a:cubicBezTo>
              </a:path>
              <a:path w="8088" h="1985">
                <a:moveTo>
                  <a:pt x="15429" y="9128"/>
                </a:moveTo>
                <a:cubicBezTo>
                  <a:pt x="15407" y="9278"/>
                  <a:pt x="15410" y="9358"/>
                  <a:pt x="15429" y="9500"/>
                </a:cubicBezTo>
                <a:cubicBezTo>
                  <a:pt x="15439" y="9575"/>
                  <a:pt x="15441" y="9651"/>
                  <a:pt x="15453" y="9723"/>
                </a:cubicBezTo>
                <a:cubicBezTo>
                  <a:pt x="15453" y="9765"/>
                  <a:pt x="15453" y="9773"/>
                  <a:pt x="15453" y="9798"/>
                </a:cubicBezTo>
              </a:path>
              <a:path w="8088" h="1985">
                <a:moveTo>
                  <a:pt x="15180" y="9327"/>
                </a:moveTo>
                <a:cubicBezTo>
                  <a:pt x="15319" y="9368"/>
                  <a:pt x="15388" y="9376"/>
                  <a:pt x="15528" y="9376"/>
                </a:cubicBezTo>
                <a:cubicBezTo>
                  <a:pt x="15602" y="9376"/>
                  <a:pt x="15677" y="9376"/>
                  <a:pt x="15751" y="9376"/>
                </a:cubicBezTo>
              </a:path>
              <a:path w="8088" h="1985">
                <a:moveTo>
                  <a:pt x="16346" y="9302"/>
                </a:moveTo>
                <a:cubicBezTo>
                  <a:pt x="16404" y="9360"/>
                  <a:pt x="16326" y="9253"/>
                  <a:pt x="16321" y="9227"/>
                </a:cubicBezTo>
                <a:cubicBezTo>
                  <a:pt x="16305" y="9148"/>
                  <a:pt x="16305" y="9131"/>
                  <a:pt x="16247" y="9079"/>
                </a:cubicBezTo>
                <a:cubicBezTo>
                  <a:pt x="16189" y="9027"/>
                  <a:pt x="16128" y="9062"/>
                  <a:pt x="16073" y="9103"/>
                </a:cubicBezTo>
                <a:cubicBezTo>
                  <a:pt x="16027" y="9137"/>
                  <a:pt x="15964" y="9197"/>
                  <a:pt x="15949" y="9252"/>
                </a:cubicBezTo>
                <a:cubicBezTo>
                  <a:pt x="15926" y="9333"/>
                  <a:pt x="15936" y="9373"/>
                  <a:pt x="15949" y="9451"/>
                </a:cubicBezTo>
                <a:cubicBezTo>
                  <a:pt x="15957" y="9503"/>
                  <a:pt x="15986" y="9578"/>
                  <a:pt x="16049" y="9599"/>
                </a:cubicBezTo>
                <a:cubicBezTo>
                  <a:pt x="16112" y="9620"/>
                  <a:pt x="16167" y="9559"/>
                  <a:pt x="16197" y="9525"/>
                </a:cubicBezTo>
                <a:cubicBezTo>
                  <a:pt x="16242" y="9474"/>
                  <a:pt x="16286" y="9395"/>
                  <a:pt x="16297" y="9327"/>
                </a:cubicBezTo>
                <a:cubicBezTo>
                  <a:pt x="16297" y="9302"/>
                  <a:pt x="16297" y="9277"/>
                  <a:pt x="16297" y="9252"/>
                </a:cubicBezTo>
                <a:cubicBezTo>
                  <a:pt x="16273" y="9341"/>
                  <a:pt x="16272" y="9407"/>
                  <a:pt x="16272" y="9500"/>
                </a:cubicBezTo>
                <a:cubicBezTo>
                  <a:pt x="16272" y="9604"/>
                  <a:pt x="16292" y="9696"/>
                  <a:pt x="16297" y="9798"/>
                </a:cubicBezTo>
                <a:cubicBezTo>
                  <a:pt x="16300" y="9874"/>
                  <a:pt x="16316" y="9953"/>
                  <a:pt x="16346" y="10021"/>
                </a:cubicBezTo>
                <a:cubicBezTo>
                  <a:pt x="16371" y="10071"/>
                  <a:pt x="16379" y="10088"/>
                  <a:pt x="16396" y="10021"/>
                </a:cubicBezTo>
              </a:path>
              <a:path w="8088" h="1985">
                <a:moveTo>
                  <a:pt x="16545" y="9500"/>
                </a:moveTo>
                <a:cubicBezTo>
                  <a:pt x="16555" y="9567"/>
                  <a:pt x="16607" y="9606"/>
                  <a:pt x="16619" y="9674"/>
                </a:cubicBezTo>
                <a:cubicBezTo>
                  <a:pt x="16637" y="9778"/>
                  <a:pt x="16648" y="9839"/>
                  <a:pt x="16718" y="9922"/>
                </a:cubicBezTo>
                <a:cubicBezTo>
                  <a:pt x="16776" y="9991"/>
                  <a:pt x="16838" y="10031"/>
                  <a:pt x="16917" y="10071"/>
                </a:cubicBezTo>
                <a:cubicBezTo>
                  <a:pt x="16981" y="10103"/>
                  <a:pt x="17021" y="10079"/>
                  <a:pt x="17090" y="10071"/>
                </a:cubicBezTo>
              </a:path>
              <a:path w="8088" h="1985">
                <a:moveTo>
                  <a:pt x="16917" y="9426"/>
                </a:moveTo>
                <a:cubicBezTo>
                  <a:pt x="16855" y="9550"/>
                  <a:pt x="16804" y="9676"/>
                  <a:pt x="16743" y="9798"/>
                </a:cubicBezTo>
                <a:cubicBezTo>
                  <a:pt x="16702" y="9881"/>
                  <a:pt x="16661" y="9963"/>
                  <a:pt x="16619" y="10046"/>
                </a:cubicBezTo>
                <a:cubicBezTo>
                  <a:pt x="16592" y="10100"/>
                  <a:pt x="16569" y="10119"/>
                  <a:pt x="16594" y="10145"/>
                </a:cubicBezTo>
              </a:path>
              <a:path w="8088" h="1985">
                <a:moveTo>
                  <a:pt x="17338" y="9376"/>
                </a:moveTo>
                <a:cubicBezTo>
                  <a:pt x="17357" y="9603"/>
                  <a:pt x="17296" y="9851"/>
                  <a:pt x="17413" y="10046"/>
                </a:cubicBezTo>
              </a:path>
              <a:path w="8088" h="1985">
                <a:moveTo>
                  <a:pt x="17190" y="9699"/>
                </a:moveTo>
                <a:cubicBezTo>
                  <a:pt x="17294" y="9730"/>
                  <a:pt x="17400" y="9770"/>
                  <a:pt x="17512" y="9748"/>
                </a:cubicBezTo>
                <a:cubicBezTo>
                  <a:pt x="17581" y="9735"/>
                  <a:pt x="17646" y="9720"/>
                  <a:pt x="17711" y="9699"/>
                </a:cubicBezTo>
              </a:path>
              <a:path w="8088" h="1985">
                <a:moveTo>
                  <a:pt x="18033" y="9227"/>
                </a:moveTo>
                <a:cubicBezTo>
                  <a:pt x="18026" y="9341"/>
                  <a:pt x="18008" y="9435"/>
                  <a:pt x="18008" y="9550"/>
                </a:cubicBezTo>
                <a:cubicBezTo>
                  <a:pt x="18008" y="9651"/>
                  <a:pt x="17983" y="9743"/>
                  <a:pt x="17983" y="9847"/>
                </a:cubicBezTo>
                <a:cubicBezTo>
                  <a:pt x="17983" y="9931"/>
                  <a:pt x="18004" y="9992"/>
                  <a:pt x="18008" y="10071"/>
                </a:cubicBezTo>
                <a:cubicBezTo>
                  <a:pt x="18008" y="10122"/>
                  <a:pt x="18010" y="10138"/>
                  <a:pt x="18058" y="10096"/>
                </a:cubicBezTo>
              </a:path>
              <a:path w="8088" h="1985">
                <a:moveTo>
                  <a:pt x="18455" y="9302"/>
                </a:moveTo>
                <a:cubicBezTo>
                  <a:pt x="18568" y="9302"/>
                  <a:pt x="18637" y="9295"/>
                  <a:pt x="18728" y="9277"/>
                </a:cubicBezTo>
                <a:cubicBezTo>
                  <a:pt x="18777" y="9277"/>
                  <a:pt x="18794" y="9277"/>
                  <a:pt x="18827" y="9277"/>
                </a:cubicBezTo>
              </a:path>
              <a:path w="8088" h="1985">
                <a:moveTo>
                  <a:pt x="18479" y="9351"/>
                </a:moveTo>
                <a:cubicBezTo>
                  <a:pt x="18449" y="9457"/>
                  <a:pt x="18392" y="9569"/>
                  <a:pt x="18455" y="9674"/>
                </a:cubicBezTo>
                <a:cubicBezTo>
                  <a:pt x="18492" y="9735"/>
                  <a:pt x="18566" y="9678"/>
                  <a:pt x="18604" y="9649"/>
                </a:cubicBezTo>
                <a:cubicBezTo>
                  <a:pt x="18674" y="9595"/>
                  <a:pt x="18754" y="9637"/>
                  <a:pt x="18827" y="9674"/>
                </a:cubicBezTo>
                <a:cubicBezTo>
                  <a:pt x="18910" y="9716"/>
                  <a:pt x="18916" y="9791"/>
                  <a:pt x="18951" y="9872"/>
                </a:cubicBezTo>
                <a:cubicBezTo>
                  <a:pt x="18975" y="9927"/>
                  <a:pt x="18994" y="10009"/>
                  <a:pt x="18976" y="10071"/>
                </a:cubicBezTo>
                <a:cubicBezTo>
                  <a:pt x="18960" y="10127"/>
                  <a:pt x="18905" y="10215"/>
                  <a:pt x="18852" y="10244"/>
                </a:cubicBezTo>
                <a:cubicBezTo>
                  <a:pt x="18790" y="10278"/>
                  <a:pt x="18706" y="10285"/>
                  <a:pt x="18653" y="10244"/>
                </a:cubicBezTo>
                <a:cubicBezTo>
                  <a:pt x="18597" y="10200"/>
                  <a:pt x="18611" y="10195"/>
                  <a:pt x="18604" y="10120"/>
                </a:cubicBezTo>
              </a:path>
              <a:path w="8088" h="1985">
                <a:moveTo>
                  <a:pt x="19248" y="9699"/>
                </a:moveTo>
                <a:cubicBezTo>
                  <a:pt x="19368" y="9694"/>
                  <a:pt x="19457" y="9674"/>
                  <a:pt x="19571" y="9674"/>
                </a:cubicBezTo>
              </a:path>
              <a:path w="8088" h="1985">
                <a:moveTo>
                  <a:pt x="19323" y="9947"/>
                </a:moveTo>
                <a:cubicBezTo>
                  <a:pt x="19426" y="9961"/>
                  <a:pt x="19476" y="9964"/>
                  <a:pt x="19571" y="9922"/>
                </a:cubicBezTo>
                <a:cubicBezTo>
                  <a:pt x="19588" y="9914"/>
                  <a:pt x="19604" y="9905"/>
                  <a:pt x="19621" y="9897"/>
                </a:cubicBezTo>
              </a:path>
              <a:path w="8088" h="1985">
                <a:moveTo>
                  <a:pt x="19968" y="9401"/>
                </a:moveTo>
                <a:cubicBezTo>
                  <a:pt x="20055" y="9340"/>
                  <a:pt x="20085" y="9307"/>
                  <a:pt x="20191" y="9302"/>
                </a:cubicBezTo>
                <a:cubicBezTo>
                  <a:pt x="20244" y="9299"/>
                  <a:pt x="20285" y="9330"/>
                  <a:pt x="20315" y="9376"/>
                </a:cubicBezTo>
                <a:cubicBezTo>
                  <a:pt x="20348" y="9428"/>
                  <a:pt x="20342" y="9548"/>
                  <a:pt x="20315" y="9599"/>
                </a:cubicBezTo>
                <a:cubicBezTo>
                  <a:pt x="20272" y="9680"/>
                  <a:pt x="20225" y="9756"/>
                  <a:pt x="20191" y="9847"/>
                </a:cubicBezTo>
                <a:cubicBezTo>
                  <a:pt x="20165" y="9915"/>
                  <a:pt x="20145" y="10010"/>
                  <a:pt x="20117" y="10071"/>
                </a:cubicBezTo>
                <a:cubicBezTo>
                  <a:pt x="20087" y="10137"/>
                  <a:pt x="20094" y="10175"/>
                  <a:pt x="20141" y="10244"/>
                </a:cubicBezTo>
                <a:cubicBezTo>
                  <a:pt x="20168" y="10283"/>
                  <a:pt x="20269" y="10291"/>
                  <a:pt x="20315" y="10294"/>
                </a:cubicBezTo>
                <a:cubicBezTo>
                  <a:pt x="20393" y="10294"/>
                  <a:pt x="20435" y="10284"/>
                  <a:pt x="20489" y="10244"/>
                </a:cubicBezTo>
              </a:path>
              <a:path w="8088" h="1985">
                <a:moveTo>
                  <a:pt x="20638" y="9699"/>
                </a:moveTo>
                <a:cubicBezTo>
                  <a:pt x="20659" y="9808"/>
                  <a:pt x="20674" y="9937"/>
                  <a:pt x="20762" y="10021"/>
                </a:cubicBezTo>
                <a:cubicBezTo>
                  <a:pt x="20848" y="10103"/>
                  <a:pt x="20955" y="10183"/>
                  <a:pt x="21059" y="10244"/>
                </a:cubicBezTo>
                <a:cubicBezTo>
                  <a:pt x="21142" y="10293"/>
                  <a:pt x="21170" y="10284"/>
                  <a:pt x="21258" y="10269"/>
                </a:cubicBezTo>
              </a:path>
              <a:path w="8088" h="1985">
                <a:moveTo>
                  <a:pt x="20886" y="9674"/>
                </a:moveTo>
                <a:cubicBezTo>
                  <a:pt x="20819" y="9774"/>
                  <a:pt x="20779" y="9859"/>
                  <a:pt x="20737" y="9971"/>
                </a:cubicBezTo>
                <a:cubicBezTo>
                  <a:pt x="20708" y="10047"/>
                  <a:pt x="20655" y="10142"/>
                  <a:pt x="20638" y="10220"/>
                </a:cubicBezTo>
                <a:cubicBezTo>
                  <a:pt x="20627" y="10271"/>
                  <a:pt x="20635" y="10300"/>
                  <a:pt x="20662" y="10319"/>
                </a:cubicBezTo>
              </a:path>
              <a:path w="8088" h="1985">
                <a:moveTo>
                  <a:pt x="21332" y="9525"/>
                </a:moveTo>
                <a:cubicBezTo>
                  <a:pt x="21332" y="9663"/>
                  <a:pt x="21313" y="9787"/>
                  <a:pt x="21307" y="9922"/>
                </a:cubicBezTo>
                <a:cubicBezTo>
                  <a:pt x="21305" y="9973"/>
                  <a:pt x="21313" y="10096"/>
                  <a:pt x="21332" y="10145"/>
                </a:cubicBezTo>
                <a:cubicBezTo>
                  <a:pt x="21355" y="10168"/>
                  <a:pt x="21363" y="10172"/>
                  <a:pt x="21357" y="10195"/>
                </a:cubicBezTo>
              </a:path>
              <a:path w="8088" h="1985">
                <a:moveTo>
                  <a:pt x="21084" y="9897"/>
                </a:moveTo>
                <a:cubicBezTo>
                  <a:pt x="21284" y="9897"/>
                  <a:pt x="21395" y="9902"/>
                  <a:pt x="21580" y="9823"/>
                </a:cubicBezTo>
              </a:path>
              <a:path w="8088" h="1985">
                <a:moveTo>
                  <a:pt x="22027" y="9451"/>
                </a:moveTo>
                <a:cubicBezTo>
                  <a:pt x="22143" y="9470"/>
                  <a:pt x="22207" y="9501"/>
                  <a:pt x="22299" y="9426"/>
                </a:cubicBezTo>
              </a:path>
              <a:path w="8088" h="1985">
                <a:moveTo>
                  <a:pt x="21878" y="9500"/>
                </a:moveTo>
                <a:cubicBezTo>
                  <a:pt x="21864" y="9558"/>
                  <a:pt x="21802" y="9705"/>
                  <a:pt x="21828" y="9773"/>
                </a:cubicBezTo>
                <a:cubicBezTo>
                  <a:pt x="21855" y="9842"/>
                  <a:pt x="21947" y="9778"/>
                  <a:pt x="21977" y="9773"/>
                </a:cubicBezTo>
                <a:cubicBezTo>
                  <a:pt x="22054" y="9761"/>
                  <a:pt x="22137" y="9774"/>
                  <a:pt x="22200" y="9823"/>
                </a:cubicBezTo>
                <a:cubicBezTo>
                  <a:pt x="22274" y="9880"/>
                  <a:pt x="22349" y="9956"/>
                  <a:pt x="22374" y="10046"/>
                </a:cubicBezTo>
                <a:cubicBezTo>
                  <a:pt x="22403" y="10150"/>
                  <a:pt x="22420" y="10254"/>
                  <a:pt x="22349" y="10344"/>
                </a:cubicBezTo>
                <a:cubicBezTo>
                  <a:pt x="22309" y="10395"/>
                  <a:pt x="22211" y="10494"/>
                  <a:pt x="22151" y="10517"/>
                </a:cubicBezTo>
                <a:cubicBezTo>
                  <a:pt x="22085" y="10542"/>
                  <a:pt x="21933" y="10507"/>
                  <a:pt x="21878" y="10468"/>
                </a:cubicBezTo>
                <a:cubicBezTo>
                  <a:pt x="21853" y="10443"/>
                  <a:pt x="21828" y="10418"/>
                  <a:pt x="21803" y="103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8"/>
          <p:cNvSpPr/>
          <p:nvPr/>
        </p:nvSpPr>
        <p:spPr>
          <a:xfrm>
            <a:off x="5634000" y="3741840"/>
            <a:ext cx="1036800" cy="339480"/>
          </a:xfrm>
          <a:custGeom>
            <a:avLst/>
            <a:gdLst/>
            <a:ahLst/>
            <a:rect l="l" t="t" r="r" b="b"/>
            <a:pathLst>
              <a:path w="2878" h="944">
                <a:moveTo>
                  <a:pt x="15652" y="10840"/>
                </a:moveTo>
                <a:cubicBezTo>
                  <a:pt x="15706" y="10847"/>
                  <a:pt x="15759" y="10854"/>
                  <a:pt x="15801" y="10889"/>
                </a:cubicBezTo>
                <a:cubicBezTo>
                  <a:pt x="15840" y="10921"/>
                  <a:pt x="15879" y="10953"/>
                  <a:pt x="15925" y="10964"/>
                </a:cubicBezTo>
              </a:path>
              <a:path w="2878" h="944">
                <a:moveTo>
                  <a:pt x="16123" y="10542"/>
                </a:moveTo>
                <a:cubicBezTo>
                  <a:pt x="16257" y="10456"/>
                  <a:pt x="16226" y="10469"/>
                  <a:pt x="16346" y="10492"/>
                </a:cubicBezTo>
                <a:cubicBezTo>
                  <a:pt x="16415" y="10505"/>
                  <a:pt x="16496" y="10509"/>
                  <a:pt x="16520" y="10592"/>
                </a:cubicBezTo>
                <a:cubicBezTo>
                  <a:pt x="16538" y="10651"/>
                  <a:pt x="16474" y="10765"/>
                  <a:pt x="16446" y="10815"/>
                </a:cubicBezTo>
                <a:cubicBezTo>
                  <a:pt x="16390" y="10916"/>
                  <a:pt x="16320" y="11024"/>
                  <a:pt x="16247" y="11112"/>
                </a:cubicBezTo>
                <a:cubicBezTo>
                  <a:pt x="16195" y="11174"/>
                  <a:pt x="16130" y="11228"/>
                  <a:pt x="16073" y="11286"/>
                </a:cubicBezTo>
                <a:cubicBezTo>
                  <a:pt x="16029" y="11330"/>
                  <a:pt x="16099" y="11264"/>
                  <a:pt x="16148" y="11261"/>
                </a:cubicBezTo>
                <a:cubicBezTo>
                  <a:pt x="16227" y="11256"/>
                  <a:pt x="16258" y="11319"/>
                  <a:pt x="16321" y="11336"/>
                </a:cubicBezTo>
                <a:cubicBezTo>
                  <a:pt x="16363" y="11336"/>
                  <a:pt x="16371" y="11336"/>
                  <a:pt x="16396" y="11336"/>
                </a:cubicBezTo>
              </a:path>
              <a:path w="2878" h="944">
                <a:moveTo>
                  <a:pt x="16768" y="10716"/>
                </a:moveTo>
                <a:cubicBezTo>
                  <a:pt x="16799" y="10777"/>
                  <a:pt x="16835" y="10830"/>
                  <a:pt x="16867" y="10889"/>
                </a:cubicBezTo>
                <a:cubicBezTo>
                  <a:pt x="16909" y="10968"/>
                  <a:pt x="16940" y="11063"/>
                  <a:pt x="16991" y="11137"/>
                </a:cubicBezTo>
                <a:cubicBezTo>
                  <a:pt x="17017" y="11174"/>
                  <a:pt x="17077" y="11202"/>
                  <a:pt x="17115" y="11212"/>
                </a:cubicBezTo>
              </a:path>
              <a:path w="2878" h="944">
                <a:moveTo>
                  <a:pt x="17165" y="10641"/>
                </a:moveTo>
                <a:cubicBezTo>
                  <a:pt x="17090" y="10679"/>
                  <a:pt x="17020" y="10727"/>
                  <a:pt x="16966" y="10790"/>
                </a:cubicBezTo>
                <a:cubicBezTo>
                  <a:pt x="16860" y="10912"/>
                  <a:pt x="16797" y="11090"/>
                  <a:pt x="16743" y="11237"/>
                </a:cubicBezTo>
              </a:path>
              <a:path w="2878" h="944">
                <a:moveTo>
                  <a:pt x="17388" y="10691"/>
                </a:moveTo>
                <a:cubicBezTo>
                  <a:pt x="17419" y="10722"/>
                  <a:pt x="17472" y="10779"/>
                  <a:pt x="17512" y="10790"/>
                </a:cubicBezTo>
                <a:cubicBezTo>
                  <a:pt x="17560" y="10803"/>
                  <a:pt x="17611" y="10809"/>
                  <a:pt x="17661" y="10815"/>
                </a:cubicBezTo>
              </a:path>
              <a:path w="2878" h="944">
                <a:moveTo>
                  <a:pt x="18107" y="10468"/>
                </a:moveTo>
                <a:cubicBezTo>
                  <a:pt x="18219" y="10468"/>
                  <a:pt x="18300" y="10472"/>
                  <a:pt x="18405" y="10443"/>
                </a:cubicBezTo>
              </a:path>
              <a:path w="2878" h="944">
                <a:moveTo>
                  <a:pt x="18207" y="10393"/>
                </a:moveTo>
                <a:cubicBezTo>
                  <a:pt x="18110" y="10451"/>
                  <a:pt x="18036" y="10491"/>
                  <a:pt x="17983" y="10592"/>
                </a:cubicBezTo>
                <a:cubicBezTo>
                  <a:pt x="17949" y="10656"/>
                  <a:pt x="17959" y="10719"/>
                  <a:pt x="17959" y="10790"/>
                </a:cubicBezTo>
                <a:cubicBezTo>
                  <a:pt x="17959" y="10835"/>
                  <a:pt x="17955" y="10848"/>
                  <a:pt x="17983" y="10864"/>
                </a:cubicBezTo>
                <a:cubicBezTo>
                  <a:pt x="18046" y="10841"/>
                  <a:pt x="18099" y="10835"/>
                  <a:pt x="18157" y="10815"/>
                </a:cubicBezTo>
                <a:cubicBezTo>
                  <a:pt x="18220" y="10793"/>
                  <a:pt x="18311" y="10748"/>
                  <a:pt x="18380" y="10765"/>
                </a:cubicBezTo>
                <a:cubicBezTo>
                  <a:pt x="18419" y="10775"/>
                  <a:pt x="18477" y="10798"/>
                  <a:pt x="18504" y="10840"/>
                </a:cubicBezTo>
                <a:cubicBezTo>
                  <a:pt x="18555" y="10918"/>
                  <a:pt x="18522" y="10983"/>
                  <a:pt x="18455" y="11038"/>
                </a:cubicBezTo>
                <a:cubicBezTo>
                  <a:pt x="18366" y="11111"/>
                  <a:pt x="18251" y="11174"/>
                  <a:pt x="18157" y="112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Ink 9"/>
          <p:cNvSpPr/>
          <p:nvPr/>
        </p:nvSpPr>
        <p:spPr>
          <a:xfrm>
            <a:off x="7035840" y="3768840"/>
            <a:ext cx="903240" cy="295200"/>
          </a:xfrm>
          <a:custGeom>
            <a:avLst/>
            <a:gdLst/>
            <a:ahLst/>
            <a:rect l="l" t="t" r="r" b="b"/>
            <a:pathLst>
              <a:path w="2506" h="819">
                <a:moveTo>
                  <a:pt x="19571" y="10765"/>
                </a:moveTo>
                <a:cubicBezTo>
                  <a:pt x="19563" y="10773"/>
                  <a:pt x="19554" y="10782"/>
                  <a:pt x="19546" y="10790"/>
                </a:cubicBezTo>
                <a:cubicBezTo>
                  <a:pt x="19601" y="10823"/>
                  <a:pt x="19652" y="10815"/>
                  <a:pt x="19720" y="10815"/>
                </a:cubicBezTo>
                <a:cubicBezTo>
                  <a:pt x="19778" y="10815"/>
                  <a:pt x="19786" y="10815"/>
                  <a:pt x="19819" y="10815"/>
                </a:cubicBezTo>
              </a:path>
              <a:path w="2506" h="819">
                <a:moveTo>
                  <a:pt x="20042" y="10592"/>
                </a:moveTo>
                <a:cubicBezTo>
                  <a:pt x="20106" y="10512"/>
                  <a:pt x="20136" y="10474"/>
                  <a:pt x="20241" y="10468"/>
                </a:cubicBezTo>
                <a:cubicBezTo>
                  <a:pt x="20307" y="10464"/>
                  <a:pt x="20379" y="10488"/>
                  <a:pt x="20365" y="10567"/>
                </a:cubicBezTo>
                <a:cubicBezTo>
                  <a:pt x="20352" y="10638"/>
                  <a:pt x="20297" y="10700"/>
                  <a:pt x="20265" y="10765"/>
                </a:cubicBezTo>
                <a:cubicBezTo>
                  <a:pt x="20229" y="10838"/>
                  <a:pt x="20164" y="10919"/>
                  <a:pt x="20117" y="10988"/>
                </a:cubicBezTo>
                <a:cubicBezTo>
                  <a:pt x="20083" y="11037"/>
                  <a:pt x="20031" y="11101"/>
                  <a:pt x="20017" y="11162"/>
                </a:cubicBezTo>
                <a:cubicBezTo>
                  <a:pt x="20017" y="11179"/>
                  <a:pt x="20017" y="11195"/>
                  <a:pt x="20017" y="11212"/>
                </a:cubicBezTo>
                <a:cubicBezTo>
                  <a:pt x="20063" y="11119"/>
                  <a:pt x="20066" y="11126"/>
                  <a:pt x="20141" y="11088"/>
                </a:cubicBezTo>
                <a:cubicBezTo>
                  <a:pt x="20193" y="11062"/>
                  <a:pt x="20255" y="11061"/>
                  <a:pt x="20315" y="11088"/>
                </a:cubicBezTo>
                <a:cubicBezTo>
                  <a:pt x="20374" y="11115"/>
                  <a:pt x="20404" y="11123"/>
                  <a:pt x="20464" y="11088"/>
                </a:cubicBezTo>
              </a:path>
              <a:path w="2506" h="819">
                <a:moveTo>
                  <a:pt x="20638" y="10666"/>
                </a:moveTo>
                <a:cubicBezTo>
                  <a:pt x="20648" y="10749"/>
                  <a:pt x="20679" y="10834"/>
                  <a:pt x="20712" y="10914"/>
                </a:cubicBezTo>
                <a:cubicBezTo>
                  <a:pt x="20734" y="10967"/>
                  <a:pt x="20772" y="10998"/>
                  <a:pt x="20811" y="11038"/>
                </a:cubicBezTo>
              </a:path>
              <a:path w="2506" h="819">
                <a:moveTo>
                  <a:pt x="20762" y="10641"/>
                </a:moveTo>
                <a:cubicBezTo>
                  <a:pt x="20705" y="10742"/>
                  <a:pt x="20638" y="10893"/>
                  <a:pt x="20563" y="10988"/>
                </a:cubicBezTo>
                <a:cubicBezTo>
                  <a:pt x="20546" y="11005"/>
                  <a:pt x="20530" y="11021"/>
                  <a:pt x="20513" y="11038"/>
                </a:cubicBezTo>
              </a:path>
              <a:path w="2506" h="819">
                <a:moveTo>
                  <a:pt x="21084" y="10815"/>
                </a:moveTo>
                <a:cubicBezTo>
                  <a:pt x="21161" y="10815"/>
                  <a:pt x="21214" y="10793"/>
                  <a:pt x="21282" y="10790"/>
                </a:cubicBezTo>
                <a:cubicBezTo>
                  <a:pt x="21307" y="10790"/>
                  <a:pt x="21332" y="10790"/>
                  <a:pt x="21357" y="10790"/>
                </a:cubicBezTo>
              </a:path>
              <a:path w="2506" h="819">
                <a:moveTo>
                  <a:pt x="21803" y="10592"/>
                </a:moveTo>
                <a:cubicBezTo>
                  <a:pt x="21886" y="10592"/>
                  <a:pt x="21968" y="10592"/>
                  <a:pt x="22051" y="10592"/>
                </a:cubicBezTo>
              </a:path>
              <a:path w="2506" h="819">
                <a:moveTo>
                  <a:pt x="21803" y="10517"/>
                </a:moveTo>
                <a:cubicBezTo>
                  <a:pt x="21764" y="10568"/>
                  <a:pt x="21696" y="10654"/>
                  <a:pt x="21679" y="10716"/>
                </a:cubicBezTo>
                <a:cubicBezTo>
                  <a:pt x="21663" y="10776"/>
                  <a:pt x="21654" y="10821"/>
                  <a:pt x="21654" y="10889"/>
                </a:cubicBezTo>
                <a:cubicBezTo>
                  <a:pt x="21724" y="10879"/>
                  <a:pt x="21722" y="10831"/>
                  <a:pt x="21779" y="10815"/>
                </a:cubicBezTo>
                <a:cubicBezTo>
                  <a:pt x="21834" y="10799"/>
                  <a:pt x="21878" y="10776"/>
                  <a:pt x="21927" y="10815"/>
                </a:cubicBezTo>
                <a:cubicBezTo>
                  <a:pt x="21984" y="10861"/>
                  <a:pt x="21977" y="10893"/>
                  <a:pt x="21977" y="10964"/>
                </a:cubicBezTo>
                <a:cubicBezTo>
                  <a:pt x="21977" y="11064"/>
                  <a:pt x="21872" y="11101"/>
                  <a:pt x="21803" y="11162"/>
                </a:cubicBezTo>
                <a:cubicBezTo>
                  <a:pt x="21723" y="11233"/>
                  <a:pt x="21683" y="11252"/>
                  <a:pt x="21580" y="112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Ink 10"/>
          <p:cNvSpPr/>
          <p:nvPr/>
        </p:nvSpPr>
        <p:spPr>
          <a:xfrm>
            <a:off x="5133960" y="4340160"/>
            <a:ext cx="1501920" cy="561960"/>
          </a:xfrm>
          <a:custGeom>
            <a:avLst/>
            <a:gdLst/>
            <a:ahLst/>
            <a:rect l="l" t="t" r="r" b="b"/>
            <a:pathLst>
              <a:path w="4168" h="1564">
                <a:moveTo>
                  <a:pt x="14387" y="12452"/>
                </a:moveTo>
                <a:cubicBezTo>
                  <a:pt x="14431" y="12497"/>
                  <a:pt x="14462" y="12541"/>
                  <a:pt x="14486" y="12601"/>
                </a:cubicBezTo>
                <a:cubicBezTo>
                  <a:pt x="14524" y="12698"/>
                  <a:pt x="14575" y="12771"/>
                  <a:pt x="14610" y="12874"/>
                </a:cubicBezTo>
                <a:cubicBezTo>
                  <a:pt x="14643" y="12971"/>
                  <a:pt x="14673" y="13071"/>
                  <a:pt x="14684" y="13171"/>
                </a:cubicBezTo>
                <a:cubicBezTo>
                  <a:pt x="14693" y="13256"/>
                  <a:pt x="14709" y="13333"/>
                  <a:pt x="14709" y="13419"/>
                </a:cubicBezTo>
                <a:cubicBezTo>
                  <a:pt x="14709" y="13427"/>
                  <a:pt x="14709" y="13436"/>
                  <a:pt x="14709" y="13444"/>
                </a:cubicBezTo>
              </a:path>
              <a:path w="4168" h="1564">
                <a:moveTo>
                  <a:pt x="14759" y="12378"/>
                </a:moveTo>
                <a:cubicBezTo>
                  <a:pt x="14702" y="12475"/>
                  <a:pt x="14658" y="12573"/>
                  <a:pt x="14610" y="12675"/>
                </a:cubicBezTo>
                <a:cubicBezTo>
                  <a:pt x="14548" y="12806"/>
                  <a:pt x="14461" y="12935"/>
                  <a:pt x="14412" y="13072"/>
                </a:cubicBezTo>
                <a:cubicBezTo>
                  <a:pt x="14370" y="13187"/>
                  <a:pt x="14334" y="13305"/>
                  <a:pt x="14288" y="13419"/>
                </a:cubicBezTo>
                <a:cubicBezTo>
                  <a:pt x="14280" y="13436"/>
                  <a:pt x="14271" y="13452"/>
                  <a:pt x="14263" y="13469"/>
                </a:cubicBezTo>
              </a:path>
              <a:path w="4168" h="1564">
                <a:moveTo>
                  <a:pt x="14932" y="12105"/>
                </a:moveTo>
                <a:cubicBezTo>
                  <a:pt x="14978" y="12084"/>
                  <a:pt x="15099" y="12019"/>
                  <a:pt x="15131" y="12105"/>
                </a:cubicBezTo>
                <a:cubicBezTo>
                  <a:pt x="15157" y="12174"/>
                  <a:pt x="15119" y="12272"/>
                  <a:pt x="15081" y="12328"/>
                </a:cubicBezTo>
                <a:cubicBezTo>
                  <a:pt x="15018" y="12421"/>
                  <a:pt x="14970" y="12446"/>
                  <a:pt x="14957" y="12551"/>
                </a:cubicBezTo>
                <a:cubicBezTo>
                  <a:pt x="15017" y="12511"/>
                  <a:pt x="15089" y="12486"/>
                  <a:pt x="15156" y="12452"/>
                </a:cubicBezTo>
                <a:cubicBezTo>
                  <a:pt x="15172" y="12444"/>
                  <a:pt x="15189" y="12435"/>
                  <a:pt x="15205" y="12427"/>
                </a:cubicBezTo>
              </a:path>
              <a:path w="4168" h="1564">
                <a:moveTo>
                  <a:pt x="15354" y="12799"/>
                </a:moveTo>
                <a:cubicBezTo>
                  <a:pt x="15362" y="12915"/>
                  <a:pt x="15379" y="13002"/>
                  <a:pt x="15379" y="13122"/>
                </a:cubicBezTo>
                <a:cubicBezTo>
                  <a:pt x="15379" y="13180"/>
                  <a:pt x="15379" y="13205"/>
                  <a:pt x="15379" y="13246"/>
                </a:cubicBezTo>
              </a:path>
              <a:path w="4168" h="1564">
                <a:moveTo>
                  <a:pt x="15180" y="12948"/>
                </a:moveTo>
                <a:cubicBezTo>
                  <a:pt x="15257" y="12977"/>
                  <a:pt x="15320" y="12973"/>
                  <a:pt x="15404" y="12973"/>
                </a:cubicBezTo>
                <a:cubicBezTo>
                  <a:pt x="15500" y="12973"/>
                  <a:pt x="15503" y="12966"/>
                  <a:pt x="15602" y="12923"/>
                </a:cubicBezTo>
              </a:path>
              <a:path w="4168" h="1564">
                <a:moveTo>
                  <a:pt x="15801" y="12526"/>
                </a:moveTo>
                <a:cubicBezTo>
                  <a:pt x="15848" y="12430"/>
                  <a:pt x="15872" y="12441"/>
                  <a:pt x="15949" y="12378"/>
                </a:cubicBezTo>
                <a:cubicBezTo>
                  <a:pt x="16007" y="12330"/>
                  <a:pt x="16056" y="12289"/>
                  <a:pt x="16123" y="12254"/>
                </a:cubicBezTo>
                <a:cubicBezTo>
                  <a:pt x="16166" y="12232"/>
                  <a:pt x="16293" y="12153"/>
                  <a:pt x="16321" y="12254"/>
                </a:cubicBezTo>
                <a:cubicBezTo>
                  <a:pt x="16355" y="12376"/>
                  <a:pt x="16264" y="12507"/>
                  <a:pt x="16247" y="12626"/>
                </a:cubicBezTo>
                <a:cubicBezTo>
                  <a:pt x="16230" y="12743"/>
                  <a:pt x="16202" y="12856"/>
                  <a:pt x="16173" y="12973"/>
                </a:cubicBezTo>
                <a:cubicBezTo>
                  <a:pt x="16146" y="13083"/>
                  <a:pt x="16114" y="13209"/>
                  <a:pt x="16098" y="13320"/>
                </a:cubicBezTo>
                <a:cubicBezTo>
                  <a:pt x="16091" y="13371"/>
                  <a:pt x="16067" y="13516"/>
                  <a:pt x="16148" y="13494"/>
                </a:cubicBezTo>
                <a:cubicBezTo>
                  <a:pt x="16156" y="13486"/>
                  <a:pt x="16165" y="13477"/>
                  <a:pt x="16173" y="13469"/>
                </a:cubicBezTo>
              </a:path>
              <a:path w="4168" h="1564">
                <a:moveTo>
                  <a:pt x="16570" y="12750"/>
                </a:moveTo>
                <a:cubicBezTo>
                  <a:pt x="16578" y="12869"/>
                  <a:pt x="16606" y="12959"/>
                  <a:pt x="16644" y="13072"/>
                </a:cubicBezTo>
                <a:cubicBezTo>
                  <a:pt x="16677" y="13171"/>
                  <a:pt x="16697" y="13244"/>
                  <a:pt x="16768" y="13320"/>
                </a:cubicBezTo>
                <a:cubicBezTo>
                  <a:pt x="16803" y="13355"/>
                  <a:pt x="16825" y="13368"/>
                  <a:pt x="16867" y="13370"/>
                </a:cubicBezTo>
              </a:path>
              <a:path w="4168" h="1564">
                <a:moveTo>
                  <a:pt x="16793" y="12799"/>
                </a:moveTo>
                <a:cubicBezTo>
                  <a:pt x="16680" y="12953"/>
                  <a:pt x="16638" y="13070"/>
                  <a:pt x="16570" y="13246"/>
                </a:cubicBezTo>
                <a:cubicBezTo>
                  <a:pt x="16518" y="13382"/>
                  <a:pt x="16478" y="13476"/>
                  <a:pt x="16446" y="13618"/>
                </a:cubicBezTo>
              </a:path>
              <a:path w="4168" h="1564">
                <a:moveTo>
                  <a:pt x="17214" y="12626"/>
                </a:moveTo>
                <a:cubicBezTo>
                  <a:pt x="17186" y="12713"/>
                  <a:pt x="17168" y="12804"/>
                  <a:pt x="17165" y="12898"/>
                </a:cubicBezTo>
                <a:cubicBezTo>
                  <a:pt x="17161" y="13010"/>
                  <a:pt x="17140" y="13108"/>
                  <a:pt x="17140" y="13221"/>
                </a:cubicBezTo>
                <a:cubicBezTo>
                  <a:pt x="17140" y="13262"/>
                  <a:pt x="17140" y="13270"/>
                  <a:pt x="17140" y="13295"/>
                </a:cubicBezTo>
              </a:path>
              <a:path w="4168" h="1564">
                <a:moveTo>
                  <a:pt x="17066" y="12973"/>
                </a:moveTo>
                <a:cubicBezTo>
                  <a:pt x="17160" y="12973"/>
                  <a:pt x="17249" y="12970"/>
                  <a:pt x="17338" y="12948"/>
                </a:cubicBezTo>
                <a:cubicBezTo>
                  <a:pt x="17363" y="12940"/>
                  <a:pt x="17388" y="12931"/>
                  <a:pt x="17413" y="12923"/>
                </a:cubicBezTo>
              </a:path>
              <a:path w="4168" h="1564">
                <a:moveTo>
                  <a:pt x="17785" y="12626"/>
                </a:moveTo>
                <a:cubicBezTo>
                  <a:pt x="17761" y="12808"/>
                  <a:pt x="17725" y="12968"/>
                  <a:pt x="17686" y="13146"/>
                </a:cubicBezTo>
                <a:cubicBezTo>
                  <a:pt x="17659" y="13268"/>
                  <a:pt x="17643" y="13396"/>
                  <a:pt x="17636" y="13519"/>
                </a:cubicBezTo>
                <a:cubicBezTo>
                  <a:pt x="17636" y="13527"/>
                  <a:pt x="17636" y="13535"/>
                  <a:pt x="17636" y="13543"/>
                </a:cubicBezTo>
              </a:path>
              <a:path w="4168" h="1564">
                <a:moveTo>
                  <a:pt x="18182" y="12427"/>
                </a:moveTo>
                <a:cubicBezTo>
                  <a:pt x="18172" y="12516"/>
                  <a:pt x="18151" y="12614"/>
                  <a:pt x="18132" y="12700"/>
                </a:cubicBezTo>
                <a:cubicBezTo>
                  <a:pt x="18103" y="12830"/>
                  <a:pt x="18093" y="12893"/>
                  <a:pt x="18107" y="13022"/>
                </a:cubicBezTo>
                <a:cubicBezTo>
                  <a:pt x="18120" y="13139"/>
                  <a:pt x="18124" y="13147"/>
                  <a:pt x="18207" y="13196"/>
                </a:cubicBezTo>
                <a:cubicBezTo>
                  <a:pt x="18268" y="13232"/>
                  <a:pt x="18295" y="13216"/>
                  <a:pt x="18355" y="13171"/>
                </a:cubicBezTo>
                <a:cubicBezTo>
                  <a:pt x="18404" y="13134"/>
                  <a:pt x="18426" y="13029"/>
                  <a:pt x="18430" y="12973"/>
                </a:cubicBezTo>
                <a:cubicBezTo>
                  <a:pt x="18438" y="12869"/>
                  <a:pt x="18421" y="12739"/>
                  <a:pt x="18355" y="12650"/>
                </a:cubicBezTo>
                <a:cubicBezTo>
                  <a:pt x="18301" y="12576"/>
                  <a:pt x="18223" y="12519"/>
                  <a:pt x="18132" y="12502"/>
                </a:cubicBezTo>
                <a:cubicBezTo>
                  <a:pt x="18073" y="12491"/>
                  <a:pt x="18039" y="12480"/>
                  <a:pt x="17983" y="124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Ink 11"/>
          <p:cNvSpPr/>
          <p:nvPr/>
        </p:nvSpPr>
        <p:spPr>
          <a:xfrm>
            <a:off x="6848640" y="4249800"/>
            <a:ext cx="430200" cy="457200"/>
          </a:xfrm>
          <a:custGeom>
            <a:avLst/>
            <a:gdLst/>
            <a:ahLst/>
            <a:rect l="l" t="t" r="r" b="b"/>
            <a:pathLst>
              <a:path w="1192" h="1266">
                <a:moveTo>
                  <a:pt x="19025" y="12551"/>
                </a:moveTo>
                <a:cubicBezTo>
                  <a:pt x="19092" y="12511"/>
                  <a:pt x="19171" y="12523"/>
                  <a:pt x="19248" y="12502"/>
                </a:cubicBezTo>
                <a:cubicBezTo>
                  <a:pt x="19296" y="12478"/>
                  <a:pt x="19311" y="12470"/>
                  <a:pt x="19348" y="12477"/>
                </a:cubicBezTo>
              </a:path>
              <a:path w="1192" h="1266">
                <a:moveTo>
                  <a:pt x="19149" y="12774"/>
                </a:moveTo>
                <a:cubicBezTo>
                  <a:pt x="19216" y="12752"/>
                  <a:pt x="19278" y="12743"/>
                  <a:pt x="19348" y="12725"/>
                </a:cubicBezTo>
              </a:path>
              <a:path w="1192" h="1266">
                <a:moveTo>
                  <a:pt x="19893" y="12080"/>
                </a:moveTo>
                <a:cubicBezTo>
                  <a:pt x="19826" y="12128"/>
                  <a:pt x="19807" y="12178"/>
                  <a:pt x="19769" y="12254"/>
                </a:cubicBezTo>
                <a:cubicBezTo>
                  <a:pt x="19727" y="12338"/>
                  <a:pt x="19708" y="12434"/>
                  <a:pt x="19695" y="12526"/>
                </a:cubicBezTo>
                <a:cubicBezTo>
                  <a:pt x="19680" y="12632"/>
                  <a:pt x="19681" y="12694"/>
                  <a:pt x="19695" y="12799"/>
                </a:cubicBezTo>
                <a:cubicBezTo>
                  <a:pt x="19703" y="12855"/>
                  <a:pt x="19723" y="12955"/>
                  <a:pt x="19769" y="12998"/>
                </a:cubicBezTo>
                <a:cubicBezTo>
                  <a:pt x="19816" y="13041"/>
                  <a:pt x="19903" y="13088"/>
                  <a:pt x="19968" y="13072"/>
                </a:cubicBezTo>
                <a:cubicBezTo>
                  <a:pt x="20037" y="13055"/>
                  <a:pt x="20047" y="13028"/>
                  <a:pt x="20092" y="12973"/>
                </a:cubicBezTo>
                <a:cubicBezTo>
                  <a:pt x="20152" y="12900"/>
                  <a:pt x="20201" y="12824"/>
                  <a:pt x="20216" y="12725"/>
                </a:cubicBezTo>
                <a:cubicBezTo>
                  <a:pt x="20239" y="12570"/>
                  <a:pt x="20208" y="12404"/>
                  <a:pt x="20191" y="12254"/>
                </a:cubicBezTo>
                <a:cubicBezTo>
                  <a:pt x="20179" y="12150"/>
                  <a:pt x="20157" y="12055"/>
                  <a:pt x="20117" y="11956"/>
                </a:cubicBezTo>
                <a:cubicBezTo>
                  <a:pt x="20089" y="11888"/>
                  <a:pt x="19992" y="11824"/>
                  <a:pt x="19918" y="11807"/>
                </a:cubicBezTo>
                <a:cubicBezTo>
                  <a:pt x="19860" y="11794"/>
                  <a:pt x="19772" y="11837"/>
                  <a:pt x="19720" y="118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Ink 12"/>
          <p:cNvSpPr/>
          <p:nvPr/>
        </p:nvSpPr>
        <p:spPr>
          <a:xfrm>
            <a:off x="4848120" y="5000760"/>
            <a:ext cx="2733840" cy="758520"/>
          </a:xfrm>
          <a:custGeom>
            <a:avLst/>
            <a:gdLst/>
            <a:ahLst/>
            <a:rect l="l" t="t" r="r" b="b"/>
            <a:pathLst>
              <a:path w="7591" h="2109">
                <a:moveTo>
                  <a:pt x="14114" y="14213"/>
                </a:moveTo>
                <a:cubicBezTo>
                  <a:pt x="14017" y="14262"/>
                  <a:pt x="13984" y="14319"/>
                  <a:pt x="13915" y="14412"/>
                </a:cubicBezTo>
                <a:cubicBezTo>
                  <a:pt x="13789" y="14582"/>
                  <a:pt x="13667" y="14783"/>
                  <a:pt x="13593" y="14982"/>
                </a:cubicBezTo>
                <a:cubicBezTo>
                  <a:pt x="13527" y="15159"/>
                  <a:pt x="13465" y="15436"/>
                  <a:pt x="13469" y="15627"/>
                </a:cubicBezTo>
                <a:cubicBezTo>
                  <a:pt x="13471" y="15722"/>
                  <a:pt x="13495" y="15934"/>
                  <a:pt x="13593" y="15974"/>
                </a:cubicBezTo>
                <a:cubicBezTo>
                  <a:pt x="13627" y="16008"/>
                  <a:pt x="13648" y="16016"/>
                  <a:pt x="13692" y="15999"/>
                </a:cubicBezTo>
              </a:path>
              <a:path w="7591" h="2109">
                <a:moveTo>
                  <a:pt x="16446" y="13891"/>
                </a:moveTo>
                <a:cubicBezTo>
                  <a:pt x="16465" y="13944"/>
                  <a:pt x="16499" y="14059"/>
                  <a:pt x="16495" y="14114"/>
                </a:cubicBezTo>
                <a:cubicBezTo>
                  <a:pt x="16485" y="14270"/>
                  <a:pt x="16448" y="14429"/>
                  <a:pt x="16421" y="14585"/>
                </a:cubicBezTo>
                <a:cubicBezTo>
                  <a:pt x="16380" y="14820"/>
                  <a:pt x="16290" y="15028"/>
                  <a:pt x="16222" y="15255"/>
                </a:cubicBezTo>
                <a:cubicBezTo>
                  <a:pt x="16163" y="15464"/>
                  <a:pt x="16134" y="15556"/>
                  <a:pt x="16073" y="15701"/>
                </a:cubicBezTo>
              </a:path>
              <a:path w="7591" h="2109">
                <a:moveTo>
                  <a:pt x="16842" y="14288"/>
                </a:moveTo>
                <a:cubicBezTo>
                  <a:pt x="16769" y="14426"/>
                  <a:pt x="16715" y="14536"/>
                  <a:pt x="16669" y="14684"/>
                </a:cubicBezTo>
                <a:cubicBezTo>
                  <a:pt x="16601" y="14906"/>
                  <a:pt x="16581" y="15122"/>
                  <a:pt x="16570" y="15354"/>
                </a:cubicBezTo>
                <a:cubicBezTo>
                  <a:pt x="16563" y="15495"/>
                  <a:pt x="16578" y="15732"/>
                  <a:pt x="16669" y="15850"/>
                </a:cubicBezTo>
                <a:cubicBezTo>
                  <a:pt x="16728" y="15928"/>
                  <a:pt x="16904" y="15950"/>
                  <a:pt x="16991" y="15925"/>
                </a:cubicBezTo>
                <a:cubicBezTo>
                  <a:pt x="17024" y="15908"/>
                  <a:pt x="17057" y="15892"/>
                  <a:pt x="17090" y="15875"/>
                </a:cubicBezTo>
              </a:path>
              <a:path w="7591" h="2109">
                <a:moveTo>
                  <a:pt x="18802" y="13891"/>
                </a:moveTo>
                <a:cubicBezTo>
                  <a:pt x="18837" y="13934"/>
                  <a:pt x="18891" y="14007"/>
                  <a:pt x="18901" y="14064"/>
                </a:cubicBezTo>
                <a:cubicBezTo>
                  <a:pt x="18932" y="14241"/>
                  <a:pt x="18888" y="14420"/>
                  <a:pt x="18852" y="14585"/>
                </a:cubicBezTo>
                <a:cubicBezTo>
                  <a:pt x="18801" y="14816"/>
                  <a:pt x="18720" y="15029"/>
                  <a:pt x="18653" y="15255"/>
                </a:cubicBezTo>
                <a:cubicBezTo>
                  <a:pt x="18595" y="15450"/>
                  <a:pt x="18568" y="15625"/>
                  <a:pt x="18554" y="15825"/>
                </a:cubicBezTo>
              </a:path>
              <a:path w="7591" h="2109">
                <a:moveTo>
                  <a:pt x="19298" y="14585"/>
                </a:moveTo>
                <a:cubicBezTo>
                  <a:pt x="19413" y="14537"/>
                  <a:pt x="19499" y="14511"/>
                  <a:pt x="19621" y="14511"/>
                </a:cubicBezTo>
                <a:cubicBezTo>
                  <a:pt x="19629" y="14511"/>
                  <a:pt x="19637" y="14511"/>
                  <a:pt x="19645" y="14511"/>
                </a:cubicBezTo>
              </a:path>
              <a:path w="7591" h="2109">
                <a:moveTo>
                  <a:pt x="19348" y="14883"/>
                </a:moveTo>
                <a:cubicBezTo>
                  <a:pt x="19444" y="14875"/>
                  <a:pt x="19535" y="14858"/>
                  <a:pt x="19621" y="14808"/>
                </a:cubicBezTo>
                <a:cubicBezTo>
                  <a:pt x="19646" y="14792"/>
                  <a:pt x="19670" y="14775"/>
                  <a:pt x="19695" y="14759"/>
                </a:cubicBezTo>
              </a:path>
              <a:path w="7591" h="2109">
                <a:moveTo>
                  <a:pt x="20464" y="14163"/>
                </a:moveTo>
                <a:cubicBezTo>
                  <a:pt x="20488" y="14252"/>
                  <a:pt x="20489" y="14319"/>
                  <a:pt x="20489" y="14412"/>
                </a:cubicBezTo>
                <a:cubicBezTo>
                  <a:pt x="20489" y="14493"/>
                  <a:pt x="20489" y="14584"/>
                  <a:pt x="20513" y="14660"/>
                </a:cubicBezTo>
                <a:cubicBezTo>
                  <a:pt x="20533" y="14722"/>
                  <a:pt x="20600" y="14770"/>
                  <a:pt x="20662" y="14784"/>
                </a:cubicBezTo>
                <a:cubicBezTo>
                  <a:pt x="20738" y="14801"/>
                  <a:pt x="20796" y="14767"/>
                  <a:pt x="20861" y="14734"/>
                </a:cubicBezTo>
                <a:cubicBezTo>
                  <a:pt x="20937" y="14695"/>
                  <a:pt x="20980" y="14615"/>
                  <a:pt x="21010" y="14536"/>
                </a:cubicBezTo>
                <a:cubicBezTo>
                  <a:pt x="21044" y="14446"/>
                  <a:pt x="21077" y="14362"/>
                  <a:pt x="21059" y="14263"/>
                </a:cubicBezTo>
                <a:cubicBezTo>
                  <a:pt x="21037" y="14143"/>
                  <a:pt x="20965" y="14007"/>
                  <a:pt x="20861" y="13940"/>
                </a:cubicBezTo>
                <a:cubicBezTo>
                  <a:pt x="20731" y="13857"/>
                  <a:pt x="20426" y="13943"/>
                  <a:pt x="20315" y="13965"/>
                </a:cubicBezTo>
                <a:cubicBezTo>
                  <a:pt x="20220" y="13983"/>
                  <a:pt x="20138" y="14008"/>
                  <a:pt x="20042" y="14015"/>
                </a:cubicBezTo>
              </a:path>
              <a:path w="7591" h="2109">
                <a:moveTo>
                  <a:pt x="14238" y="14560"/>
                </a:moveTo>
                <a:cubicBezTo>
                  <a:pt x="14220" y="14687"/>
                  <a:pt x="14250" y="14753"/>
                  <a:pt x="14263" y="14883"/>
                </a:cubicBezTo>
                <a:cubicBezTo>
                  <a:pt x="14275" y="15000"/>
                  <a:pt x="14299" y="15113"/>
                  <a:pt x="14312" y="15230"/>
                </a:cubicBezTo>
                <a:cubicBezTo>
                  <a:pt x="14321" y="15309"/>
                  <a:pt x="14331" y="15348"/>
                  <a:pt x="14387" y="15404"/>
                </a:cubicBezTo>
              </a:path>
              <a:path w="7591" h="2109">
                <a:moveTo>
                  <a:pt x="14536" y="14461"/>
                </a:moveTo>
                <a:cubicBezTo>
                  <a:pt x="14435" y="14586"/>
                  <a:pt x="14366" y="14694"/>
                  <a:pt x="14288" y="14833"/>
                </a:cubicBezTo>
                <a:cubicBezTo>
                  <a:pt x="14209" y="14973"/>
                  <a:pt x="14164" y="15103"/>
                  <a:pt x="14114" y="15255"/>
                </a:cubicBezTo>
              </a:path>
              <a:path w="7591" h="2109">
                <a:moveTo>
                  <a:pt x="16768" y="14883"/>
                </a:moveTo>
                <a:cubicBezTo>
                  <a:pt x="16824" y="14939"/>
                  <a:pt x="16835" y="14982"/>
                  <a:pt x="16867" y="15056"/>
                </a:cubicBezTo>
                <a:cubicBezTo>
                  <a:pt x="16906" y="15147"/>
                  <a:pt x="16940" y="15223"/>
                  <a:pt x="16991" y="15304"/>
                </a:cubicBezTo>
                <a:cubicBezTo>
                  <a:pt x="17023" y="15354"/>
                  <a:pt x="17045" y="15367"/>
                  <a:pt x="17090" y="15404"/>
                </a:cubicBezTo>
              </a:path>
              <a:path w="7591" h="2109">
                <a:moveTo>
                  <a:pt x="17066" y="15007"/>
                </a:moveTo>
                <a:cubicBezTo>
                  <a:pt x="16938" y="15312"/>
                  <a:pt x="16871" y="15507"/>
                  <a:pt x="16793" y="15825"/>
                </a:cubicBezTo>
              </a:path>
              <a:path w="7591" h="2109">
                <a:moveTo>
                  <a:pt x="14982" y="14486"/>
                </a:moveTo>
                <a:cubicBezTo>
                  <a:pt x="14919" y="14549"/>
                  <a:pt x="14917" y="14612"/>
                  <a:pt x="14908" y="14709"/>
                </a:cubicBezTo>
                <a:cubicBezTo>
                  <a:pt x="14892" y="14888"/>
                  <a:pt x="14908" y="15075"/>
                  <a:pt x="14908" y="15255"/>
                </a:cubicBezTo>
              </a:path>
              <a:path w="7591" h="2109">
                <a:moveTo>
                  <a:pt x="14660" y="15032"/>
                </a:moveTo>
                <a:cubicBezTo>
                  <a:pt x="14746" y="15032"/>
                  <a:pt x="14778" y="15040"/>
                  <a:pt x="14858" y="15032"/>
                </a:cubicBezTo>
                <a:cubicBezTo>
                  <a:pt x="14924" y="15026"/>
                  <a:pt x="14971" y="15009"/>
                  <a:pt x="15032" y="14982"/>
                </a:cubicBezTo>
              </a:path>
              <a:path w="7591" h="2109">
                <a:moveTo>
                  <a:pt x="15379" y="14362"/>
                </a:moveTo>
                <a:cubicBezTo>
                  <a:pt x="15436" y="14369"/>
                  <a:pt x="15518" y="14410"/>
                  <a:pt x="15577" y="14387"/>
                </a:cubicBezTo>
                <a:cubicBezTo>
                  <a:pt x="15607" y="14357"/>
                  <a:pt x="15621" y="14346"/>
                  <a:pt x="15652" y="14337"/>
                </a:cubicBezTo>
              </a:path>
              <a:path w="7591" h="2109">
                <a:moveTo>
                  <a:pt x="15329" y="14337"/>
                </a:moveTo>
                <a:cubicBezTo>
                  <a:pt x="15301" y="14421"/>
                  <a:pt x="15304" y="14495"/>
                  <a:pt x="15304" y="14585"/>
                </a:cubicBezTo>
                <a:cubicBezTo>
                  <a:pt x="15304" y="14645"/>
                  <a:pt x="15318" y="14664"/>
                  <a:pt x="15354" y="14709"/>
                </a:cubicBezTo>
                <a:cubicBezTo>
                  <a:pt x="15407" y="14682"/>
                  <a:pt x="15454" y="14634"/>
                  <a:pt x="15503" y="14610"/>
                </a:cubicBezTo>
                <a:cubicBezTo>
                  <a:pt x="15584" y="14571"/>
                  <a:pt x="15660" y="14607"/>
                  <a:pt x="15726" y="14660"/>
                </a:cubicBezTo>
                <a:cubicBezTo>
                  <a:pt x="15793" y="14714"/>
                  <a:pt x="15786" y="14813"/>
                  <a:pt x="15751" y="14883"/>
                </a:cubicBezTo>
                <a:cubicBezTo>
                  <a:pt x="15700" y="14985"/>
                  <a:pt x="15622" y="15044"/>
                  <a:pt x="15553" y="15131"/>
                </a:cubicBezTo>
                <a:cubicBezTo>
                  <a:pt x="15488" y="15212"/>
                  <a:pt x="15412" y="15314"/>
                  <a:pt x="15329" y="15379"/>
                </a:cubicBezTo>
                <a:cubicBezTo>
                  <a:pt x="15313" y="15387"/>
                  <a:pt x="15296" y="15396"/>
                  <a:pt x="15280" y="15404"/>
                </a:cubicBezTo>
              </a:path>
              <a:path w="7591" h="2109">
                <a:moveTo>
                  <a:pt x="17438" y="14759"/>
                </a:moveTo>
                <a:cubicBezTo>
                  <a:pt x="17414" y="14852"/>
                  <a:pt x="17409" y="14941"/>
                  <a:pt x="17388" y="15032"/>
                </a:cubicBezTo>
                <a:cubicBezTo>
                  <a:pt x="17365" y="15131"/>
                  <a:pt x="17343" y="15226"/>
                  <a:pt x="17338" y="15329"/>
                </a:cubicBezTo>
                <a:cubicBezTo>
                  <a:pt x="17336" y="15370"/>
                  <a:pt x="17338" y="15412"/>
                  <a:pt x="17338" y="15453"/>
                </a:cubicBezTo>
              </a:path>
              <a:path w="7591" h="2109">
                <a:moveTo>
                  <a:pt x="17314" y="15205"/>
                </a:moveTo>
                <a:cubicBezTo>
                  <a:pt x="17376" y="15174"/>
                  <a:pt x="17445" y="15142"/>
                  <a:pt x="17512" y="15131"/>
                </a:cubicBezTo>
                <a:cubicBezTo>
                  <a:pt x="17570" y="15121"/>
                  <a:pt x="17587" y="15136"/>
                  <a:pt x="17636" y="15106"/>
                </a:cubicBezTo>
              </a:path>
              <a:path w="7591" h="2109">
                <a:moveTo>
                  <a:pt x="17810" y="14635"/>
                </a:moveTo>
                <a:cubicBezTo>
                  <a:pt x="17873" y="14533"/>
                  <a:pt x="17918" y="14470"/>
                  <a:pt x="18058" y="14511"/>
                </a:cubicBezTo>
                <a:cubicBezTo>
                  <a:pt x="18118" y="14529"/>
                  <a:pt x="18168" y="14595"/>
                  <a:pt x="18157" y="14660"/>
                </a:cubicBezTo>
                <a:cubicBezTo>
                  <a:pt x="18143" y="14741"/>
                  <a:pt x="18120" y="14810"/>
                  <a:pt x="18083" y="14883"/>
                </a:cubicBezTo>
                <a:cubicBezTo>
                  <a:pt x="18046" y="14956"/>
                  <a:pt x="18009" y="15042"/>
                  <a:pt x="17959" y="15106"/>
                </a:cubicBezTo>
                <a:cubicBezTo>
                  <a:pt x="17912" y="15165"/>
                  <a:pt x="17872" y="15214"/>
                  <a:pt x="17835" y="15280"/>
                </a:cubicBezTo>
                <a:cubicBezTo>
                  <a:pt x="17884" y="15309"/>
                  <a:pt x="17935" y="15305"/>
                  <a:pt x="17983" y="15329"/>
                </a:cubicBezTo>
                <a:cubicBezTo>
                  <a:pt x="18031" y="15353"/>
                  <a:pt x="18027" y="15385"/>
                  <a:pt x="18033" y="154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Ink 13"/>
          <p:cNvSpPr/>
          <p:nvPr/>
        </p:nvSpPr>
        <p:spPr>
          <a:xfrm>
            <a:off x="5153040" y="5823000"/>
            <a:ext cx="793800" cy="820800"/>
          </a:xfrm>
          <a:custGeom>
            <a:avLst/>
            <a:gdLst/>
            <a:ahLst/>
            <a:rect l="l" t="t" r="r" b="b"/>
            <a:pathLst>
              <a:path w="2209" h="2283">
                <a:moveTo>
                  <a:pt x="14312" y="16446"/>
                </a:moveTo>
                <a:cubicBezTo>
                  <a:pt x="14349" y="16518"/>
                  <a:pt x="14408" y="16601"/>
                  <a:pt x="14436" y="16669"/>
                </a:cubicBezTo>
                <a:cubicBezTo>
                  <a:pt x="14490" y="16801"/>
                  <a:pt x="14518" y="16923"/>
                  <a:pt x="14585" y="17041"/>
                </a:cubicBezTo>
                <a:cubicBezTo>
                  <a:pt x="14605" y="17081"/>
                  <a:pt x="14604" y="17097"/>
                  <a:pt x="14635" y="17090"/>
                </a:cubicBezTo>
              </a:path>
              <a:path w="2209" h="2283">
                <a:moveTo>
                  <a:pt x="14709" y="16470"/>
                </a:moveTo>
                <a:cubicBezTo>
                  <a:pt x="14626" y="16482"/>
                  <a:pt x="14607" y="16522"/>
                  <a:pt x="14560" y="16594"/>
                </a:cubicBezTo>
                <a:cubicBezTo>
                  <a:pt x="14505" y="16679"/>
                  <a:pt x="14432" y="16841"/>
                  <a:pt x="14412" y="16942"/>
                </a:cubicBezTo>
                <a:cubicBezTo>
                  <a:pt x="14412" y="17034"/>
                  <a:pt x="14414" y="17060"/>
                  <a:pt x="14387" y="17115"/>
                </a:cubicBezTo>
              </a:path>
              <a:path w="2209" h="2283">
                <a:moveTo>
                  <a:pt x="14808" y="16371"/>
                </a:moveTo>
                <a:cubicBezTo>
                  <a:pt x="14808" y="16540"/>
                  <a:pt x="14807" y="16706"/>
                  <a:pt x="14833" y="16867"/>
                </a:cubicBezTo>
                <a:cubicBezTo>
                  <a:pt x="14833" y="16912"/>
                  <a:pt x="14830" y="16925"/>
                  <a:pt x="14858" y="16942"/>
                </a:cubicBezTo>
              </a:path>
              <a:path w="2209" h="2283">
                <a:moveTo>
                  <a:pt x="14784" y="16793"/>
                </a:moveTo>
                <a:cubicBezTo>
                  <a:pt x="14837" y="16766"/>
                  <a:pt x="14907" y="16728"/>
                  <a:pt x="14957" y="16718"/>
                </a:cubicBezTo>
                <a:cubicBezTo>
                  <a:pt x="14974" y="16718"/>
                  <a:pt x="14990" y="16718"/>
                  <a:pt x="15007" y="16718"/>
                </a:cubicBezTo>
              </a:path>
              <a:path w="2209" h="2283">
                <a:moveTo>
                  <a:pt x="15230" y="16371"/>
                </a:moveTo>
                <a:cubicBezTo>
                  <a:pt x="15301" y="16318"/>
                  <a:pt x="15364" y="16305"/>
                  <a:pt x="15453" y="16272"/>
                </a:cubicBezTo>
              </a:path>
              <a:path w="2209" h="2283">
                <a:moveTo>
                  <a:pt x="15205" y="16396"/>
                </a:moveTo>
                <a:cubicBezTo>
                  <a:pt x="15161" y="16503"/>
                  <a:pt x="15131" y="16559"/>
                  <a:pt x="15131" y="16669"/>
                </a:cubicBezTo>
                <a:cubicBezTo>
                  <a:pt x="15205" y="16658"/>
                  <a:pt x="15195" y="16632"/>
                  <a:pt x="15255" y="16594"/>
                </a:cubicBezTo>
                <a:cubicBezTo>
                  <a:pt x="15328" y="16548"/>
                  <a:pt x="15363" y="16535"/>
                  <a:pt x="15429" y="16594"/>
                </a:cubicBezTo>
                <a:cubicBezTo>
                  <a:pt x="15489" y="16649"/>
                  <a:pt x="15447" y="16775"/>
                  <a:pt x="15429" y="16842"/>
                </a:cubicBezTo>
                <a:cubicBezTo>
                  <a:pt x="15394" y="16970"/>
                  <a:pt x="15358" y="17094"/>
                  <a:pt x="15304" y="17214"/>
                </a:cubicBezTo>
              </a:path>
              <a:path w="2209" h="2283">
                <a:moveTo>
                  <a:pt x="15478" y="16446"/>
                </a:moveTo>
                <a:cubicBezTo>
                  <a:pt x="15559" y="16472"/>
                  <a:pt x="15591" y="16480"/>
                  <a:pt x="15652" y="16470"/>
                </a:cubicBezTo>
              </a:path>
              <a:path w="2209" h="2283">
                <a:moveTo>
                  <a:pt x="15553" y="16768"/>
                </a:moveTo>
                <a:cubicBezTo>
                  <a:pt x="15614" y="16759"/>
                  <a:pt x="15609" y="16761"/>
                  <a:pt x="15652" y="16718"/>
                </a:cubicBezTo>
              </a:path>
              <a:path w="2209" h="2283">
                <a:moveTo>
                  <a:pt x="15925" y="16173"/>
                </a:moveTo>
                <a:cubicBezTo>
                  <a:pt x="15905" y="16287"/>
                  <a:pt x="15900" y="16380"/>
                  <a:pt x="15900" y="16495"/>
                </a:cubicBezTo>
                <a:cubicBezTo>
                  <a:pt x="15900" y="16578"/>
                  <a:pt x="15887" y="16666"/>
                  <a:pt x="15925" y="16743"/>
                </a:cubicBezTo>
                <a:cubicBezTo>
                  <a:pt x="15946" y="16787"/>
                  <a:pt x="16027" y="16845"/>
                  <a:pt x="16073" y="16842"/>
                </a:cubicBezTo>
                <a:cubicBezTo>
                  <a:pt x="16111" y="16840"/>
                  <a:pt x="16192" y="16760"/>
                  <a:pt x="16197" y="16718"/>
                </a:cubicBezTo>
                <a:cubicBezTo>
                  <a:pt x="16207" y="16637"/>
                  <a:pt x="16207" y="16514"/>
                  <a:pt x="16173" y="16446"/>
                </a:cubicBezTo>
                <a:cubicBezTo>
                  <a:pt x="16135" y="16370"/>
                  <a:pt x="16109" y="16351"/>
                  <a:pt x="16049" y="16297"/>
                </a:cubicBezTo>
                <a:cubicBezTo>
                  <a:pt x="16010" y="16262"/>
                  <a:pt x="15951" y="16252"/>
                  <a:pt x="15900" y="16222"/>
                </a:cubicBezTo>
              </a:path>
              <a:path w="2209" h="2283">
                <a:moveTo>
                  <a:pt x="14908" y="17636"/>
                </a:moveTo>
                <a:cubicBezTo>
                  <a:pt x="14920" y="17732"/>
                  <a:pt x="14967" y="17772"/>
                  <a:pt x="15007" y="17859"/>
                </a:cubicBezTo>
                <a:cubicBezTo>
                  <a:pt x="15056" y="17966"/>
                  <a:pt x="15110" y="18065"/>
                  <a:pt x="15180" y="18157"/>
                </a:cubicBezTo>
                <a:cubicBezTo>
                  <a:pt x="15210" y="18187"/>
                  <a:pt x="15224" y="18198"/>
                  <a:pt x="15255" y="18207"/>
                </a:cubicBezTo>
              </a:path>
              <a:path w="2209" h="2283">
                <a:moveTo>
                  <a:pt x="15056" y="17562"/>
                </a:moveTo>
                <a:cubicBezTo>
                  <a:pt x="14957" y="17745"/>
                  <a:pt x="14940" y="17816"/>
                  <a:pt x="14908" y="18008"/>
                </a:cubicBezTo>
                <a:cubicBezTo>
                  <a:pt x="14885" y="18098"/>
                  <a:pt x="14877" y="18122"/>
                  <a:pt x="14883" y="18182"/>
                </a:cubicBezTo>
              </a:path>
              <a:path w="2209" h="2283">
                <a:moveTo>
                  <a:pt x="15230" y="17711"/>
                </a:moveTo>
                <a:cubicBezTo>
                  <a:pt x="15313" y="17711"/>
                  <a:pt x="15395" y="17711"/>
                  <a:pt x="15478" y="17711"/>
                </a:cubicBezTo>
              </a:path>
              <a:path w="2209" h="2283">
                <a:moveTo>
                  <a:pt x="15304" y="17859"/>
                </a:moveTo>
                <a:cubicBezTo>
                  <a:pt x="15374" y="17851"/>
                  <a:pt x="15443" y="17826"/>
                  <a:pt x="15503" y="17810"/>
                </a:cubicBezTo>
                <a:cubicBezTo>
                  <a:pt x="15511" y="17810"/>
                  <a:pt x="15520" y="17810"/>
                  <a:pt x="15528" y="17810"/>
                </a:cubicBezTo>
              </a:path>
              <a:path w="2209" h="2283">
                <a:moveTo>
                  <a:pt x="15701" y="17487"/>
                </a:moveTo>
                <a:cubicBezTo>
                  <a:pt x="15759" y="17452"/>
                  <a:pt x="15835" y="17450"/>
                  <a:pt x="15900" y="17413"/>
                </a:cubicBezTo>
                <a:cubicBezTo>
                  <a:pt x="15908" y="17405"/>
                  <a:pt x="15917" y="17396"/>
                  <a:pt x="15925" y="17388"/>
                </a:cubicBezTo>
              </a:path>
              <a:path w="2209" h="2283">
                <a:moveTo>
                  <a:pt x="16148" y="17090"/>
                </a:moveTo>
                <a:cubicBezTo>
                  <a:pt x="16263" y="17134"/>
                  <a:pt x="16279" y="17100"/>
                  <a:pt x="16371" y="17016"/>
                </a:cubicBezTo>
              </a:path>
              <a:path w="2209" h="2283">
                <a:moveTo>
                  <a:pt x="16123" y="17239"/>
                </a:moveTo>
                <a:cubicBezTo>
                  <a:pt x="16105" y="17312"/>
                  <a:pt x="16098" y="17363"/>
                  <a:pt x="16098" y="17438"/>
                </a:cubicBezTo>
                <a:cubicBezTo>
                  <a:pt x="16138" y="17398"/>
                  <a:pt x="16160" y="17355"/>
                  <a:pt x="16197" y="17314"/>
                </a:cubicBezTo>
                <a:cubicBezTo>
                  <a:pt x="16249" y="17256"/>
                  <a:pt x="16258" y="17264"/>
                  <a:pt x="16321" y="17289"/>
                </a:cubicBezTo>
                <a:cubicBezTo>
                  <a:pt x="16424" y="17331"/>
                  <a:pt x="16415" y="17349"/>
                  <a:pt x="16446" y="17438"/>
                </a:cubicBezTo>
                <a:cubicBezTo>
                  <a:pt x="16473" y="17517"/>
                  <a:pt x="16514" y="17602"/>
                  <a:pt x="16520" y="17686"/>
                </a:cubicBezTo>
                <a:cubicBezTo>
                  <a:pt x="16530" y="17826"/>
                  <a:pt x="16496" y="17970"/>
                  <a:pt x="16470" y="18107"/>
                </a:cubicBezTo>
                <a:cubicBezTo>
                  <a:pt x="16453" y="18196"/>
                  <a:pt x="16442" y="18384"/>
                  <a:pt x="16371" y="18455"/>
                </a:cubicBezTo>
                <a:cubicBezTo>
                  <a:pt x="16363" y="18455"/>
                  <a:pt x="16354" y="18455"/>
                  <a:pt x="16346" y="184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Ink 14"/>
          <p:cNvSpPr/>
          <p:nvPr/>
        </p:nvSpPr>
        <p:spPr>
          <a:xfrm>
            <a:off x="6197760" y="5661000"/>
            <a:ext cx="785520" cy="366840"/>
          </a:xfrm>
          <a:custGeom>
            <a:avLst/>
            <a:gdLst/>
            <a:ahLst/>
            <a:rect l="l" t="t" r="r" b="b"/>
            <a:pathLst>
              <a:path w="2184" h="1018">
                <a:moveTo>
                  <a:pt x="17314" y="16222"/>
                </a:moveTo>
                <a:cubicBezTo>
                  <a:pt x="17347" y="16273"/>
                  <a:pt x="17399" y="16358"/>
                  <a:pt x="17413" y="16421"/>
                </a:cubicBezTo>
                <a:cubicBezTo>
                  <a:pt x="17427" y="16484"/>
                  <a:pt x="17452" y="16576"/>
                  <a:pt x="17512" y="16619"/>
                </a:cubicBezTo>
                <a:cubicBezTo>
                  <a:pt x="17579" y="16667"/>
                  <a:pt x="17610" y="16726"/>
                  <a:pt x="17711" y="16694"/>
                </a:cubicBezTo>
                <a:cubicBezTo>
                  <a:pt x="17719" y="16686"/>
                  <a:pt x="17727" y="16677"/>
                  <a:pt x="17735" y="16669"/>
                </a:cubicBezTo>
              </a:path>
              <a:path w="2184" h="1018">
                <a:moveTo>
                  <a:pt x="17537" y="16123"/>
                </a:moveTo>
                <a:cubicBezTo>
                  <a:pt x="17436" y="16208"/>
                  <a:pt x="17394" y="16255"/>
                  <a:pt x="17338" y="16371"/>
                </a:cubicBezTo>
                <a:cubicBezTo>
                  <a:pt x="17290" y="16470"/>
                  <a:pt x="17234" y="16585"/>
                  <a:pt x="17214" y="16694"/>
                </a:cubicBezTo>
                <a:cubicBezTo>
                  <a:pt x="17214" y="16710"/>
                  <a:pt x="17214" y="16727"/>
                  <a:pt x="17214" y="16743"/>
                </a:cubicBezTo>
              </a:path>
              <a:path w="2184" h="1018">
                <a:moveTo>
                  <a:pt x="17835" y="16197"/>
                </a:moveTo>
                <a:cubicBezTo>
                  <a:pt x="17835" y="16362"/>
                  <a:pt x="17817" y="16535"/>
                  <a:pt x="17859" y="16694"/>
                </a:cubicBezTo>
              </a:path>
              <a:path w="2184" h="1018">
                <a:moveTo>
                  <a:pt x="17661" y="16396"/>
                </a:moveTo>
                <a:cubicBezTo>
                  <a:pt x="17725" y="16388"/>
                  <a:pt x="17798" y="16366"/>
                  <a:pt x="17859" y="16346"/>
                </a:cubicBezTo>
                <a:cubicBezTo>
                  <a:pt x="17876" y="16338"/>
                  <a:pt x="17892" y="16329"/>
                  <a:pt x="17909" y="16321"/>
                </a:cubicBezTo>
              </a:path>
              <a:path w="2184" h="1018">
                <a:moveTo>
                  <a:pt x="18157" y="16049"/>
                </a:moveTo>
                <a:cubicBezTo>
                  <a:pt x="18252" y="16102"/>
                  <a:pt x="18231" y="16139"/>
                  <a:pt x="18231" y="16247"/>
                </a:cubicBezTo>
                <a:cubicBezTo>
                  <a:pt x="18231" y="16309"/>
                  <a:pt x="18203" y="16361"/>
                  <a:pt x="18182" y="16421"/>
                </a:cubicBezTo>
                <a:cubicBezTo>
                  <a:pt x="18174" y="16446"/>
                  <a:pt x="18165" y="16470"/>
                  <a:pt x="18157" y="16495"/>
                </a:cubicBezTo>
                <a:cubicBezTo>
                  <a:pt x="18247" y="16540"/>
                  <a:pt x="18282" y="16513"/>
                  <a:pt x="18355" y="16446"/>
                </a:cubicBezTo>
                <a:cubicBezTo>
                  <a:pt x="18388" y="16413"/>
                  <a:pt x="18405" y="16396"/>
                  <a:pt x="18430" y="16371"/>
                </a:cubicBezTo>
              </a:path>
              <a:path w="2184" h="1018">
                <a:moveTo>
                  <a:pt x="18504" y="16049"/>
                </a:moveTo>
                <a:cubicBezTo>
                  <a:pt x="18564" y="16042"/>
                  <a:pt x="18618" y="16031"/>
                  <a:pt x="18678" y="16024"/>
                </a:cubicBezTo>
              </a:path>
              <a:path w="2184" h="1018">
                <a:moveTo>
                  <a:pt x="18554" y="16222"/>
                </a:moveTo>
                <a:cubicBezTo>
                  <a:pt x="18701" y="16211"/>
                  <a:pt x="18701" y="16193"/>
                  <a:pt x="18802" y="16073"/>
                </a:cubicBezTo>
              </a:path>
              <a:path w="2184" h="1018">
                <a:moveTo>
                  <a:pt x="19100" y="15726"/>
                </a:moveTo>
                <a:cubicBezTo>
                  <a:pt x="19074" y="15842"/>
                  <a:pt x="19021" y="15958"/>
                  <a:pt x="19000" y="16073"/>
                </a:cubicBezTo>
                <a:cubicBezTo>
                  <a:pt x="18986" y="16147"/>
                  <a:pt x="18988" y="16256"/>
                  <a:pt x="19025" y="16321"/>
                </a:cubicBezTo>
                <a:cubicBezTo>
                  <a:pt x="19049" y="16363"/>
                  <a:pt x="19100" y="16405"/>
                  <a:pt x="19149" y="16396"/>
                </a:cubicBezTo>
                <a:cubicBezTo>
                  <a:pt x="19240" y="16379"/>
                  <a:pt x="19304" y="16323"/>
                  <a:pt x="19348" y="16247"/>
                </a:cubicBezTo>
                <a:cubicBezTo>
                  <a:pt x="19374" y="16203"/>
                  <a:pt x="19406" y="16100"/>
                  <a:pt x="19397" y="16049"/>
                </a:cubicBezTo>
                <a:cubicBezTo>
                  <a:pt x="19387" y="15994"/>
                  <a:pt x="19369" y="15890"/>
                  <a:pt x="19323" y="15850"/>
                </a:cubicBezTo>
                <a:cubicBezTo>
                  <a:pt x="19272" y="15806"/>
                  <a:pt x="19212" y="15801"/>
                  <a:pt x="19149" y="15801"/>
                </a:cubicBezTo>
                <a:cubicBezTo>
                  <a:pt x="19100" y="15801"/>
                  <a:pt x="19083" y="15801"/>
                  <a:pt x="19050" y="158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15"/>
          <p:cNvSpPr/>
          <p:nvPr/>
        </p:nvSpPr>
        <p:spPr>
          <a:xfrm>
            <a:off x="6392880" y="6062760"/>
            <a:ext cx="733320" cy="465120"/>
          </a:xfrm>
          <a:custGeom>
            <a:avLst/>
            <a:gdLst/>
            <a:ahLst/>
            <a:rect l="l" t="t" r="r" b="b"/>
            <a:pathLst>
              <a:path w="2035" h="1291">
                <a:moveTo>
                  <a:pt x="17785" y="17537"/>
                </a:moveTo>
                <a:cubicBezTo>
                  <a:pt x="17830" y="17653"/>
                  <a:pt x="17857" y="17798"/>
                  <a:pt x="17909" y="17909"/>
                </a:cubicBezTo>
                <a:cubicBezTo>
                  <a:pt x="17939" y="17973"/>
                  <a:pt x="18011" y="18111"/>
                  <a:pt x="18083" y="18132"/>
                </a:cubicBezTo>
                <a:cubicBezTo>
                  <a:pt x="18127" y="18132"/>
                  <a:pt x="18141" y="18135"/>
                  <a:pt x="18157" y="18107"/>
                </a:cubicBezTo>
              </a:path>
              <a:path w="2035" h="1291">
                <a:moveTo>
                  <a:pt x="18033" y="17314"/>
                </a:moveTo>
                <a:cubicBezTo>
                  <a:pt x="17900" y="17438"/>
                  <a:pt x="17860" y="17507"/>
                  <a:pt x="17810" y="17686"/>
                </a:cubicBezTo>
                <a:cubicBezTo>
                  <a:pt x="17769" y="17832"/>
                  <a:pt x="17766" y="17926"/>
                  <a:pt x="17760" y="18083"/>
                </a:cubicBezTo>
              </a:path>
              <a:path w="2035" h="1291">
                <a:moveTo>
                  <a:pt x="18033" y="17686"/>
                </a:moveTo>
                <a:cubicBezTo>
                  <a:pt x="18121" y="17638"/>
                  <a:pt x="18190" y="17601"/>
                  <a:pt x="18281" y="17562"/>
                </a:cubicBezTo>
                <a:cubicBezTo>
                  <a:pt x="18321" y="17542"/>
                  <a:pt x="18328" y="17533"/>
                  <a:pt x="18355" y="17537"/>
                </a:cubicBezTo>
              </a:path>
              <a:path w="2035" h="1291">
                <a:moveTo>
                  <a:pt x="18182" y="17760"/>
                </a:moveTo>
                <a:cubicBezTo>
                  <a:pt x="18237" y="17732"/>
                  <a:pt x="18315" y="17726"/>
                  <a:pt x="18380" y="17711"/>
                </a:cubicBezTo>
                <a:cubicBezTo>
                  <a:pt x="18388" y="17711"/>
                  <a:pt x="18397" y="17711"/>
                  <a:pt x="18405" y="17711"/>
                </a:cubicBezTo>
              </a:path>
              <a:path w="2035" h="1291">
                <a:moveTo>
                  <a:pt x="18703" y="17438"/>
                </a:moveTo>
                <a:cubicBezTo>
                  <a:pt x="18734" y="17420"/>
                  <a:pt x="18796" y="17347"/>
                  <a:pt x="18827" y="17338"/>
                </a:cubicBezTo>
                <a:cubicBezTo>
                  <a:pt x="18843" y="17338"/>
                  <a:pt x="18860" y="17338"/>
                  <a:pt x="18876" y="17338"/>
                </a:cubicBezTo>
              </a:path>
              <a:path w="2035" h="1291">
                <a:moveTo>
                  <a:pt x="19025" y="17066"/>
                </a:moveTo>
                <a:cubicBezTo>
                  <a:pt x="19051" y="17015"/>
                  <a:pt x="19073" y="16950"/>
                  <a:pt x="19124" y="16917"/>
                </a:cubicBezTo>
                <a:cubicBezTo>
                  <a:pt x="19200" y="16868"/>
                  <a:pt x="19320" y="16805"/>
                  <a:pt x="19397" y="16867"/>
                </a:cubicBezTo>
                <a:cubicBezTo>
                  <a:pt x="19471" y="16927"/>
                  <a:pt x="19472" y="16951"/>
                  <a:pt x="19472" y="17041"/>
                </a:cubicBezTo>
                <a:cubicBezTo>
                  <a:pt x="19472" y="17130"/>
                  <a:pt x="19458" y="17209"/>
                  <a:pt x="19422" y="17289"/>
                </a:cubicBezTo>
                <a:cubicBezTo>
                  <a:pt x="19392" y="17356"/>
                  <a:pt x="19382" y="17418"/>
                  <a:pt x="19348" y="17487"/>
                </a:cubicBezTo>
                <a:cubicBezTo>
                  <a:pt x="19316" y="17552"/>
                  <a:pt x="19325" y="17584"/>
                  <a:pt x="19273" y="17636"/>
                </a:cubicBezTo>
                <a:cubicBezTo>
                  <a:pt x="19220" y="17689"/>
                  <a:pt x="19214" y="17726"/>
                  <a:pt x="19248" y="17785"/>
                </a:cubicBezTo>
                <a:cubicBezTo>
                  <a:pt x="19317" y="17759"/>
                  <a:pt x="19397" y="17725"/>
                  <a:pt x="19472" y="17711"/>
                </a:cubicBezTo>
                <a:cubicBezTo>
                  <a:pt x="19567" y="17693"/>
                  <a:pt x="19630" y="17703"/>
                  <a:pt x="19720" y="17711"/>
                </a:cubicBezTo>
                <a:cubicBezTo>
                  <a:pt x="19761" y="17711"/>
                  <a:pt x="19769" y="17711"/>
                  <a:pt x="19794" y="177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16"/>
          <p:cNvSpPr/>
          <p:nvPr/>
        </p:nvSpPr>
        <p:spPr>
          <a:xfrm>
            <a:off x="5160960" y="5938920"/>
            <a:ext cx="2081160" cy="704880"/>
          </a:xfrm>
          <a:custGeom>
            <a:avLst/>
            <a:gdLst/>
            <a:ahLst/>
            <a:rect l="l" t="t" r="r" b="b"/>
            <a:pathLst>
              <a:path w="5781" h="1961">
                <a:moveTo>
                  <a:pt x="19993" y="16669"/>
                </a:moveTo>
                <a:cubicBezTo>
                  <a:pt x="19889" y="16622"/>
                  <a:pt x="19897" y="16623"/>
                  <a:pt x="19794" y="16619"/>
                </a:cubicBezTo>
                <a:cubicBezTo>
                  <a:pt x="19609" y="16612"/>
                  <a:pt x="19426" y="16605"/>
                  <a:pt x="19248" y="16594"/>
                </a:cubicBezTo>
                <a:cubicBezTo>
                  <a:pt x="19150" y="16588"/>
                  <a:pt x="19046" y="16575"/>
                  <a:pt x="18951" y="16570"/>
                </a:cubicBezTo>
                <a:cubicBezTo>
                  <a:pt x="18513" y="16546"/>
                  <a:pt x="18043" y="16544"/>
                  <a:pt x="17611" y="16594"/>
                </a:cubicBezTo>
                <a:cubicBezTo>
                  <a:pt x="17479" y="16609"/>
                  <a:pt x="17345" y="16626"/>
                  <a:pt x="17214" y="16644"/>
                </a:cubicBezTo>
                <a:cubicBezTo>
                  <a:pt x="17094" y="16660"/>
                  <a:pt x="16963" y="16687"/>
                  <a:pt x="16842" y="16694"/>
                </a:cubicBezTo>
                <a:cubicBezTo>
                  <a:pt x="16723" y="16701"/>
                  <a:pt x="16612" y="16703"/>
                  <a:pt x="16495" y="16718"/>
                </a:cubicBezTo>
                <a:cubicBezTo>
                  <a:pt x="16377" y="16733"/>
                  <a:pt x="16266" y="16770"/>
                  <a:pt x="16148" y="16793"/>
                </a:cubicBezTo>
                <a:cubicBezTo>
                  <a:pt x="16037" y="16814"/>
                  <a:pt x="15935" y="16836"/>
                  <a:pt x="15825" y="16867"/>
                </a:cubicBezTo>
                <a:cubicBezTo>
                  <a:pt x="15709" y="16900"/>
                  <a:pt x="15611" y="16940"/>
                  <a:pt x="15503" y="16991"/>
                </a:cubicBezTo>
                <a:cubicBezTo>
                  <a:pt x="15400" y="17040"/>
                  <a:pt x="15308" y="17117"/>
                  <a:pt x="15205" y="17165"/>
                </a:cubicBezTo>
                <a:cubicBezTo>
                  <a:pt x="15111" y="17208"/>
                  <a:pt x="15023" y="17238"/>
                  <a:pt x="14932" y="17289"/>
                </a:cubicBezTo>
                <a:cubicBezTo>
                  <a:pt x="14817" y="17354"/>
                  <a:pt x="14668" y="17428"/>
                  <a:pt x="14560" y="17487"/>
                </a:cubicBezTo>
                <a:cubicBezTo>
                  <a:pt x="14503" y="17518"/>
                  <a:pt x="14455" y="17537"/>
                  <a:pt x="14412" y="17587"/>
                </a:cubicBezTo>
                <a:cubicBezTo>
                  <a:pt x="14358" y="17649"/>
                  <a:pt x="14351" y="17686"/>
                  <a:pt x="14337" y="17785"/>
                </a:cubicBezTo>
                <a:cubicBezTo>
                  <a:pt x="14320" y="17910"/>
                  <a:pt x="14344" y="18037"/>
                  <a:pt x="14362" y="18157"/>
                </a:cubicBezTo>
                <a:cubicBezTo>
                  <a:pt x="14374" y="18237"/>
                  <a:pt x="14366" y="18281"/>
                  <a:pt x="14412" y="18355"/>
                </a:cubicBezTo>
                <a:cubicBezTo>
                  <a:pt x="14465" y="18440"/>
                  <a:pt x="14465" y="18423"/>
                  <a:pt x="14536" y="18430"/>
                </a:cubicBezTo>
                <a:cubicBezTo>
                  <a:pt x="14584" y="18435"/>
                  <a:pt x="14657" y="18413"/>
                  <a:pt x="14709" y="18405"/>
                </a:cubicBezTo>
                <a:cubicBezTo>
                  <a:pt x="14770" y="18395"/>
                  <a:pt x="14880" y="18359"/>
                  <a:pt x="14932" y="18355"/>
                </a:cubicBezTo>
                <a:cubicBezTo>
                  <a:pt x="15059" y="18346"/>
                  <a:pt x="15179" y="18350"/>
                  <a:pt x="15304" y="18331"/>
                </a:cubicBezTo>
                <a:cubicBezTo>
                  <a:pt x="15372" y="18320"/>
                  <a:pt x="15470" y="18285"/>
                  <a:pt x="15528" y="18281"/>
                </a:cubicBezTo>
                <a:cubicBezTo>
                  <a:pt x="15883" y="18254"/>
                  <a:pt x="16241" y="18299"/>
                  <a:pt x="16594" y="18306"/>
                </a:cubicBezTo>
                <a:cubicBezTo>
                  <a:pt x="16745" y="18309"/>
                  <a:pt x="16895" y="18323"/>
                  <a:pt x="17041" y="18331"/>
                </a:cubicBezTo>
                <a:cubicBezTo>
                  <a:pt x="17181" y="18339"/>
                  <a:pt x="17326" y="18347"/>
                  <a:pt x="17462" y="18355"/>
                </a:cubicBezTo>
                <a:cubicBezTo>
                  <a:pt x="17561" y="18361"/>
                  <a:pt x="17665" y="18375"/>
                  <a:pt x="17760" y="18380"/>
                </a:cubicBezTo>
                <a:cubicBezTo>
                  <a:pt x="17863" y="18386"/>
                  <a:pt x="17957" y="18391"/>
                  <a:pt x="18058" y="18405"/>
                </a:cubicBezTo>
                <a:cubicBezTo>
                  <a:pt x="18166" y="18420"/>
                  <a:pt x="18270" y="18428"/>
                  <a:pt x="18380" y="18430"/>
                </a:cubicBezTo>
                <a:cubicBezTo>
                  <a:pt x="18508" y="18432"/>
                  <a:pt x="18630" y="18412"/>
                  <a:pt x="18752" y="18405"/>
                </a:cubicBezTo>
                <a:cubicBezTo>
                  <a:pt x="18887" y="18397"/>
                  <a:pt x="18995" y="18375"/>
                  <a:pt x="19124" y="18355"/>
                </a:cubicBezTo>
                <a:cubicBezTo>
                  <a:pt x="19250" y="18335"/>
                  <a:pt x="19372" y="18306"/>
                  <a:pt x="19496" y="18281"/>
                </a:cubicBezTo>
                <a:cubicBezTo>
                  <a:pt x="19571" y="18266"/>
                  <a:pt x="19645" y="18246"/>
                  <a:pt x="19720" y="18231"/>
                </a:cubicBezTo>
                <a:cubicBezTo>
                  <a:pt x="19794" y="18217"/>
                  <a:pt x="19868" y="18196"/>
                  <a:pt x="19943" y="18182"/>
                </a:cubicBezTo>
                <a:cubicBezTo>
                  <a:pt x="19983" y="18174"/>
                  <a:pt x="20096" y="18162"/>
                  <a:pt x="20117" y="18107"/>
                </a:cubicBezTo>
                <a:cubicBezTo>
                  <a:pt x="20139" y="18049"/>
                  <a:pt x="20099" y="17986"/>
                  <a:pt x="20092" y="17934"/>
                </a:cubicBezTo>
                <a:cubicBezTo>
                  <a:pt x="20070" y="17775"/>
                  <a:pt x="20003" y="17622"/>
                  <a:pt x="19968" y="17462"/>
                </a:cubicBezTo>
                <a:cubicBezTo>
                  <a:pt x="19943" y="17350"/>
                  <a:pt x="19917" y="17231"/>
                  <a:pt x="19893" y="17115"/>
                </a:cubicBezTo>
                <a:cubicBezTo>
                  <a:pt x="19872" y="17011"/>
                  <a:pt x="19861" y="16898"/>
                  <a:pt x="19844" y="16793"/>
                </a:cubicBezTo>
                <a:cubicBezTo>
                  <a:pt x="19833" y="16725"/>
                  <a:pt x="19805" y="16661"/>
                  <a:pt x="19794" y="16594"/>
                </a:cubicBezTo>
                <a:cubicBezTo>
                  <a:pt x="19794" y="16545"/>
                  <a:pt x="19794" y="16528"/>
                  <a:pt x="19794" y="164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mplied Domai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of all real numbers for which a function or expression would be def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to find the domain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omain is all real numbers except in the following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quare root cannot be negative (so… set the equati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0 and solve to find the 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enominator can’t be zero, so set the factors of the denominator equal to zero and solve each eq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4"/>
          <p:cNvSpPr/>
          <p:nvPr/>
        </p:nvSpPr>
        <p:spPr>
          <a:xfrm>
            <a:off x="1527120" y="2660760"/>
            <a:ext cx="1054080" cy="403200"/>
          </a:xfrm>
          <a:custGeom>
            <a:avLst/>
            <a:gdLst/>
            <a:ahLst/>
            <a:rect l="l" t="t" r="r" b="b"/>
            <a:pathLst>
              <a:path w="2928" h="1117">
                <a:moveTo>
                  <a:pt x="4688" y="8062"/>
                </a:moveTo>
                <a:cubicBezTo>
                  <a:pt x="4757" y="8076"/>
                  <a:pt x="4829" y="8086"/>
                  <a:pt x="4911" y="8086"/>
                </a:cubicBezTo>
                <a:cubicBezTo>
                  <a:pt x="5071" y="8086"/>
                  <a:pt x="5224" y="8071"/>
                  <a:pt x="5383" y="8062"/>
                </a:cubicBezTo>
                <a:cubicBezTo>
                  <a:pt x="5771" y="8041"/>
                  <a:pt x="6163" y="8068"/>
                  <a:pt x="6548" y="8086"/>
                </a:cubicBezTo>
                <a:cubicBezTo>
                  <a:pt x="6722" y="8094"/>
                  <a:pt x="6898" y="8107"/>
                  <a:pt x="7069" y="8136"/>
                </a:cubicBezTo>
                <a:cubicBezTo>
                  <a:pt x="7102" y="8144"/>
                  <a:pt x="7136" y="8153"/>
                  <a:pt x="7169" y="8161"/>
                </a:cubicBezTo>
                <a:cubicBezTo>
                  <a:pt x="7028" y="8161"/>
                  <a:pt x="6910" y="8124"/>
                  <a:pt x="6772" y="8111"/>
                </a:cubicBezTo>
                <a:cubicBezTo>
                  <a:pt x="6573" y="8093"/>
                  <a:pt x="6376" y="8065"/>
                  <a:pt x="6176" y="8062"/>
                </a:cubicBezTo>
                <a:cubicBezTo>
                  <a:pt x="5820" y="8056"/>
                  <a:pt x="5463" y="8060"/>
                  <a:pt x="5110" y="8086"/>
                </a:cubicBezTo>
                <a:cubicBezTo>
                  <a:pt x="5021" y="8092"/>
                  <a:pt x="4968" y="8083"/>
                  <a:pt x="4887" y="8111"/>
                </a:cubicBezTo>
                <a:cubicBezTo>
                  <a:pt x="4998" y="8111"/>
                  <a:pt x="5101" y="8128"/>
                  <a:pt x="5209" y="8136"/>
                </a:cubicBezTo>
                <a:cubicBezTo>
                  <a:pt x="5484" y="8156"/>
                  <a:pt x="5752" y="8174"/>
                  <a:pt x="6028" y="8210"/>
                </a:cubicBezTo>
                <a:cubicBezTo>
                  <a:pt x="6219" y="8235"/>
                  <a:pt x="6407" y="8250"/>
                  <a:pt x="6598" y="8285"/>
                </a:cubicBezTo>
                <a:cubicBezTo>
                  <a:pt x="6745" y="8312"/>
                  <a:pt x="6905" y="8331"/>
                  <a:pt x="7045" y="8384"/>
                </a:cubicBezTo>
                <a:cubicBezTo>
                  <a:pt x="7061" y="8392"/>
                  <a:pt x="7078" y="8401"/>
                  <a:pt x="7094" y="8409"/>
                </a:cubicBezTo>
                <a:cubicBezTo>
                  <a:pt x="6972" y="8409"/>
                  <a:pt x="6867" y="8384"/>
                  <a:pt x="6747" y="8359"/>
                </a:cubicBezTo>
                <a:cubicBezTo>
                  <a:pt x="6566" y="8322"/>
                  <a:pt x="6361" y="8299"/>
                  <a:pt x="6176" y="8285"/>
                </a:cubicBezTo>
                <a:cubicBezTo>
                  <a:pt x="5904" y="8265"/>
                  <a:pt x="5627" y="8290"/>
                  <a:pt x="5358" y="8310"/>
                </a:cubicBezTo>
                <a:cubicBezTo>
                  <a:pt x="5263" y="8317"/>
                  <a:pt x="5190" y="8332"/>
                  <a:pt x="5110" y="8359"/>
                </a:cubicBezTo>
                <a:cubicBezTo>
                  <a:pt x="5204" y="8411"/>
                  <a:pt x="5219" y="8394"/>
                  <a:pt x="5333" y="8409"/>
                </a:cubicBezTo>
                <a:cubicBezTo>
                  <a:pt x="5508" y="8432"/>
                  <a:pt x="5679" y="8418"/>
                  <a:pt x="5854" y="8434"/>
                </a:cubicBezTo>
                <a:cubicBezTo>
                  <a:pt x="6021" y="8449"/>
                  <a:pt x="6213" y="8446"/>
                  <a:pt x="6375" y="8483"/>
                </a:cubicBezTo>
                <a:cubicBezTo>
                  <a:pt x="6424" y="8508"/>
                  <a:pt x="6441" y="8516"/>
                  <a:pt x="6474" y="8483"/>
                </a:cubicBezTo>
              </a:path>
              <a:path w="2928" h="1117">
                <a:moveTo>
                  <a:pt x="4936" y="7565"/>
                </a:moveTo>
                <a:cubicBezTo>
                  <a:pt x="4926" y="7595"/>
                  <a:pt x="4990" y="7631"/>
                  <a:pt x="5060" y="7615"/>
                </a:cubicBezTo>
                <a:cubicBezTo>
                  <a:pt x="5125" y="7601"/>
                  <a:pt x="5223" y="7592"/>
                  <a:pt x="5283" y="7565"/>
                </a:cubicBezTo>
                <a:cubicBezTo>
                  <a:pt x="5308" y="7541"/>
                  <a:pt x="5317" y="7533"/>
                  <a:pt x="5333" y="7516"/>
                </a:cubicBezTo>
                <a:cubicBezTo>
                  <a:pt x="5321" y="7434"/>
                  <a:pt x="5296" y="7422"/>
                  <a:pt x="5209" y="7417"/>
                </a:cubicBezTo>
                <a:cubicBezTo>
                  <a:pt x="5150" y="7414"/>
                  <a:pt x="5028" y="7448"/>
                  <a:pt x="4986" y="7491"/>
                </a:cubicBezTo>
                <a:cubicBezTo>
                  <a:pt x="4930" y="7547"/>
                  <a:pt x="4874" y="7630"/>
                  <a:pt x="4887" y="7714"/>
                </a:cubicBezTo>
                <a:cubicBezTo>
                  <a:pt x="4901" y="7811"/>
                  <a:pt x="4957" y="7824"/>
                  <a:pt x="5035" y="7863"/>
                </a:cubicBezTo>
                <a:cubicBezTo>
                  <a:pt x="5087" y="7889"/>
                  <a:pt x="5174" y="7905"/>
                  <a:pt x="5234" y="7888"/>
                </a:cubicBezTo>
                <a:cubicBezTo>
                  <a:pt x="5250" y="7880"/>
                  <a:pt x="5267" y="7871"/>
                  <a:pt x="5283" y="7863"/>
                </a:cubicBezTo>
              </a:path>
              <a:path w="2928" h="1117">
                <a:moveTo>
                  <a:pt x="5383" y="7615"/>
                </a:moveTo>
                <a:cubicBezTo>
                  <a:pt x="5418" y="7651"/>
                  <a:pt x="5448" y="7695"/>
                  <a:pt x="5457" y="7739"/>
                </a:cubicBezTo>
                <a:cubicBezTo>
                  <a:pt x="5470" y="7802"/>
                  <a:pt x="5488" y="7833"/>
                  <a:pt x="5531" y="7888"/>
                </a:cubicBezTo>
                <a:cubicBezTo>
                  <a:pt x="5577" y="7831"/>
                  <a:pt x="5595" y="7763"/>
                  <a:pt x="5606" y="7689"/>
                </a:cubicBezTo>
                <a:cubicBezTo>
                  <a:pt x="5615" y="7629"/>
                  <a:pt x="5621" y="7566"/>
                  <a:pt x="5631" y="7516"/>
                </a:cubicBezTo>
                <a:cubicBezTo>
                  <a:pt x="5639" y="7478"/>
                  <a:pt x="5631" y="7431"/>
                  <a:pt x="5631" y="7392"/>
                </a:cubicBezTo>
              </a:path>
              <a:path w="2928" h="1117">
                <a:moveTo>
                  <a:pt x="5680" y="7615"/>
                </a:moveTo>
                <a:cubicBezTo>
                  <a:pt x="5743" y="7615"/>
                  <a:pt x="5805" y="7629"/>
                  <a:pt x="5854" y="7590"/>
                </a:cubicBezTo>
                <a:cubicBezTo>
                  <a:pt x="5909" y="7546"/>
                  <a:pt x="5920" y="7508"/>
                  <a:pt x="5928" y="7441"/>
                </a:cubicBezTo>
                <a:cubicBezTo>
                  <a:pt x="5862" y="7415"/>
                  <a:pt x="5818" y="7449"/>
                  <a:pt x="5779" y="7516"/>
                </a:cubicBezTo>
                <a:cubicBezTo>
                  <a:pt x="5740" y="7583"/>
                  <a:pt x="5749" y="7647"/>
                  <a:pt x="5779" y="7714"/>
                </a:cubicBezTo>
                <a:cubicBezTo>
                  <a:pt x="5815" y="7797"/>
                  <a:pt x="5847" y="7814"/>
                  <a:pt x="5928" y="7789"/>
                </a:cubicBezTo>
                <a:cubicBezTo>
                  <a:pt x="5953" y="7781"/>
                  <a:pt x="5978" y="7772"/>
                  <a:pt x="6003" y="7764"/>
                </a:cubicBezTo>
              </a:path>
              <a:path w="2928" h="1117">
                <a:moveTo>
                  <a:pt x="6077" y="7491"/>
                </a:moveTo>
                <a:cubicBezTo>
                  <a:pt x="6077" y="7558"/>
                  <a:pt x="6091" y="7611"/>
                  <a:pt x="6102" y="7665"/>
                </a:cubicBezTo>
                <a:cubicBezTo>
                  <a:pt x="6102" y="7709"/>
                  <a:pt x="6099" y="7723"/>
                  <a:pt x="6127" y="7739"/>
                </a:cubicBezTo>
                <a:cubicBezTo>
                  <a:pt x="6184" y="7681"/>
                  <a:pt x="6172" y="7631"/>
                  <a:pt x="6201" y="7565"/>
                </a:cubicBezTo>
                <a:cubicBezTo>
                  <a:pt x="6223" y="7515"/>
                  <a:pt x="6235" y="7463"/>
                  <a:pt x="6276" y="7417"/>
                </a:cubicBezTo>
                <a:cubicBezTo>
                  <a:pt x="6284" y="7409"/>
                  <a:pt x="6292" y="7400"/>
                  <a:pt x="6300" y="7392"/>
                </a:cubicBezTo>
                <a:cubicBezTo>
                  <a:pt x="6351" y="7442"/>
                  <a:pt x="6348" y="7461"/>
                  <a:pt x="6375" y="7516"/>
                </a:cubicBezTo>
                <a:cubicBezTo>
                  <a:pt x="6402" y="7570"/>
                  <a:pt x="6440" y="7597"/>
                  <a:pt x="6449" y="7665"/>
                </a:cubicBezTo>
                <a:cubicBezTo>
                  <a:pt x="6449" y="7690"/>
                  <a:pt x="6449" y="7714"/>
                  <a:pt x="6449" y="7739"/>
                </a:cubicBezTo>
              </a:path>
              <a:path w="2928" h="1117">
                <a:moveTo>
                  <a:pt x="4291" y="8210"/>
                </a:moveTo>
                <a:cubicBezTo>
                  <a:pt x="4282" y="8274"/>
                  <a:pt x="4266" y="8313"/>
                  <a:pt x="4266" y="8384"/>
                </a:cubicBezTo>
                <a:cubicBezTo>
                  <a:pt x="4243" y="8344"/>
                  <a:pt x="4222" y="8262"/>
                  <a:pt x="4242" y="8210"/>
                </a:cubicBezTo>
                <a:cubicBezTo>
                  <a:pt x="4250" y="8202"/>
                  <a:pt x="4258" y="8194"/>
                  <a:pt x="4266" y="8186"/>
                </a:cubicBezTo>
                <a:cubicBezTo>
                  <a:pt x="4314" y="8223"/>
                  <a:pt x="4367" y="8249"/>
                  <a:pt x="4415" y="8285"/>
                </a:cubicBezTo>
                <a:cubicBezTo>
                  <a:pt x="4459" y="8318"/>
                  <a:pt x="4496" y="8346"/>
                  <a:pt x="4539" y="83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nd the domai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9x +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(x) = (x – 2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4"/>
          <p:cNvSpPr/>
          <p:nvPr/>
        </p:nvSpPr>
        <p:spPr>
          <a:xfrm>
            <a:off x="3581280" y="1527120"/>
            <a:ext cx="482760" cy="492120"/>
          </a:xfrm>
          <a:custGeom>
            <a:avLst/>
            <a:gdLst/>
            <a:ahLst/>
            <a:rect l="l" t="t" r="r" b="b"/>
            <a:pathLst>
              <a:path w="1340" h="1365">
                <a:moveTo>
                  <a:pt x="10269" y="5135"/>
                </a:moveTo>
                <a:cubicBezTo>
                  <a:pt x="10278" y="5069"/>
                  <a:pt x="10312" y="5012"/>
                  <a:pt x="10294" y="4936"/>
                </a:cubicBezTo>
                <a:cubicBezTo>
                  <a:pt x="10283" y="4891"/>
                  <a:pt x="10238" y="4731"/>
                  <a:pt x="10195" y="4713"/>
                </a:cubicBezTo>
                <a:cubicBezTo>
                  <a:pt x="10178" y="4713"/>
                  <a:pt x="10162" y="4713"/>
                  <a:pt x="10145" y="4713"/>
                </a:cubicBezTo>
                <a:cubicBezTo>
                  <a:pt x="10081" y="4722"/>
                  <a:pt x="10050" y="4747"/>
                  <a:pt x="10021" y="4812"/>
                </a:cubicBezTo>
                <a:cubicBezTo>
                  <a:pt x="9983" y="4897"/>
                  <a:pt x="9957" y="4994"/>
                  <a:pt x="9947" y="5085"/>
                </a:cubicBezTo>
                <a:cubicBezTo>
                  <a:pt x="9935" y="5200"/>
                  <a:pt x="9932" y="5349"/>
                  <a:pt x="9971" y="5457"/>
                </a:cubicBezTo>
                <a:cubicBezTo>
                  <a:pt x="9991" y="5514"/>
                  <a:pt x="10028" y="5594"/>
                  <a:pt x="10096" y="5606"/>
                </a:cubicBezTo>
                <a:cubicBezTo>
                  <a:pt x="10194" y="5624"/>
                  <a:pt x="10247" y="5581"/>
                  <a:pt x="10294" y="5507"/>
                </a:cubicBezTo>
                <a:cubicBezTo>
                  <a:pt x="10365" y="5395"/>
                  <a:pt x="10415" y="5273"/>
                  <a:pt x="10393" y="5135"/>
                </a:cubicBezTo>
                <a:cubicBezTo>
                  <a:pt x="10389" y="5108"/>
                  <a:pt x="10359" y="5062"/>
                  <a:pt x="10344" y="5035"/>
                </a:cubicBezTo>
                <a:cubicBezTo>
                  <a:pt x="10351" y="5131"/>
                  <a:pt x="10362" y="5219"/>
                  <a:pt x="10393" y="5308"/>
                </a:cubicBezTo>
                <a:cubicBezTo>
                  <a:pt x="10418" y="5379"/>
                  <a:pt x="10447" y="5447"/>
                  <a:pt x="10492" y="5507"/>
                </a:cubicBezTo>
                <a:cubicBezTo>
                  <a:pt x="10528" y="5555"/>
                  <a:pt x="10555" y="5528"/>
                  <a:pt x="10592" y="5507"/>
                </a:cubicBezTo>
              </a:path>
              <a:path w="1340" h="1365">
                <a:moveTo>
                  <a:pt x="10815" y="4366"/>
                </a:moveTo>
                <a:cubicBezTo>
                  <a:pt x="10815" y="4316"/>
                  <a:pt x="10813" y="4535"/>
                  <a:pt x="10815" y="4564"/>
                </a:cubicBezTo>
                <a:cubicBezTo>
                  <a:pt x="10823" y="4697"/>
                  <a:pt x="10836" y="4829"/>
                  <a:pt x="10840" y="4961"/>
                </a:cubicBezTo>
                <a:cubicBezTo>
                  <a:pt x="10844" y="5087"/>
                  <a:pt x="10864" y="5205"/>
                  <a:pt x="10864" y="5333"/>
                </a:cubicBezTo>
                <a:cubicBezTo>
                  <a:pt x="10864" y="5396"/>
                  <a:pt x="10822" y="5589"/>
                  <a:pt x="10889" y="5432"/>
                </a:cubicBezTo>
              </a:path>
              <a:path w="1340" h="1365">
                <a:moveTo>
                  <a:pt x="11088" y="4242"/>
                </a:moveTo>
                <a:cubicBezTo>
                  <a:pt x="11123" y="4374"/>
                  <a:pt x="11137" y="4477"/>
                  <a:pt x="11137" y="4614"/>
                </a:cubicBezTo>
                <a:cubicBezTo>
                  <a:pt x="11137" y="4765"/>
                  <a:pt x="11162" y="4908"/>
                  <a:pt x="11162" y="5060"/>
                </a:cubicBezTo>
                <a:cubicBezTo>
                  <a:pt x="11162" y="5198"/>
                  <a:pt x="11166" y="5327"/>
                  <a:pt x="11187" y="5457"/>
                </a:cubicBezTo>
                <a:cubicBezTo>
                  <a:pt x="11201" y="5547"/>
                  <a:pt x="11217" y="5537"/>
                  <a:pt x="11286" y="54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5"/>
          <p:cNvSpPr/>
          <p:nvPr/>
        </p:nvSpPr>
        <p:spPr>
          <a:xfrm>
            <a:off x="4276800" y="1535040"/>
            <a:ext cx="554040" cy="438120"/>
          </a:xfrm>
          <a:custGeom>
            <a:avLst/>
            <a:gdLst/>
            <a:ahLst/>
            <a:rect l="l" t="t" r="r" b="b"/>
            <a:pathLst>
              <a:path w="1539" h="1217">
                <a:moveTo>
                  <a:pt x="11881" y="5184"/>
                </a:moveTo>
                <a:cubicBezTo>
                  <a:pt x="11901" y="5296"/>
                  <a:pt x="11903" y="5344"/>
                  <a:pt x="11956" y="5432"/>
                </a:cubicBezTo>
                <a:cubicBezTo>
                  <a:pt x="11964" y="5449"/>
                  <a:pt x="11973" y="5465"/>
                  <a:pt x="11981" y="5482"/>
                </a:cubicBezTo>
                <a:cubicBezTo>
                  <a:pt x="12008" y="5434"/>
                  <a:pt x="12027" y="5390"/>
                  <a:pt x="12030" y="5333"/>
                </a:cubicBezTo>
                <a:cubicBezTo>
                  <a:pt x="12035" y="5248"/>
                  <a:pt x="12041" y="5233"/>
                  <a:pt x="12080" y="5159"/>
                </a:cubicBezTo>
                <a:cubicBezTo>
                  <a:pt x="12119" y="5087"/>
                  <a:pt x="12187" y="5010"/>
                  <a:pt x="12254" y="4961"/>
                </a:cubicBezTo>
                <a:cubicBezTo>
                  <a:pt x="12313" y="4931"/>
                  <a:pt x="12339" y="4916"/>
                  <a:pt x="12378" y="4887"/>
                </a:cubicBezTo>
              </a:path>
              <a:path w="1539" h="1217">
                <a:moveTo>
                  <a:pt x="12502" y="5308"/>
                </a:moveTo>
                <a:cubicBezTo>
                  <a:pt x="12587" y="5297"/>
                  <a:pt x="12610" y="5285"/>
                  <a:pt x="12650" y="5209"/>
                </a:cubicBezTo>
                <a:cubicBezTo>
                  <a:pt x="12689" y="5135"/>
                  <a:pt x="12700" y="5094"/>
                  <a:pt x="12700" y="5011"/>
                </a:cubicBezTo>
                <a:cubicBezTo>
                  <a:pt x="12700" y="4937"/>
                  <a:pt x="12636" y="4890"/>
                  <a:pt x="12576" y="4961"/>
                </a:cubicBezTo>
                <a:cubicBezTo>
                  <a:pt x="12533" y="5012"/>
                  <a:pt x="12468" y="5062"/>
                  <a:pt x="12452" y="5135"/>
                </a:cubicBezTo>
                <a:cubicBezTo>
                  <a:pt x="12433" y="5218"/>
                  <a:pt x="12417" y="5327"/>
                  <a:pt x="12452" y="5407"/>
                </a:cubicBezTo>
                <a:cubicBezTo>
                  <a:pt x="12479" y="5469"/>
                  <a:pt x="12568" y="5491"/>
                  <a:pt x="12626" y="5482"/>
                </a:cubicBezTo>
                <a:cubicBezTo>
                  <a:pt x="12651" y="5474"/>
                  <a:pt x="12675" y="5465"/>
                  <a:pt x="12700" y="5457"/>
                </a:cubicBezTo>
              </a:path>
              <a:path w="1539" h="1217">
                <a:moveTo>
                  <a:pt x="13047" y="5060"/>
                </a:moveTo>
                <a:cubicBezTo>
                  <a:pt x="13003" y="5005"/>
                  <a:pt x="12996" y="5020"/>
                  <a:pt x="12948" y="5085"/>
                </a:cubicBezTo>
                <a:cubicBezTo>
                  <a:pt x="12890" y="5163"/>
                  <a:pt x="12853" y="5236"/>
                  <a:pt x="12849" y="5333"/>
                </a:cubicBezTo>
                <a:cubicBezTo>
                  <a:pt x="12849" y="5394"/>
                  <a:pt x="12840" y="5410"/>
                  <a:pt x="12874" y="5432"/>
                </a:cubicBezTo>
                <a:cubicBezTo>
                  <a:pt x="12989" y="5417"/>
                  <a:pt x="13014" y="5387"/>
                  <a:pt x="13047" y="5259"/>
                </a:cubicBezTo>
                <a:cubicBezTo>
                  <a:pt x="13066" y="5148"/>
                  <a:pt x="13047" y="5071"/>
                  <a:pt x="13097" y="5135"/>
                </a:cubicBezTo>
                <a:cubicBezTo>
                  <a:pt x="13097" y="5188"/>
                  <a:pt x="13088" y="5317"/>
                  <a:pt x="13122" y="5358"/>
                </a:cubicBezTo>
                <a:cubicBezTo>
                  <a:pt x="13174" y="5420"/>
                  <a:pt x="13235" y="5414"/>
                  <a:pt x="13295" y="5407"/>
                </a:cubicBezTo>
                <a:cubicBezTo>
                  <a:pt x="13347" y="5407"/>
                  <a:pt x="13364" y="5406"/>
                  <a:pt x="13370" y="5358"/>
                </a:cubicBezTo>
              </a:path>
              <a:path w="1539" h="1217">
                <a:moveTo>
                  <a:pt x="13419" y="4266"/>
                </a:moveTo>
                <a:cubicBezTo>
                  <a:pt x="13385" y="4405"/>
                  <a:pt x="13387" y="4524"/>
                  <a:pt x="13370" y="4663"/>
                </a:cubicBezTo>
                <a:cubicBezTo>
                  <a:pt x="13352" y="4808"/>
                  <a:pt x="13370" y="4937"/>
                  <a:pt x="13370" y="5085"/>
                </a:cubicBezTo>
                <a:cubicBezTo>
                  <a:pt x="13370" y="5190"/>
                  <a:pt x="13350" y="5319"/>
                  <a:pt x="13395" y="54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6"/>
          <p:cNvSpPr/>
          <p:nvPr/>
        </p:nvSpPr>
        <p:spPr>
          <a:xfrm>
            <a:off x="5018040" y="1465200"/>
            <a:ext cx="509760" cy="507960"/>
          </a:xfrm>
          <a:custGeom>
            <a:avLst/>
            <a:gdLst/>
            <a:ahLst/>
            <a:rect l="l" t="t" r="r" b="b"/>
            <a:pathLst>
              <a:path w="1415" h="1415">
                <a:moveTo>
                  <a:pt x="14188" y="4142"/>
                </a:moveTo>
                <a:cubicBezTo>
                  <a:pt x="14208" y="4352"/>
                  <a:pt x="14213" y="4551"/>
                  <a:pt x="14213" y="4762"/>
                </a:cubicBezTo>
                <a:cubicBezTo>
                  <a:pt x="14213" y="4916"/>
                  <a:pt x="14139" y="5334"/>
                  <a:pt x="14238" y="5457"/>
                </a:cubicBezTo>
                <a:cubicBezTo>
                  <a:pt x="14268" y="5487"/>
                  <a:pt x="14279" y="5489"/>
                  <a:pt x="14288" y="5432"/>
                </a:cubicBezTo>
              </a:path>
              <a:path w="1415" h="1415">
                <a:moveTo>
                  <a:pt x="14684" y="4068"/>
                </a:moveTo>
                <a:cubicBezTo>
                  <a:pt x="14650" y="4174"/>
                  <a:pt x="14638" y="4276"/>
                  <a:pt x="14635" y="4390"/>
                </a:cubicBezTo>
                <a:cubicBezTo>
                  <a:pt x="14631" y="4545"/>
                  <a:pt x="14587" y="4706"/>
                  <a:pt x="14610" y="4862"/>
                </a:cubicBezTo>
                <a:cubicBezTo>
                  <a:pt x="14628" y="4983"/>
                  <a:pt x="14615" y="5113"/>
                  <a:pt x="14635" y="5234"/>
                </a:cubicBezTo>
                <a:cubicBezTo>
                  <a:pt x="14647" y="5311"/>
                  <a:pt x="14673" y="5534"/>
                  <a:pt x="14684" y="5457"/>
                </a:cubicBezTo>
                <a:cubicBezTo>
                  <a:pt x="14684" y="5432"/>
                  <a:pt x="14684" y="5408"/>
                  <a:pt x="14684" y="5383"/>
                </a:cubicBezTo>
              </a:path>
              <a:path w="1415" h="1415">
                <a:moveTo>
                  <a:pt x="13990" y="4887"/>
                </a:moveTo>
                <a:cubicBezTo>
                  <a:pt x="14129" y="4867"/>
                  <a:pt x="14273" y="4849"/>
                  <a:pt x="14412" y="4837"/>
                </a:cubicBezTo>
                <a:cubicBezTo>
                  <a:pt x="14520" y="4828"/>
                  <a:pt x="14631" y="4845"/>
                  <a:pt x="14734" y="4812"/>
                </a:cubicBezTo>
                <a:cubicBezTo>
                  <a:pt x="14751" y="4804"/>
                  <a:pt x="14767" y="4795"/>
                  <a:pt x="14784" y="4787"/>
                </a:cubicBezTo>
              </a:path>
              <a:path w="1415" h="1415">
                <a:moveTo>
                  <a:pt x="13940" y="5234"/>
                </a:moveTo>
                <a:cubicBezTo>
                  <a:pt x="14085" y="5234"/>
                  <a:pt x="14219" y="5220"/>
                  <a:pt x="14362" y="5209"/>
                </a:cubicBezTo>
                <a:cubicBezTo>
                  <a:pt x="14485" y="5199"/>
                  <a:pt x="14615" y="5196"/>
                  <a:pt x="14734" y="5159"/>
                </a:cubicBezTo>
                <a:cubicBezTo>
                  <a:pt x="14751" y="5151"/>
                  <a:pt x="14767" y="5143"/>
                  <a:pt x="14784" y="5135"/>
                </a:cubicBezTo>
              </a:path>
              <a:path w="1415" h="1415">
                <a:moveTo>
                  <a:pt x="15304" y="4887"/>
                </a:moveTo>
                <a:cubicBezTo>
                  <a:pt x="15221" y="4909"/>
                  <a:pt x="15158" y="4922"/>
                  <a:pt x="15081" y="4961"/>
                </a:cubicBezTo>
                <a:cubicBezTo>
                  <a:pt x="15065" y="4969"/>
                  <a:pt x="15048" y="4978"/>
                  <a:pt x="15032" y="4986"/>
                </a:cubicBezTo>
                <a:cubicBezTo>
                  <a:pt x="15072" y="5056"/>
                  <a:pt x="15089" y="5071"/>
                  <a:pt x="15156" y="5135"/>
                </a:cubicBezTo>
                <a:cubicBezTo>
                  <a:pt x="15206" y="5182"/>
                  <a:pt x="15332" y="5241"/>
                  <a:pt x="15354" y="5308"/>
                </a:cubicBezTo>
                <a:cubicBezTo>
                  <a:pt x="15354" y="5325"/>
                  <a:pt x="15354" y="5341"/>
                  <a:pt x="15354" y="5358"/>
                </a:cubicBezTo>
                <a:cubicBezTo>
                  <a:pt x="15268" y="5443"/>
                  <a:pt x="15230" y="5403"/>
                  <a:pt x="15131" y="5358"/>
                </a:cubicBezTo>
                <a:cubicBezTo>
                  <a:pt x="15050" y="5321"/>
                  <a:pt x="15000" y="5294"/>
                  <a:pt x="14932" y="5234"/>
                </a:cubicBezTo>
              </a:path>
              <a:path w="1415" h="1415">
                <a:moveTo>
                  <a:pt x="14883" y="4465"/>
                </a:moveTo>
                <a:cubicBezTo>
                  <a:pt x="14868" y="4571"/>
                  <a:pt x="14858" y="4658"/>
                  <a:pt x="14858" y="47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7"/>
          <p:cNvSpPr/>
          <p:nvPr/>
        </p:nvSpPr>
        <p:spPr>
          <a:xfrm>
            <a:off x="5840280" y="1251000"/>
            <a:ext cx="71640" cy="1089000"/>
          </a:xfrm>
          <a:custGeom>
            <a:avLst/>
            <a:gdLst/>
            <a:ahLst/>
            <a:rect l="l" t="t" r="r" b="b"/>
            <a:pathLst>
              <a:path w="200" h="3027">
                <a:moveTo>
                  <a:pt x="16247" y="3473"/>
                </a:moveTo>
                <a:cubicBezTo>
                  <a:pt x="16247" y="3625"/>
                  <a:pt x="16235" y="3770"/>
                  <a:pt x="16222" y="3919"/>
                </a:cubicBezTo>
                <a:cubicBezTo>
                  <a:pt x="16200" y="4183"/>
                  <a:pt x="16234" y="4452"/>
                  <a:pt x="16247" y="4713"/>
                </a:cubicBezTo>
                <a:cubicBezTo>
                  <a:pt x="16261" y="4978"/>
                  <a:pt x="16282" y="5244"/>
                  <a:pt x="16297" y="5507"/>
                </a:cubicBezTo>
                <a:cubicBezTo>
                  <a:pt x="16307" y="5683"/>
                  <a:pt x="16320" y="5854"/>
                  <a:pt x="16346" y="6028"/>
                </a:cubicBezTo>
                <a:cubicBezTo>
                  <a:pt x="16363" y="6143"/>
                  <a:pt x="16361" y="6289"/>
                  <a:pt x="16396" y="6400"/>
                </a:cubicBezTo>
                <a:cubicBezTo>
                  <a:pt x="16410" y="6445"/>
                  <a:pt x="16413" y="6431"/>
                  <a:pt x="16396" y="64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8"/>
          <p:cNvSpPr/>
          <p:nvPr/>
        </p:nvSpPr>
        <p:spPr>
          <a:xfrm>
            <a:off x="6099120" y="1625760"/>
            <a:ext cx="187560" cy="320400"/>
          </a:xfrm>
          <a:custGeom>
            <a:avLst/>
            <a:gdLst/>
            <a:ahLst/>
            <a:rect l="l" t="t" r="r" b="b"/>
            <a:pathLst>
              <a:path w="521" h="894">
                <a:moveTo>
                  <a:pt x="16942" y="4564"/>
                </a:moveTo>
                <a:cubicBezTo>
                  <a:pt x="17001" y="4684"/>
                  <a:pt x="17081" y="4798"/>
                  <a:pt x="17140" y="4911"/>
                </a:cubicBezTo>
                <a:cubicBezTo>
                  <a:pt x="17183" y="4994"/>
                  <a:pt x="17217" y="5077"/>
                  <a:pt x="17264" y="5159"/>
                </a:cubicBezTo>
                <a:cubicBezTo>
                  <a:pt x="17297" y="5217"/>
                  <a:pt x="17323" y="5280"/>
                  <a:pt x="17363" y="5333"/>
                </a:cubicBezTo>
                <a:cubicBezTo>
                  <a:pt x="17399" y="5381"/>
                  <a:pt x="17419" y="5404"/>
                  <a:pt x="17462" y="5383"/>
                </a:cubicBezTo>
              </a:path>
              <a:path w="521" h="894">
                <a:moveTo>
                  <a:pt x="17388" y="4514"/>
                </a:moveTo>
                <a:cubicBezTo>
                  <a:pt x="17339" y="4653"/>
                  <a:pt x="17274" y="4757"/>
                  <a:pt x="17214" y="4887"/>
                </a:cubicBezTo>
                <a:cubicBezTo>
                  <a:pt x="17175" y="4973"/>
                  <a:pt x="17134" y="5051"/>
                  <a:pt x="17090" y="5135"/>
                </a:cubicBezTo>
                <a:cubicBezTo>
                  <a:pt x="17059" y="5195"/>
                  <a:pt x="17025" y="5252"/>
                  <a:pt x="16991" y="5308"/>
                </a:cubicBezTo>
                <a:cubicBezTo>
                  <a:pt x="16971" y="5349"/>
                  <a:pt x="16962" y="5376"/>
                  <a:pt x="16966" y="53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9"/>
          <p:cNvSpPr/>
          <p:nvPr/>
        </p:nvSpPr>
        <p:spPr>
          <a:xfrm>
            <a:off x="6446880" y="1598760"/>
            <a:ext cx="250920" cy="322200"/>
          </a:xfrm>
          <a:custGeom>
            <a:avLst/>
            <a:gdLst/>
            <a:ahLst/>
            <a:rect l="l" t="t" r="r" b="b"/>
            <a:pathLst>
              <a:path w="696" h="894">
                <a:moveTo>
                  <a:pt x="17909" y="4837"/>
                </a:moveTo>
                <a:cubicBezTo>
                  <a:pt x="18015" y="4819"/>
                  <a:pt x="18126" y="4799"/>
                  <a:pt x="18231" y="4787"/>
                </a:cubicBezTo>
                <a:cubicBezTo>
                  <a:pt x="18352" y="4773"/>
                  <a:pt x="18483" y="4787"/>
                  <a:pt x="18604" y="4787"/>
                </a:cubicBezTo>
              </a:path>
              <a:path w="696" h="894">
                <a:moveTo>
                  <a:pt x="17983" y="5035"/>
                </a:moveTo>
                <a:cubicBezTo>
                  <a:pt x="18088" y="5035"/>
                  <a:pt x="18180" y="5025"/>
                  <a:pt x="18281" y="5011"/>
                </a:cubicBezTo>
                <a:cubicBezTo>
                  <a:pt x="18362" y="5000"/>
                  <a:pt x="18448" y="4996"/>
                  <a:pt x="18529" y="4986"/>
                </a:cubicBezTo>
                <a:cubicBezTo>
                  <a:pt x="18571" y="4986"/>
                  <a:pt x="18596" y="4986"/>
                  <a:pt x="18554" y="4986"/>
                </a:cubicBezTo>
              </a:path>
              <a:path w="696" h="894">
                <a:moveTo>
                  <a:pt x="18380" y="4440"/>
                </a:moveTo>
                <a:cubicBezTo>
                  <a:pt x="18408" y="4511"/>
                  <a:pt x="18344" y="4576"/>
                  <a:pt x="18331" y="4663"/>
                </a:cubicBezTo>
                <a:cubicBezTo>
                  <a:pt x="18317" y="4759"/>
                  <a:pt x="18271" y="4842"/>
                  <a:pt x="18256" y="4936"/>
                </a:cubicBezTo>
                <a:cubicBezTo>
                  <a:pt x="18242" y="5026"/>
                  <a:pt x="18224" y="5076"/>
                  <a:pt x="18182" y="5159"/>
                </a:cubicBezTo>
                <a:cubicBezTo>
                  <a:pt x="18155" y="5212"/>
                  <a:pt x="18129" y="5258"/>
                  <a:pt x="18107" y="5308"/>
                </a:cubicBezTo>
                <a:cubicBezTo>
                  <a:pt x="18107" y="5316"/>
                  <a:pt x="18107" y="5325"/>
                  <a:pt x="18107" y="53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10"/>
          <p:cNvSpPr/>
          <p:nvPr/>
        </p:nvSpPr>
        <p:spPr>
          <a:xfrm>
            <a:off x="6902280" y="1535040"/>
            <a:ext cx="206640" cy="349200"/>
          </a:xfrm>
          <a:custGeom>
            <a:avLst/>
            <a:gdLst/>
            <a:ahLst/>
            <a:rect l="l" t="t" r="r" b="b"/>
            <a:pathLst>
              <a:path w="572" h="969">
                <a:moveTo>
                  <a:pt x="19348" y="4316"/>
                </a:moveTo>
                <a:cubicBezTo>
                  <a:pt x="19321" y="4408"/>
                  <a:pt x="19282" y="4477"/>
                  <a:pt x="19248" y="4564"/>
                </a:cubicBezTo>
                <a:cubicBezTo>
                  <a:pt x="19215" y="4650"/>
                  <a:pt x="19178" y="4745"/>
                  <a:pt x="19174" y="4837"/>
                </a:cubicBezTo>
                <a:cubicBezTo>
                  <a:pt x="19170" y="4935"/>
                  <a:pt x="19159" y="5046"/>
                  <a:pt x="19199" y="5135"/>
                </a:cubicBezTo>
                <a:cubicBezTo>
                  <a:pt x="19229" y="5201"/>
                  <a:pt x="19281" y="5230"/>
                  <a:pt x="19348" y="5234"/>
                </a:cubicBezTo>
                <a:cubicBezTo>
                  <a:pt x="19458" y="5241"/>
                  <a:pt x="19508" y="5205"/>
                  <a:pt x="19571" y="5135"/>
                </a:cubicBezTo>
                <a:cubicBezTo>
                  <a:pt x="19638" y="5059"/>
                  <a:pt x="19684" y="4983"/>
                  <a:pt x="19720" y="4887"/>
                </a:cubicBezTo>
                <a:cubicBezTo>
                  <a:pt x="19756" y="4790"/>
                  <a:pt x="19745" y="4691"/>
                  <a:pt x="19745" y="4589"/>
                </a:cubicBezTo>
                <a:cubicBezTo>
                  <a:pt x="19745" y="4532"/>
                  <a:pt x="19684" y="4440"/>
                  <a:pt x="19645" y="4390"/>
                </a:cubicBezTo>
                <a:cubicBezTo>
                  <a:pt x="19589" y="4318"/>
                  <a:pt x="19525" y="4311"/>
                  <a:pt x="19447" y="4291"/>
                </a:cubicBezTo>
                <a:cubicBezTo>
                  <a:pt x="19357" y="4268"/>
                  <a:pt x="19320" y="4266"/>
                  <a:pt x="19224" y="42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11"/>
          <p:cNvSpPr/>
          <p:nvPr/>
        </p:nvSpPr>
        <p:spPr>
          <a:xfrm>
            <a:off x="4822920" y="2276640"/>
            <a:ext cx="436320" cy="331560"/>
          </a:xfrm>
          <a:custGeom>
            <a:avLst/>
            <a:gdLst/>
            <a:ahLst/>
            <a:rect l="l" t="t" r="r" b="b"/>
            <a:pathLst>
              <a:path w="1216" h="919">
                <a:moveTo>
                  <a:pt x="13667" y="6722"/>
                </a:moveTo>
                <a:cubicBezTo>
                  <a:pt x="13743" y="6795"/>
                  <a:pt x="13606" y="6632"/>
                  <a:pt x="13593" y="6623"/>
                </a:cubicBezTo>
                <a:cubicBezTo>
                  <a:pt x="13551" y="6593"/>
                  <a:pt x="13473" y="6542"/>
                  <a:pt x="13444" y="6623"/>
                </a:cubicBezTo>
                <a:cubicBezTo>
                  <a:pt x="13419" y="6693"/>
                  <a:pt x="13404" y="6791"/>
                  <a:pt x="13395" y="6871"/>
                </a:cubicBezTo>
                <a:cubicBezTo>
                  <a:pt x="13384" y="6969"/>
                  <a:pt x="13404" y="7054"/>
                  <a:pt x="13419" y="7144"/>
                </a:cubicBezTo>
                <a:cubicBezTo>
                  <a:pt x="13431" y="7216"/>
                  <a:pt x="13440" y="7238"/>
                  <a:pt x="13519" y="7243"/>
                </a:cubicBezTo>
                <a:cubicBezTo>
                  <a:pt x="13613" y="7249"/>
                  <a:pt x="13589" y="7201"/>
                  <a:pt x="13618" y="7144"/>
                </a:cubicBezTo>
                <a:cubicBezTo>
                  <a:pt x="13645" y="7091"/>
                  <a:pt x="13661" y="7012"/>
                  <a:pt x="13643" y="6945"/>
                </a:cubicBezTo>
                <a:cubicBezTo>
                  <a:pt x="13622" y="6867"/>
                  <a:pt x="13613" y="6876"/>
                  <a:pt x="13643" y="6796"/>
                </a:cubicBezTo>
                <a:cubicBezTo>
                  <a:pt x="13686" y="6852"/>
                  <a:pt x="13696" y="6887"/>
                  <a:pt x="13717" y="6945"/>
                </a:cubicBezTo>
                <a:cubicBezTo>
                  <a:pt x="13736" y="6998"/>
                  <a:pt x="13784" y="7073"/>
                  <a:pt x="13816" y="7119"/>
                </a:cubicBezTo>
                <a:cubicBezTo>
                  <a:pt x="13850" y="7168"/>
                  <a:pt x="13873" y="7190"/>
                  <a:pt x="13915" y="7169"/>
                </a:cubicBezTo>
              </a:path>
              <a:path w="1216" h="919">
                <a:moveTo>
                  <a:pt x="14039" y="6573"/>
                </a:moveTo>
                <a:cubicBezTo>
                  <a:pt x="14046" y="6742"/>
                  <a:pt x="14094" y="6856"/>
                  <a:pt x="14114" y="7020"/>
                </a:cubicBezTo>
                <a:cubicBezTo>
                  <a:pt x="14120" y="7068"/>
                  <a:pt x="14116" y="7188"/>
                  <a:pt x="14163" y="7218"/>
                </a:cubicBezTo>
                <a:cubicBezTo>
                  <a:pt x="14171" y="7218"/>
                  <a:pt x="14180" y="7218"/>
                  <a:pt x="14188" y="7218"/>
                </a:cubicBezTo>
              </a:path>
              <a:path w="1216" h="919">
                <a:moveTo>
                  <a:pt x="14486" y="6325"/>
                </a:moveTo>
                <a:cubicBezTo>
                  <a:pt x="14492" y="6496"/>
                  <a:pt x="14518" y="6634"/>
                  <a:pt x="14536" y="6796"/>
                </a:cubicBezTo>
                <a:cubicBezTo>
                  <a:pt x="14545" y="6874"/>
                  <a:pt x="14537" y="6995"/>
                  <a:pt x="14560" y="7069"/>
                </a:cubicBezTo>
                <a:cubicBezTo>
                  <a:pt x="14572" y="7107"/>
                  <a:pt x="14594" y="7150"/>
                  <a:pt x="14610" y="71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Ink 12"/>
          <p:cNvSpPr/>
          <p:nvPr/>
        </p:nvSpPr>
        <p:spPr>
          <a:xfrm>
            <a:off x="5510160" y="2241720"/>
            <a:ext cx="561960" cy="339480"/>
          </a:xfrm>
          <a:custGeom>
            <a:avLst/>
            <a:gdLst/>
            <a:ahLst/>
            <a:rect l="l" t="t" r="r" b="b"/>
            <a:pathLst>
              <a:path w="1564" h="944">
                <a:moveTo>
                  <a:pt x="15354" y="7144"/>
                </a:moveTo>
                <a:cubicBezTo>
                  <a:pt x="15345" y="7074"/>
                  <a:pt x="15315" y="7013"/>
                  <a:pt x="15304" y="6945"/>
                </a:cubicBezTo>
                <a:cubicBezTo>
                  <a:pt x="15290" y="6863"/>
                  <a:pt x="15293" y="6738"/>
                  <a:pt x="15329" y="6672"/>
                </a:cubicBezTo>
                <a:cubicBezTo>
                  <a:pt x="15361" y="6614"/>
                  <a:pt x="15396" y="6582"/>
                  <a:pt x="15453" y="6548"/>
                </a:cubicBezTo>
                <a:cubicBezTo>
                  <a:pt x="15501" y="6525"/>
                  <a:pt x="15516" y="6517"/>
                  <a:pt x="15553" y="6524"/>
                </a:cubicBezTo>
              </a:path>
              <a:path w="1564" h="944">
                <a:moveTo>
                  <a:pt x="15677" y="6871"/>
                </a:moveTo>
                <a:cubicBezTo>
                  <a:pt x="15701" y="6896"/>
                  <a:pt x="15709" y="6905"/>
                  <a:pt x="15726" y="6921"/>
                </a:cubicBezTo>
                <a:cubicBezTo>
                  <a:pt x="15769" y="6887"/>
                  <a:pt x="15810" y="6861"/>
                  <a:pt x="15850" y="6821"/>
                </a:cubicBezTo>
                <a:cubicBezTo>
                  <a:pt x="15881" y="6790"/>
                  <a:pt x="15932" y="6691"/>
                  <a:pt x="15925" y="6648"/>
                </a:cubicBezTo>
                <a:cubicBezTo>
                  <a:pt x="15895" y="6618"/>
                  <a:pt x="15884" y="6604"/>
                  <a:pt x="15875" y="6573"/>
                </a:cubicBezTo>
                <a:cubicBezTo>
                  <a:pt x="15820" y="6617"/>
                  <a:pt x="15785" y="6633"/>
                  <a:pt x="15751" y="6697"/>
                </a:cubicBezTo>
                <a:cubicBezTo>
                  <a:pt x="15717" y="6761"/>
                  <a:pt x="15722" y="6830"/>
                  <a:pt x="15701" y="6896"/>
                </a:cubicBezTo>
                <a:cubicBezTo>
                  <a:pt x="15675" y="6977"/>
                  <a:pt x="15673" y="7018"/>
                  <a:pt x="15726" y="7094"/>
                </a:cubicBezTo>
                <a:cubicBezTo>
                  <a:pt x="15781" y="7173"/>
                  <a:pt x="15879" y="7143"/>
                  <a:pt x="15949" y="7119"/>
                </a:cubicBezTo>
              </a:path>
              <a:path w="1564" h="944">
                <a:moveTo>
                  <a:pt x="16446" y="6747"/>
                </a:moveTo>
                <a:cubicBezTo>
                  <a:pt x="16405" y="6706"/>
                  <a:pt x="16356" y="6637"/>
                  <a:pt x="16297" y="6623"/>
                </a:cubicBezTo>
                <a:cubicBezTo>
                  <a:pt x="16216" y="6604"/>
                  <a:pt x="16201" y="6692"/>
                  <a:pt x="16173" y="6747"/>
                </a:cubicBezTo>
                <a:cubicBezTo>
                  <a:pt x="16140" y="6813"/>
                  <a:pt x="16127" y="6896"/>
                  <a:pt x="16123" y="6970"/>
                </a:cubicBezTo>
                <a:cubicBezTo>
                  <a:pt x="16120" y="7025"/>
                  <a:pt x="16144" y="7120"/>
                  <a:pt x="16222" y="7094"/>
                </a:cubicBezTo>
                <a:cubicBezTo>
                  <a:pt x="16297" y="7069"/>
                  <a:pt x="16294" y="6955"/>
                  <a:pt x="16297" y="6896"/>
                </a:cubicBezTo>
                <a:cubicBezTo>
                  <a:pt x="16297" y="6851"/>
                  <a:pt x="16293" y="6838"/>
                  <a:pt x="16321" y="6821"/>
                </a:cubicBezTo>
                <a:cubicBezTo>
                  <a:pt x="16359" y="6868"/>
                  <a:pt x="16385" y="6922"/>
                  <a:pt x="16421" y="6970"/>
                </a:cubicBezTo>
                <a:cubicBezTo>
                  <a:pt x="16470" y="7035"/>
                  <a:pt x="16515" y="7057"/>
                  <a:pt x="16594" y="7020"/>
                </a:cubicBezTo>
                <a:cubicBezTo>
                  <a:pt x="16659" y="6976"/>
                  <a:pt x="16674" y="6965"/>
                  <a:pt x="16718" y="6945"/>
                </a:cubicBezTo>
              </a:path>
              <a:path w="1564" h="944">
                <a:moveTo>
                  <a:pt x="16818" y="6226"/>
                </a:moveTo>
                <a:cubicBezTo>
                  <a:pt x="16833" y="6404"/>
                  <a:pt x="16842" y="6570"/>
                  <a:pt x="16842" y="6747"/>
                </a:cubicBezTo>
                <a:cubicBezTo>
                  <a:pt x="16842" y="6832"/>
                  <a:pt x="16823" y="7159"/>
                  <a:pt x="16867" y="71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Ink 13"/>
          <p:cNvSpPr/>
          <p:nvPr/>
        </p:nvSpPr>
        <p:spPr>
          <a:xfrm>
            <a:off x="6323040" y="2178000"/>
            <a:ext cx="490680" cy="411120"/>
          </a:xfrm>
          <a:custGeom>
            <a:avLst/>
            <a:gdLst/>
            <a:ahLst/>
            <a:rect l="l" t="t" r="r" b="b"/>
            <a:pathLst>
              <a:path w="1365" h="1142">
                <a:moveTo>
                  <a:pt x="17909" y="6052"/>
                </a:moveTo>
                <a:cubicBezTo>
                  <a:pt x="17937" y="6165"/>
                  <a:pt x="17927" y="6259"/>
                  <a:pt x="17909" y="6375"/>
                </a:cubicBezTo>
                <a:cubicBezTo>
                  <a:pt x="17889" y="6507"/>
                  <a:pt x="17862" y="6639"/>
                  <a:pt x="17859" y="6772"/>
                </a:cubicBezTo>
                <a:cubicBezTo>
                  <a:pt x="17858" y="6830"/>
                  <a:pt x="17854" y="7013"/>
                  <a:pt x="17909" y="7069"/>
                </a:cubicBezTo>
                <a:cubicBezTo>
                  <a:pt x="17909" y="7061"/>
                  <a:pt x="17909" y="7053"/>
                  <a:pt x="17909" y="7045"/>
                </a:cubicBezTo>
              </a:path>
              <a:path w="1365" h="1142">
                <a:moveTo>
                  <a:pt x="18157" y="6052"/>
                </a:moveTo>
                <a:cubicBezTo>
                  <a:pt x="18157" y="6192"/>
                  <a:pt x="18153" y="6337"/>
                  <a:pt x="18132" y="6474"/>
                </a:cubicBezTo>
                <a:cubicBezTo>
                  <a:pt x="18110" y="6617"/>
                  <a:pt x="18107" y="6751"/>
                  <a:pt x="18107" y="6896"/>
                </a:cubicBezTo>
                <a:cubicBezTo>
                  <a:pt x="18107" y="6995"/>
                  <a:pt x="18107" y="7094"/>
                  <a:pt x="18107" y="7193"/>
                </a:cubicBezTo>
              </a:path>
              <a:path w="1365" h="1142">
                <a:moveTo>
                  <a:pt x="17562" y="6573"/>
                </a:moveTo>
                <a:cubicBezTo>
                  <a:pt x="17658" y="6567"/>
                  <a:pt x="17763" y="6566"/>
                  <a:pt x="17859" y="6548"/>
                </a:cubicBezTo>
                <a:cubicBezTo>
                  <a:pt x="17953" y="6530"/>
                  <a:pt x="18034" y="6524"/>
                  <a:pt x="18132" y="6524"/>
                </a:cubicBezTo>
                <a:cubicBezTo>
                  <a:pt x="18190" y="6524"/>
                  <a:pt x="18248" y="6524"/>
                  <a:pt x="18306" y="6524"/>
                </a:cubicBezTo>
              </a:path>
              <a:path w="1365" h="1142">
                <a:moveTo>
                  <a:pt x="17859" y="6871"/>
                </a:moveTo>
                <a:cubicBezTo>
                  <a:pt x="17948" y="6871"/>
                  <a:pt x="18021" y="6851"/>
                  <a:pt x="18107" y="6846"/>
                </a:cubicBezTo>
                <a:cubicBezTo>
                  <a:pt x="18170" y="6843"/>
                  <a:pt x="18216" y="6827"/>
                  <a:pt x="18281" y="6821"/>
                </a:cubicBezTo>
              </a:path>
              <a:path w="1365" h="1142">
                <a:moveTo>
                  <a:pt x="18926" y="6449"/>
                </a:moveTo>
                <a:cubicBezTo>
                  <a:pt x="18873" y="6492"/>
                  <a:pt x="18814" y="6517"/>
                  <a:pt x="18752" y="6548"/>
                </a:cubicBezTo>
                <a:cubicBezTo>
                  <a:pt x="18691" y="6578"/>
                  <a:pt x="18631" y="6606"/>
                  <a:pt x="18579" y="6648"/>
                </a:cubicBezTo>
                <a:cubicBezTo>
                  <a:pt x="18630" y="6719"/>
                  <a:pt x="18696" y="6754"/>
                  <a:pt x="18777" y="6796"/>
                </a:cubicBezTo>
                <a:cubicBezTo>
                  <a:pt x="18826" y="6822"/>
                  <a:pt x="18927" y="6843"/>
                  <a:pt x="18901" y="6921"/>
                </a:cubicBezTo>
                <a:cubicBezTo>
                  <a:pt x="18885" y="6968"/>
                  <a:pt x="18764" y="6998"/>
                  <a:pt x="18728" y="6995"/>
                </a:cubicBezTo>
                <a:cubicBezTo>
                  <a:pt x="18665" y="6989"/>
                  <a:pt x="18581" y="6955"/>
                  <a:pt x="18529" y="6921"/>
                </a:cubicBezTo>
              </a:path>
              <a:path w="1365" h="1142">
                <a:moveTo>
                  <a:pt x="18504" y="6127"/>
                </a:moveTo>
                <a:cubicBezTo>
                  <a:pt x="18512" y="6218"/>
                  <a:pt x="18521" y="6309"/>
                  <a:pt x="18529" y="64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Ink 14"/>
          <p:cNvSpPr/>
          <p:nvPr/>
        </p:nvSpPr>
        <p:spPr>
          <a:xfrm>
            <a:off x="7392960" y="2027160"/>
            <a:ext cx="777960" cy="635040"/>
          </a:xfrm>
          <a:custGeom>
            <a:avLst/>
            <a:gdLst/>
            <a:ahLst/>
            <a:rect l="l" t="t" r="r" b="b"/>
            <a:pathLst>
              <a:path w="2159" h="1762">
                <a:moveTo>
                  <a:pt x="21059" y="5953"/>
                </a:moveTo>
                <a:cubicBezTo>
                  <a:pt x="21059" y="6052"/>
                  <a:pt x="21081" y="6128"/>
                  <a:pt x="21084" y="6226"/>
                </a:cubicBezTo>
                <a:cubicBezTo>
                  <a:pt x="21091" y="6460"/>
                  <a:pt x="21079" y="6692"/>
                  <a:pt x="21109" y="6921"/>
                </a:cubicBezTo>
                <a:cubicBezTo>
                  <a:pt x="21118" y="6991"/>
                  <a:pt x="21121" y="7052"/>
                  <a:pt x="21134" y="7119"/>
                </a:cubicBezTo>
              </a:path>
              <a:path w="2159" h="1762">
                <a:moveTo>
                  <a:pt x="21630" y="5705"/>
                </a:moveTo>
                <a:cubicBezTo>
                  <a:pt x="21605" y="5862"/>
                  <a:pt x="21601" y="6019"/>
                  <a:pt x="21580" y="6176"/>
                </a:cubicBezTo>
                <a:cubicBezTo>
                  <a:pt x="21550" y="6396"/>
                  <a:pt x="21549" y="6598"/>
                  <a:pt x="21580" y="6821"/>
                </a:cubicBezTo>
                <a:cubicBezTo>
                  <a:pt x="21598" y="6954"/>
                  <a:pt x="21614" y="7086"/>
                  <a:pt x="21630" y="7218"/>
                </a:cubicBezTo>
                <a:cubicBezTo>
                  <a:pt x="21638" y="7284"/>
                  <a:pt x="21652" y="7331"/>
                  <a:pt x="21679" y="7392"/>
                </a:cubicBezTo>
              </a:path>
              <a:path w="2159" h="1762">
                <a:moveTo>
                  <a:pt x="20638" y="6052"/>
                </a:moveTo>
                <a:cubicBezTo>
                  <a:pt x="20595" y="6026"/>
                  <a:pt x="20575" y="6010"/>
                  <a:pt x="20538" y="5978"/>
                </a:cubicBezTo>
                <a:cubicBezTo>
                  <a:pt x="20593" y="5910"/>
                  <a:pt x="20631" y="5876"/>
                  <a:pt x="20712" y="5829"/>
                </a:cubicBezTo>
                <a:cubicBezTo>
                  <a:pt x="20834" y="5759"/>
                  <a:pt x="20950" y="5715"/>
                  <a:pt x="21084" y="5680"/>
                </a:cubicBezTo>
                <a:cubicBezTo>
                  <a:pt x="21251" y="5637"/>
                  <a:pt x="21384" y="5621"/>
                  <a:pt x="21555" y="5655"/>
                </a:cubicBezTo>
                <a:cubicBezTo>
                  <a:pt x="21677" y="5679"/>
                  <a:pt x="21832" y="5744"/>
                  <a:pt x="21903" y="5854"/>
                </a:cubicBezTo>
                <a:cubicBezTo>
                  <a:pt x="21966" y="5951"/>
                  <a:pt x="21905" y="6046"/>
                  <a:pt x="21853" y="6127"/>
                </a:cubicBezTo>
                <a:cubicBezTo>
                  <a:pt x="21791" y="6225"/>
                  <a:pt x="21715" y="6326"/>
                  <a:pt x="21630" y="6400"/>
                </a:cubicBezTo>
                <a:cubicBezTo>
                  <a:pt x="21589" y="6436"/>
                  <a:pt x="21527" y="6468"/>
                  <a:pt x="21481" y="6499"/>
                </a:cubicBezTo>
                <a:cubicBezTo>
                  <a:pt x="21546" y="6531"/>
                  <a:pt x="21613" y="6540"/>
                  <a:pt x="21679" y="6573"/>
                </a:cubicBezTo>
                <a:cubicBezTo>
                  <a:pt x="21772" y="6620"/>
                  <a:pt x="21864" y="6690"/>
                  <a:pt x="21952" y="6747"/>
                </a:cubicBezTo>
                <a:cubicBezTo>
                  <a:pt x="22077" y="6828"/>
                  <a:pt x="22191" y="6907"/>
                  <a:pt x="22324" y="6970"/>
                </a:cubicBezTo>
                <a:cubicBezTo>
                  <a:pt x="22399" y="7006"/>
                  <a:pt x="22473" y="7014"/>
                  <a:pt x="22547" y="7045"/>
                </a:cubicBezTo>
                <a:cubicBezTo>
                  <a:pt x="22599" y="7067"/>
                  <a:pt x="22646" y="7098"/>
                  <a:pt x="22696" y="71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nk 15"/>
          <p:cNvSpPr/>
          <p:nvPr/>
        </p:nvSpPr>
        <p:spPr>
          <a:xfrm>
            <a:off x="3803760" y="2768760"/>
            <a:ext cx="1849320" cy="714240"/>
          </a:xfrm>
          <a:custGeom>
            <a:avLst/>
            <a:gdLst/>
            <a:ahLst/>
            <a:rect l="l" t="t" r="r" b="b"/>
            <a:pathLst>
              <a:path w="5135" h="1986">
                <a:moveTo>
                  <a:pt x="11038" y="7913"/>
                </a:moveTo>
                <a:cubicBezTo>
                  <a:pt x="11020" y="8082"/>
                  <a:pt x="11013" y="8239"/>
                  <a:pt x="11013" y="8409"/>
                </a:cubicBezTo>
                <a:cubicBezTo>
                  <a:pt x="11013" y="8546"/>
                  <a:pt x="11026" y="8674"/>
                  <a:pt x="11038" y="8806"/>
                </a:cubicBezTo>
                <a:cubicBezTo>
                  <a:pt x="11045" y="8877"/>
                  <a:pt x="11013" y="9021"/>
                  <a:pt x="11063" y="9054"/>
                </a:cubicBezTo>
              </a:path>
              <a:path w="5135" h="1986">
                <a:moveTo>
                  <a:pt x="11385" y="7913"/>
                </a:moveTo>
                <a:cubicBezTo>
                  <a:pt x="11408" y="8056"/>
                  <a:pt x="11410" y="8188"/>
                  <a:pt x="11410" y="8334"/>
                </a:cubicBezTo>
                <a:cubicBezTo>
                  <a:pt x="11410" y="8492"/>
                  <a:pt x="11397" y="8626"/>
                  <a:pt x="11410" y="8781"/>
                </a:cubicBezTo>
                <a:cubicBezTo>
                  <a:pt x="11420" y="8900"/>
                  <a:pt x="11444" y="9012"/>
                  <a:pt x="11460" y="9128"/>
                </a:cubicBezTo>
                <a:cubicBezTo>
                  <a:pt x="11466" y="9173"/>
                  <a:pt x="11452" y="9233"/>
                  <a:pt x="11485" y="9203"/>
                </a:cubicBezTo>
              </a:path>
              <a:path w="5135" h="1986">
                <a:moveTo>
                  <a:pt x="10567" y="7888"/>
                </a:moveTo>
                <a:cubicBezTo>
                  <a:pt x="10656" y="7776"/>
                  <a:pt x="10735" y="7750"/>
                  <a:pt x="10889" y="7764"/>
                </a:cubicBezTo>
                <a:cubicBezTo>
                  <a:pt x="11055" y="7779"/>
                  <a:pt x="11260" y="7816"/>
                  <a:pt x="11410" y="7888"/>
                </a:cubicBezTo>
                <a:cubicBezTo>
                  <a:pt x="11530" y="7945"/>
                  <a:pt x="11641" y="8021"/>
                  <a:pt x="11708" y="8136"/>
                </a:cubicBezTo>
                <a:cubicBezTo>
                  <a:pt x="11746" y="8202"/>
                  <a:pt x="11700" y="8294"/>
                  <a:pt x="11633" y="8334"/>
                </a:cubicBezTo>
                <a:cubicBezTo>
                  <a:pt x="11558" y="8378"/>
                  <a:pt x="11464" y="8387"/>
                  <a:pt x="11385" y="8409"/>
                </a:cubicBezTo>
                <a:cubicBezTo>
                  <a:pt x="11334" y="8409"/>
                  <a:pt x="11315" y="8410"/>
                  <a:pt x="11286" y="8434"/>
                </a:cubicBezTo>
                <a:cubicBezTo>
                  <a:pt x="11361" y="8499"/>
                  <a:pt x="11424" y="8513"/>
                  <a:pt x="11509" y="8558"/>
                </a:cubicBezTo>
                <a:cubicBezTo>
                  <a:pt x="11642" y="8629"/>
                  <a:pt x="11750" y="8726"/>
                  <a:pt x="11857" y="8830"/>
                </a:cubicBezTo>
                <a:cubicBezTo>
                  <a:pt x="11948" y="8919"/>
                  <a:pt x="12069" y="8987"/>
                  <a:pt x="12154" y="9079"/>
                </a:cubicBezTo>
                <a:cubicBezTo>
                  <a:pt x="12196" y="9124"/>
                  <a:pt x="12282" y="9220"/>
                  <a:pt x="12353" y="9227"/>
                </a:cubicBezTo>
                <a:cubicBezTo>
                  <a:pt x="12369" y="9219"/>
                  <a:pt x="12386" y="9211"/>
                  <a:pt x="12402" y="9203"/>
                </a:cubicBezTo>
              </a:path>
              <a:path w="5135" h="1986">
                <a:moveTo>
                  <a:pt x="12601" y="7689"/>
                </a:moveTo>
                <a:cubicBezTo>
                  <a:pt x="12627" y="7816"/>
                  <a:pt x="12626" y="7931"/>
                  <a:pt x="12626" y="8062"/>
                </a:cubicBezTo>
                <a:cubicBezTo>
                  <a:pt x="12626" y="8271"/>
                  <a:pt x="12637" y="8475"/>
                  <a:pt x="12650" y="8682"/>
                </a:cubicBezTo>
                <a:cubicBezTo>
                  <a:pt x="12660" y="8848"/>
                  <a:pt x="12667" y="9014"/>
                  <a:pt x="12700" y="9178"/>
                </a:cubicBezTo>
                <a:cubicBezTo>
                  <a:pt x="12723" y="9292"/>
                  <a:pt x="12726" y="9415"/>
                  <a:pt x="12750" y="9525"/>
                </a:cubicBezTo>
                <a:cubicBezTo>
                  <a:pt x="12761" y="9576"/>
                  <a:pt x="12781" y="9625"/>
                  <a:pt x="12799" y="9674"/>
                </a:cubicBezTo>
                <a:cubicBezTo>
                  <a:pt x="12799" y="9598"/>
                  <a:pt x="12799" y="9572"/>
                  <a:pt x="12824" y="9525"/>
                </a:cubicBezTo>
              </a:path>
              <a:path w="5135" h="1986">
                <a:moveTo>
                  <a:pt x="13196" y="8285"/>
                </a:moveTo>
                <a:cubicBezTo>
                  <a:pt x="13298" y="8358"/>
                  <a:pt x="13357" y="8443"/>
                  <a:pt x="13444" y="8533"/>
                </a:cubicBezTo>
                <a:cubicBezTo>
                  <a:pt x="13539" y="8631"/>
                  <a:pt x="13641" y="8716"/>
                  <a:pt x="13742" y="8806"/>
                </a:cubicBezTo>
                <a:cubicBezTo>
                  <a:pt x="13819" y="8875"/>
                  <a:pt x="13891" y="8964"/>
                  <a:pt x="13990" y="8979"/>
                </a:cubicBezTo>
                <a:cubicBezTo>
                  <a:pt x="14033" y="8979"/>
                  <a:pt x="14046" y="8962"/>
                  <a:pt x="14039" y="8905"/>
                </a:cubicBezTo>
              </a:path>
              <a:path w="5135" h="1986">
                <a:moveTo>
                  <a:pt x="13667" y="8310"/>
                </a:moveTo>
                <a:cubicBezTo>
                  <a:pt x="13570" y="8455"/>
                  <a:pt x="13479" y="8642"/>
                  <a:pt x="13370" y="8781"/>
                </a:cubicBezTo>
                <a:cubicBezTo>
                  <a:pt x="13356" y="8799"/>
                  <a:pt x="13275" y="8961"/>
                  <a:pt x="13246" y="8954"/>
                </a:cubicBezTo>
                <a:cubicBezTo>
                  <a:pt x="13246" y="8946"/>
                  <a:pt x="13246" y="8938"/>
                  <a:pt x="13246" y="8930"/>
                </a:cubicBezTo>
              </a:path>
              <a:path w="5135" h="1986">
                <a:moveTo>
                  <a:pt x="13990" y="8037"/>
                </a:moveTo>
                <a:cubicBezTo>
                  <a:pt x="14122" y="8088"/>
                  <a:pt x="14255" y="8137"/>
                  <a:pt x="14387" y="8186"/>
                </a:cubicBezTo>
                <a:cubicBezTo>
                  <a:pt x="14455" y="8211"/>
                  <a:pt x="14549" y="8232"/>
                  <a:pt x="14610" y="8260"/>
                </a:cubicBezTo>
                <a:cubicBezTo>
                  <a:pt x="14618" y="8268"/>
                  <a:pt x="14627" y="8277"/>
                  <a:pt x="14635" y="8285"/>
                </a:cubicBezTo>
                <a:cubicBezTo>
                  <a:pt x="14546" y="8315"/>
                  <a:pt x="14455" y="8328"/>
                  <a:pt x="14362" y="8359"/>
                </a:cubicBezTo>
                <a:cubicBezTo>
                  <a:pt x="14283" y="8385"/>
                  <a:pt x="14201" y="8402"/>
                  <a:pt x="14139" y="8458"/>
                </a:cubicBezTo>
                <a:cubicBezTo>
                  <a:pt x="14109" y="8485"/>
                  <a:pt x="14098" y="8497"/>
                  <a:pt x="14089" y="8533"/>
                </a:cubicBezTo>
              </a:path>
              <a:path w="5135" h="1986">
                <a:moveTo>
                  <a:pt x="14064" y="8756"/>
                </a:moveTo>
                <a:cubicBezTo>
                  <a:pt x="14201" y="8756"/>
                  <a:pt x="14332" y="8747"/>
                  <a:pt x="14461" y="8731"/>
                </a:cubicBezTo>
                <a:cubicBezTo>
                  <a:pt x="14536" y="8731"/>
                  <a:pt x="14560" y="8731"/>
                  <a:pt x="14610" y="8731"/>
                </a:cubicBezTo>
              </a:path>
              <a:path w="5135" h="1986">
                <a:moveTo>
                  <a:pt x="14858" y="8062"/>
                </a:moveTo>
                <a:cubicBezTo>
                  <a:pt x="14988" y="8049"/>
                  <a:pt x="14936" y="8037"/>
                  <a:pt x="14982" y="7938"/>
                </a:cubicBezTo>
                <a:cubicBezTo>
                  <a:pt x="14996" y="7907"/>
                  <a:pt x="15011" y="7826"/>
                  <a:pt x="15056" y="7813"/>
                </a:cubicBezTo>
                <a:cubicBezTo>
                  <a:pt x="15125" y="7793"/>
                  <a:pt x="15168" y="7787"/>
                  <a:pt x="15230" y="7838"/>
                </a:cubicBezTo>
                <a:cubicBezTo>
                  <a:pt x="15269" y="7870"/>
                  <a:pt x="15288" y="7988"/>
                  <a:pt x="15280" y="8037"/>
                </a:cubicBezTo>
                <a:cubicBezTo>
                  <a:pt x="15265" y="8133"/>
                  <a:pt x="15240" y="8219"/>
                  <a:pt x="15205" y="8310"/>
                </a:cubicBezTo>
                <a:cubicBezTo>
                  <a:pt x="15175" y="8389"/>
                  <a:pt x="15160" y="8490"/>
                  <a:pt x="15106" y="8558"/>
                </a:cubicBezTo>
                <a:cubicBezTo>
                  <a:pt x="15049" y="8630"/>
                  <a:pt x="14998" y="8700"/>
                  <a:pt x="14932" y="8756"/>
                </a:cubicBezTo>
                <a:cubicBezTo>
                  <a:pt x="14924" y="8764"/>
                  <a:pt x="14916" y="8773"/>
                  <a:pt x="14908" y="8781"/>
                </a:cubicBezTo>
                <a:cubicBezTo>
                  <a:pt x="15172" y="8781"/>
                  <a:pt x="15437" y="8781"/>
                  <a:pt x="15701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16"/>
          <p:cNvSpPr/>
          <p:nvPr/>
        </p:nvSpPr>
        <p:spPr>
          <a:xfrm>
            <a:off x="6589800" y="3446640"/>
            <a:ext cx="903240" cy="1206360"/>
          </a:xfrm>
          <a:custGeom>
            <a:avLst/>
            <a:gdLst/>
            <a:ahLst/>
            <a:rect l="l" t="t" r="r" b="b"/>
            <a:pathLst>
              <a:path w="2506" h="3349">
                <a:moveTo>
                  <a:pt x="19769" y="9575"/>
                </a:moveTo>
                <a:lnTo>
                  <a:pt x="19769" y="9575"/>
                </a:lnTo>
              </a:path>
              <a:path w="2506" h="3349">
                <a:moveTo>
                  <a:pt x="19695" y="9823"/>
                </a:moveTo>
                <a:cubicBezTo>
                  <a:pt x="19665" y="9992"/>
                  <a:pt x="19602" y="10216"/>
                  <a:pt x="19621" y="10393"/>
                </a:cubicBezTo>
                <a:cubicBezTo>
                  <a:pt x="19633" y="10511"/>
                  <a:pt x="19645" y="10620"/>
                  <a:pt x="19645" y="10740"/>
                </a:cubicBezTo>
                <a:cubicBezTo>
                  <a:pt x="19645" y="10820"/>
                  <a:pt x="19659" y="10899"/>
                  <a:pt x="19621" y="10964"/>
                </a:cubicBezTo>
              </a:path>
              <a:path w="2506" h="3349">
                <a:moveTo>
                  <a:pt x="18529" y="11187"/>
                </a:moveTo>
                <a:cubicBezTo>
                  <a:pt x="18609" y="11177"/>
                  <a:pt x="18696" y="11177"/>
                  <a:pt x="18777" y="11162"/>
                </a:cubicBezTo>
                <a:cubicBezTo>
                  <a:pt x="18969" y="11126"/>
                  <a:pt x="19176" y="11082"/>
                  <a:pt x="19372" y="11063"/>
                </a:cubicBezTo>
                <a:cubicBezTo>
                  <a:pt x="19619" y="11039"/>
                  <a:pt x="19870" y="11002"/>
                  <a:pt x="20117" y="10988"/>
                </a:cubicBezTo>
                <a:cubicBezTo>
                  <a:pt x="20284" y="10978"/>
                  <a:pt x="20452" y="10978"/>
                  <a:pt x="20613" y="10988"/>
                </a:cubicBezTo>
                <a:cubicBezTo>
                  <a:pt x="20690" y="10993"/>
                  <a:pt x="20746" y="10991"/>
                  <a:pt x="20811" y="11013"/>
                </a:cubicBezTo>
              </a:path>
              <a:path w="2506" h="3349">
                <a:moveTo>
                  <a:pt x="18306" y="11906"/>
                </a:moveTo>
                <a:cubicBezTo>
                  <a:pt x="18387" y="11914"/>
                  <a:pt x="18430" y="11936"/>
                  <a:pt x="18504" y="11981"/>
                </a:cubicBezTo>
                <a:cubicBezTo>
                  <a:pt x="18611" y="12045"/>
                  <a:pt x="18707" y="12168"/>
                  <a:pt x="18802" y="12254"/>
                </a:cubicBezTo>
                <a:cubicBezTo>
                  <a:pt x="18905" y="12347"/>
                  <a:pt x="18977" y="12462"/>
                  <a:pt x="19050" y="12576"/>
                </a:cubicBezTo>
                <a:cubicBezTo>
                  <a:pt x="19091" y="12640"/>
                  <a:pt x="19143" y="12775"/>
                  <a:pt x="19199" y="12824"/>
                </a:cubicBezTo>
                <a:cubicBezTo>
                  <a:pt x="19207" y="12824"/>
                  <a:pt x="19216" y="12824"/>
                  <a:pt x="19224" y="12824"/>
                </a:cubicBezTo>
              </a:path>
              <a:path w="2506" h="3349">
                <a:moveTo>
                  <a:pt x="18926" y="11832"/>
                </a:moveTo>
                <a:cubicBezTo>
                  <a:pt x="18851" y="11944"/>
                  <a:pt x="18786" y="12061"/>
                  <a:pt x="18728" y="12179"/>
                </a:cubicBezTo>
                <a:cubicBezTo>
                  <a:pt x="18648" y="12343"/>
                  <a:pt x="18579" y="12508"/>
                  <a:pt x="18504" y="12675"/>
                </a:cubicBezTo>
                <a:cubicBezTo>
                  <a:pt x="18467" y="12758"/>
                  <a:pt x="18439" y="12839"/>
                  <a:pt x="18405" y="12923"/>
                </a:cubicBezTo>
              </a:path>
              <a:path w="2506" h="3349">
                <a:moveTo>
                  <a:pt x="19372" y="11757"/>
                </a:moveTo>
                <a:cubicBezTo>
                  <a:pt x="19372" y="11911"/>
                  <a:pt x="19359" y="12052"/>
                  <a:pt x="19348" y="12204"/>
                </a:cubicBezTo>
                <a:cubicBezTo>
                  <a:pt x="19339" y="12330"/>
                  <a:pt x="19311" y="12453"/>
                  <a:pt x="19298" y="12576"/>
                </a:cubicBezTo>
                <a:cubicBezTo>
                  <a:pt x="19292" y="12632"/>
                  <a:pt x="19298" y="12693"/>
                  <a:pt x="19298" y="12750"/>
                </a:cubicBezTo>
              </a:path>
              <a:path w="2506" h="3349">
                <a:moveTo>
                  <a:pt x="19124" y="12229"/>
                </a:moveTo>
                <a:cubicBezTo>
                  <a:pt x="19268" y="12229"/>
                  <a:pt x="19344" y="12220"/>
                  <a:pt x="19496" y="12179"/>
                </a:cubicBezTo>
                <a:cubicBezTo>
                  <a:pt x="19565" y="12160"/>
                  <a:pt x="19630" y="12133"/>
                  <a:pt x="19695" y="12105"/>
                </a:cubicBezTo>
              </a:path>
              <a:path w="2506" h="3349">
                <a:moveTo>
                  <a:pt x="19943" y="11757"/>
                </a:moveTo>
                <a:cubicBezTo>
                  <a:pt x="20030" y="11714"/>
                  <a:pt x="20099" y="11651"/>
                  <a:pt x="20191" y="11708"/>
                </a:cubicBezTo>
                <a:cubicBezTo>
                  <a:pt x="20258" y="11749"/>
                  <a:pt x="20244" y="11794"/>
                  <a:pt x="20216" y="11857"/>
                </a:cubicBezTo>
                <a:cubicBezTo>
                  <a:pt x="20178" y="11943"/>
                  <a:pt x="20156" y="12010"/>
                  <a:pt x="20092" y="12080"/>
                </a:cubicBezTo>
                <a:cubicBezTo>
                  <a:pt x="20062" y="12110"/>
                  <a:pt x="20051" y="12124"/>
                  <a:pt x="20042" y="12154"/>
                </a:cubicBezTo>
                <a:cubicBezTo>
                  <a:pt x="20110" y="12146"/>
                  <a:pt x="20199" y="12147"/>
                  <a:pt x="20265" y="12129"/>
                </a:cubicBezTo>
                <a:cubicBezTo>
                  <a:pt x="20345" y="12108"/>
                  <a:pt x="20479" y="12125"/>
                  <a:pt x="20439" y="12254"/>
                </a:cubicBezTo>
                <a:cubicBezTo>
                  <a:pt x="20404" y="12367"/>
                  <a:pt x="20308" y="12456"/>
                  <a:pt x="20241" y="12551"/>
                </a:cubicBezTo>
                <a:cubicBezTo>
                  <a:pt x="20182" y="12635"/>
                  <a:pt x="20115" y="12703"/>
                  <a:pt x="20042" y="127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17"/>
          <p:cNvSpPr/>
          <p:nvPr/>
        </p:nvSpPr>
        <p:spPr>
          <a:xfrm>
            <a:off x="6777000" y="4483080"/>
            <a:ext cx="1947960" cy="1285920"/>
          </a:xfrm>
          <a:custGeom>
            <a:avLst/>
            <a:gdLst/>
            <a:ahLst/>
            <a:rect l="l" t="t" r="r" b="b"/>
            <a:pathLst>
              <a:path w="5408" h="3573">
                <a:moveTo>
                  <a:pt x="19248" y="13494"/>
                </a:moveTo>
                <a:cubicBezTo>
                  <a:pt x="19226" y="13550"/>
                  <a:pt x="19248" y="13663"/>
                  <a:pt x="19248" y="13742"/>
                </a:cubicBezTo>
                <a:cubicBezTo>
                  <a:pt x="19248" y="14084"/>
                  <a:pt x="19254" y="14420"/>
                  <a:pt x="19273" y="14759"/>
                </a:cubicBezTo>
                <a:cubicBezTo>
                  <a:pt x="19280" y="14890"/>
                  <a:pt x="19249" y="14996"/>
                  <a:pt x="19323" y="15106"/>
                </a:cubicBezTo>
              </a:path>
              <a:path w="5408" h="3573">
                <a:moveTo>
                  <a:pt x="19670" y="13543"/>
                </a:moveTo>
                <a:cubicBezTo>
                  <a:pt x="19692" y="13745"/>
                  <a:pt x="19695" y="13936"/>
                  <a:pt x="19695" y="14139"/>
                </a:cubicBezTo>
                <a:cubicBezTo>
                  <a:pt x="19695" y="14357"/>
                  <a:pt x="19709" y="14568"/>
                  <a:pt x="19720" y="14784"/>
                </a:cubicBezTo>
                <a:cubicBezTo>
                  <a:pt x="19727" y="14924"/>
                  <a:pt x="19682" y="15168"/>
                  <a:pt x="19794" y="15280"/>
                </a:cubicBezTo>
                <a:cubicBezTo>
                  <a:pt x="19802" y="15280"/>
                  <a:pt x="19811" y="15280"/>
                  <a:pt x="19819" y="15280"/>
                </a:cubicBezTo>
              </a:path>
              <a:path w="5408" h="3573">
                <a:moveTo>
                  <a:pt x="18827" y="13643"/>
                </a:moveTo>
                <a:cubicBezTo>
                  <a:pt x="18939" y="13530"/>
                  <a:pt x="19051" y="13437"/>
                  <a:pt x="19199" y="13370"/>
                </a:cubicBezTo>
                <a:cubicBezTo>
                  <a:pt x="19424" y="13269"/>
                  <a:pt x="19670" y="13166"/>
                  <a:pt x="19918" y="13171"/>
                </a:cubicBezTo>
                <a:cubicBezTo>
                  <a:pt x="20024" y="13173"/>
                  <a:pt x="20179" y="13193"/>
                  <a:pt x="20241" y="13295"/>
                </a:cubicBezTo>
                <a:cubicBezTo>
                  <a:pt x="20321" y="13429"/>
                  <a:pt x="20212" y="13678"/>
                  <a:pt x="20141" y="13791"/>
                </a:cubicBezTo>
                <a:cubicBezTo>
                  <a:pt x="20007" y="14005"/>
                  <a:pt x="19842" y="14206"/>
                  <a:pt x="19695" y="14412"/>
                </a:cubicBezTo>
                <a:cubicBezTo>
                  <a:pt x="19657" y="14465"/>
                  <a:pt x="19662" y="14461"/>
                  <a:pt x="19621" y="14511"/>
                </a:cubicBezTo>
                <a:cubicBezTo>
                  <a:pt x="19685" y="14476"/>
                  <a:pt x="19719" y="14447"/>
                  <a:pt x="19794" y="14436"/>
                </a:cubicBezTo>
                <a:cubicBezTo>
                  <a:pt x="19899" y="14421"/>
                  <a:pt x="19935" y="14470"/>
                  <a:pt x="20017" y="14511"/>
                </a:cubicBezTo>
                <a:cubicBezTo>
                  <a:pt x="20113" y="14559"/>
                  <a:pt x="20205" y="14636"/>
                  <a:pt x="20265" y="14734"/>
                </a:cubicBezTo>
                <a:cubicBezTo>
                  <a:pt x="20340" y="14856"/>
                  <a:pt x="20416" y="14996"/>
                  <a:pt x="20464" y="15131"/>
                </a:cubicBezTo>
                <a:cubicBezTo>
                  <a:pt x="20508" y="15256"/>
                  <a:pt x="20532" y="15381"/>
                  <a:pt x="20588" y="15503"/>
                </a:cubicBezTo>
                <a:cubicBezTo>
                  <a:pt x="20616" y="15564"/>
                  <a:pt x="20647" y="15602"/>
                  <a:pt x="20687" y="15652"/>
                </a:cubicBezTo>
                <a:cubicBezTo>
                  <a:pt x="20721" y="15572"/>
                  <a:pt x="20718" y="15541"/>
                  <a:pt x="20737" y="15453"/>
                </a:cubicBezTo>
                <a:cubicBezTo>
                  <a:pt x="20745" y="15428"/>
                  <a:pt x="20754" y="15404"/>
                  <a:pt x="20762" y="15379"/>
                </a:cubicBezTo>
              </a:path>
              <a:path w="5408" h="3573">
                <a:moveTo>
                  <a:pt x="21431" y="12452"/>
                </a:moveTo>
                <a:cubicBezTo>
                  <a:pt x="21431" y="12551"/>
                  <a:pt x="21415" y="12629"/>
                  <a:pt x="21406" y="12725"/>
                </a:cubicBezTo>
                <a:cubicBezTo>
                  <a:pt x="21392" y="12873"/>
                  <a:pt x="21397" y="13023"/>
                  <a:pt x="21382" y="13171"/>
                </a:cubicBezTo>
                <a:cubicBezTo>
                  <a:pt x="21356" y="13431"/>
                  <a:pt x="21316" y="13676"/>
                  <a:pt x="21307" y="13940"/>
                </a:cubicBezTo>
                <a:cubicBezTo>
                  <a:pt x="21290" y="14411"/>
                  <a:pt x="21305" y="14886"/>
                  <a:pt x="21332" y="15354"/>
                </a:cubicBezTo>
                <a:cubicBezTo>
                  <a:pt x="21342" y="15528"/>
                  <a:pt x="21320" y="15705"/>
                  <a:pt x="21357" y="15875"/>
                </a:cubicBezTo>
                <a:cubicBezTo>
                  <a:pt x="21375" y="15957"/>
                  <a:pt x="21407" y="15969"/>
                  <a:pt x="21332" y="15999"/>
                </a:cubicBezTo>
                <a:cubicBezTo>
                  <a:pt x="21267" y="16025"/>
                  <a:pt x="21324" y="15986"/>
                  <a:pt x="21307" y="15925"/>
                </a:cubicBezTo>
              </a:path>
              <a:path w="5408" h="3573">
                <a:moveTo>
                  <a:pt x="21704" y="13767"/>
                </a:moveTo>
                <a:cubicBezTo>
                  <a:pt x="21773" y="13835"/>
                  <a:pt x="21796" y="13872"/>
                  <a:pt x="21828" y="13965"/>
                </a:cubicBezTo>
                <a:cubicBezTo>
                  <a:pt x="21870" y="14085"/>
                  <a:pt x="21937" y="14191"/>
                  <a:pt x="21977" y="14312"/>
                </a:cubicBezTo>
                <a:cubicBezTo>
                  <a:pt x="22023" y="14450"/>
                  <a:pt x="22103" y="14572"/>
                  <a:pt x="22151" y="14709"/>
                </a:cubicBezTo>
                <a:cubicBezTo>
                  <a:pt x="22198" y="14841"/>
                  <a:pt x="22237" y="14956"/>
                  <a:pt x="22299" y="15081"/>
                </a:cubicBezTo>
              </a:path>
              <a:path w="5408" h="3573">
                <a:moveTo>
                  <a:pt x="22101" y="13816"/>
                </a:moveTo>
                <a:cubicBezTo>
                  <a:pt x="21971" y="13829"/>
                  <a:pt x="22011" y="13856"/>
                  <a:pt x="21952" y="13965"/>
                </a:cubicBezTo>
                <a:cubicBezTo>
                  <a:pt x="21872" y="14115"/>
                  <a:pt x="21785" y="14262"/>
                  <a:pt x="21704" y="14412"/>
                </a:cubicBezTo>
                <a:cubicBezTo>
                  <a:pt x="21618" y="14571"/>
                  <a:pt x="21556" y="14736"/>
                  <a:pt x="21506" y="14908"/>
                </a:cubicBezTo>
              </a:path>
              <a:path w="5408" h="3573">
                <a:moveTo>
                  <a:pt x="22250" y="14114"/>
                </a:moveTo>
                <a:cubicBezTo>
                  <a:pt x="22354" y="14069"/>
                  <a:pt x="22432" y="14044"/>
                  <a:pt x="22547" y="14039"/>
                </a:cubicBezTo>
                <a:cubicBezTo>
                  <a:pt x="22654" y="14034"/>
                  <a:pt x="22857" y="14086"/>
                  <a:pt x="22944" y="14064"/>
                </a:cubicBezTo>
                <a:cubicBezTo>
                  <a:pt x="22944" y="14056"/>
                  <a:pt x="22944" y="14047"/>
                  <a:pt x="22944" y="14039"/>
                </a:cubicBezTo>
              </a:path>
              <a:path w="5408" h="3573">
                <a:moveTo>
                  <a:pt x="22448" y="14263"/>
                </a:moveTo>
                <a:cubicBezTo>
                  <a:pt x="22497" y="14302"/>
                  <a:pt x="22560" y="14327"/>
                  <a:pt x="22622" y="14337"/>
                </a:cubicBezTo>
                <a:cubicBezTo>
                  <a:pt x="22698" y="14350"/>
                  <a:pt x="22772" y="14320"/>
                  <a:pt x="22845" y="14312"/>
                </a:cubicBezTo>
              </a:path>
              <a:path w="5408" h="3573">
                <a:moveTo>
                  <a:pt x="22820" y="13618"/>
                </a:moveTo>
                <a:cubicBezTo>
                  <a:pt x="22748" y="13704"/>
                  <a:pt x="22687" y="13807"/>
                  <a:pt x="22647" y="13915"/>
                </a:cubicBezTo>
                <a:cubicBezTo>
                  <a:pt x="22604" y="14030"/>
                  <a:pt x="22538" y="14165"/>
                  <a:pt x="22523" y="14288"/>
                </a:cubicBezTo>
                <a:cubicBezTo>
                  <a:pt x="22511" y="14389"/>
                  <a:pt x="22498" y="14483"/>
                  <a:pt x="22498" y="14585"/>
                </a:cubicBezTo>
                <a:cubicBezTo>
                  <a:pt x="22498" y="14630"/>
                  <a:pt x="22495" y="14643"/>
                  <a:pt x="22523" y="14660"/>
                </a:cubicBezTo>
              </a:path>
              <a:path w="5408" h="3573">
                <a:moveTo>
                  <a:pt x="23242" y="13742"/>
                </a:moveTo>
                <a:cubicBezTo>
                  <a:pt x="23372" y="13742"/>
                  <a:pt x="23519" y="13762"/>
                  <a:pt x="23639" y="13717"/>
                </a:cubicBezTo>
              </a:path>
              <a:path w="5408" h="3573">
                <a:moveTo>
                  <a:pt x="23837" y="13271"/>
                </a:moveTo>
                <a:cubicBezTo>
                  <a:pt x="23963" y="13224"/>
                  <a:pt x="24004" y="13172"/>
                  <a:pt x="24110" y="13246"/>
                </a:cubicBezTo>
                <a:cubicBezTo>
                  <a:pt x="24183" y="13297"/>
                  <a:pt x="24112" y="13411"/>
                  <a:pt x="24085" y="13469"/>
                </a:cubicBezTo>
                <a:cubicBezTo>
                  <a:pt x="24055" y="13533"/>
                  <a:pt x="23993" y="13577"/>
                  <a:pt x="23937" y="13618"/>
                </a:cubicBezTo>
                <a:cubicBezTo>
                  <a:pt x="23993" y="13583"/>
                  <a:pt x="24024" y="13568"/>
                  <a:pt x="24085" y="13593"/>
                </a:cubicBezTo>
                <a:cubicBezTo>
                  <a:pt x="24152" y="13621"/>
                  <a:pt x="24199" y="13666"/>
                  <a:pt x="24209" y="13742"/>
                </a:cubicBezTo>
                <a:cubicBezTo>
                  <a:pt x="24221" y="13835"/>
                  <a:pt x="24231" y="13903"/>
                  <a:pt x="24209" y="13990"/>
                </a:cubicBezTo>
                <a:cubicBezTo>
                  <a:pt x="24184" y="14087"/>
                  <a:pt x="24140" y="14160"/>
                  <a:pt x="24085" y="14238"/>
                </a:cubicBezTo>
                <a:cubicBezTo>
                  <a:pt x="24012" y="14341"/>
                  <a:pt x="23916" y="14391"/>
                  <a:pt x="23812" y="14461"/>
                </a:cubicBezTo>
                <a:cubicBezTo>
                  <a:pt x="23745" y="14506"/>
                  <a:pt x="23676" y="14561"/>
                  <a:pt x="23589" y="14536"/>
                </a:cubicBezTo>
                <a:cubicBezTo>
                  <a:pt x="23543" y="14523"/>
                  <a:pt x="23501" y="14490"/>
                  <a:pt x="23465" y="144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18"/>
          <p:cNvSpPr/>
          <p:nvPr/>
        </p:nvSpPr>
        <p:spPr>
          <a:xfrm>
            <a:off x="857160" y="3456000"/>
            <a:ext cx="206640" cy="303120"/>
          </a:xfrm>
          <a:custGeom>
            <a:avLst/>
            <a:gdLst/>
            <a:ahLst/>
            <a:rect l="l" t="t" r="r" b="b"/>
            <a:pathLst>
              <a:path w="572" h="845">
                <a:moveTo>
                  <a:pt x="2406" y="9624"/>
                </a:moveTo>
                <a:cubicBezTo>
                  <a:pt x="2346" y="9564"/>
                  <a:pt x="2450" y="9689"/>
                  <a:pt x="2456" y="9723"/>
                </a:cubicBezTo>
                <a:cubicBezTo>
                  <a:pt x="2473" y="9818"/>
                  <a:pt x="2482" y="9907"/>
                  <a:pt x="2530" y="9996"/>
                </a:cubicBezTo>
                <a:cubicBezTo>
                  <a:pt x="2579" y="10087"/>
                  <a:pt x="2636" y="10195"/>
                  <a:pt x="2704" y="10269"/>
                </a:cubicBezTo>
                <a:cubicBezTo>
                  <a:pt x="2746" y="10315"/>
                  <a:pt x="2836" y="10425"/>
                  <a:pt x="2902" y="10443"/>
                </a:cubicBezTo>
                <a:cubicBezTo>
                  <a:pt x="2919" y="10443"/>
                  <a:pt x="2935" y="10443"/>
                  <a:pt x="2952" y="104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Ink 19"/>
          <p:cNvSpPr/>
          <p:nvPr/>
        </p:nvSpPr>
        <p:spPr>
          <a:xfrm>
            <a:off x="866880" y="3456000"/>
            <a:ext cx="106200" cy="312840"/>
          </a:xfrm>
          <a:custGeom>
            <a:avLst/>
            <a:gdLst/>
            <a:ahLst/>
            <a:rect l="l" t="t" r="r" b="b"/>
            <a:pathLst>
              <a:path w="299" h="870">
                <a:moveTo>
                  <a:pt x="2704" y="9599"/>
                </a:moveTo>
                <a:cubicBezTo>
                  <a:pt x="2658" y="9729"/>
                  <a:pt x="2608" y="9847"/>
                  <a:pt x="2555" y="9971"/>
                </a:cubicBezTo>
                <a:cubicBezTo>
                  <a:pt x="2503" y="10093"/>
                  <a:pt x="2489" y="10222"/>
                  <a:pt x="2456" y="10344"/>
                </a:cubicBezTo>
                <a:cubicBezTo>
                  <a:pt x="2437" y="10414"/>
                  <a:pt x="2406" y="10406"/>
                  <a:pt x="2431" y="104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Ink 20"/>
          <p:cNvSpPr/>
          <p:nvPr/>
        </p:nvSpPr>
        <p:spPr>
          <a:xfrm>
            <a:off x="1054080" y="3616200"/>
            <a:ext cx="108000" cy="1800"/>
          </a:xfrm>
          <a:custGeom>
            <a:avLst/>
            <a:gdLst/>
            <a:ahLst/>
            <a:rect l="l" t="t" r="r" b="b"/>
            <a:pathLst>
              <a:path w="299" h="1">
                <a:moveTo>
                  <a:pt x="2927" y="10046"/>
                </a:moveTo>
                <a:cubicBezTo>
                  <a:pt x="3026" y="10046"/>
                  <a:pt x="3126" y="10046"/>
                  <a:pt x="3225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Ink 21"/>
          <p:cNvSpPr/>
          <p:nvPr/>
        </p:nvSpPr>
        <p:spPr>
          <a:xfrm>
            <a:off x="1214280" y="3463920"/>
            <a:ext cx="160560" cy="268200"/>
          </a:xfrm>
          <a:custGeom>
            <a:avLst/>
            <a:gdLst/>
            <a:ahLst/>
            <a:rect l="l" t="t" r="r" b="b"/>
            <a:pathLst>
              <a:path w="448" h="745">
                <a:moveTo>
                  <a:pt x="3373" y="9748"/>
                </a:moveTo>
                <a:cubicBezTo>
                  <a:pt x="3391" y="9718"/>
                  <a:pt x="3433" y="9636"/>
                  <a:pt x="3473" y="9624"/>
                </a:cubicBezTo>
                <a:cubicBezTo>
                  <a:pt x="3543" y="9604"/>
                  <a:pt x="3629" y="9652"/>
                  <a:pt x="3646" y="9723"/>
                </a:cubicBezTo>
                <a:cubicBezTo>
                  <a:pt x="3661" y="9788"/>
                  <a:pt x="3646" y="9865"/>
                  <a:pt x="3621" y="9922"/>
                </a:cubicBezTo>
                <a:cubicBezTo>
                  <a:pt x="3588" y="9998"/>
                  <a:pt x="3536" y="10049"/>
                  <a:pt x="3497" y="10120"/>
                </a:cubicBezTo>
                <a:cubicBezTo>
                  <a:pt x="3459" y="10189"/>
                  <a:pt x="3403" y="10243"/>
                  <a:pt x="3398" y="10319"/>
                </a:cubicBezTo>
                <a:cubicBezTo>
                  <a:pt x="3398" y="10335"/>
                  <a:pt x="3398" y="10352"/>
                  <a:pt x="3398" y="10368"/>
                </a:cubicBezTo>
                <a:cubicBezTo>
                  <a:pt x="3539" y="10368"/>
                  <a:pt x="3679" y="10368"/>
                  <a:pt x="3820" y="103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Ink 22"/>
          <p:cNvSpPr/>
          <p:nvPr/>
        </p:nvSpPr>
        <p:spPr>
          <a:xfrm>
            <a:off x="1509840" y="3419640"/>
            <a:ext cx="177840" cy="233280"/>
          </a:xfrm>
          <a:custGeom>
            <a:avLst/>
            <a:gdLst/>
            <a:ahLst/>
            <a:rect l="l" t="t" r="r" b="b"/>
            <a:pathLst>
              <a:path w="497" h="646">
                <a:moveTo>
                  <a:pt x="4192" y="9500"/>
                </a:moveTo>
                <a:cubicBezTo>
                  <a:pt x="4239" y="9548"/>
                  <a:pt x="4295" y="9612"/>
                  <a:pt x="4341" y="9649"/>
                </a:cubicBezTo>
                <a:cubicBezTo>
                  <a:pt x="4396" y="9694"/>
                  <a:pt x="4481" y="9734"/>
                  <a:pt x="4539" y="9773"/>
                </a:cubicBezTo>
                <a:cubicBezTo>
                  <a:pt x="4590" y="9807"/>
                  <a:pt x="4640" y="9834"/>
                  <a:pt x="4688" y="9872"/>
                </a:cubicBezTo>
                <a:cubicBezTo>
                  <a:pt x="4648" y="9912"/>
                  <a:pt x="4590" y="9958"/>
                  <a:pt x="4539" y="9971"/>
                </a:cubicBezTo>
                <a:cubicBezTo>
                  <a:pt x="4474" y="9987"/>
                  <a:pt x="4465" y="9996"/>
                  <a:pt x="4415" y="10046"/>
                </a:cubicBezTo>
                <a:cubicBezTo>
                  <a:pt x="4381" y="10080"/>
                  <a:pt x="4366" y="10102"/>
                  <a:pt x="4341" y="101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Ink 23"/>
          <p:cNvSpPr/>
          <p:nvPr/>
        </p:nvSpPr>
        <p:spPr>
          <a:xfrm>
            <a:off x="1509840" y="3724200"/>
            <a:ext cx="133200" cy="7920"/>
          </a:xfrm>
          <a:custGeom>
            <a:avLst/>
            <a:gdLst/>
            <a:ahLst/>
            <a:rect l="l" t="t" r="r" b="b"/>
            <a:pathLst>
              <a:path w="373" h="25">
                <a:moveTo>
                  <a:pt x="4192" y="10344"/>
                </a:moveTo>
                <a:cubicBezTo>
                  <a:pt x="4310" y="10344"/>
                  <a:pt x="4407" y="10354"/>
                  <a:pt x="4514" y="10344"/>
                </a:cubicBezTo>
                <a:cubicBezTo>
                  <a:pt x="4531" y="10344"/>
                  <a:pt x="4547" y="10344"/>
                  <a:pt x="4564" y="103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Ink 24"/>
          <p:cNvSpPr/>
          <p:nvPr/>
        </p:nvSpPr>
        <p:spPr>
          <a:xfrm>
            <a:off x="1803240" y="3473280"/>
            <a:ext cx="216000" cy="268560"/>
          </a:xfrm>
          <a:custGeom>
            <a:avLst/>
            <a:gdLst/>
            <a:ahLst/>
            <a:rect l="l" t="t" r="r" b="b"/>
            <a:pathLst>
              <a:path w="596" h="745">
                <a:moveTo>
                  <a:pt x="5159" y="9649"/>
                </a:moveTo>
                <a:cubicBezTo>
                  <a:pt x="5115" y="9711"/>
                  <a:pt x="5025" y="9814"/>
                  <a:pt x="5011" y="9897"/>
                </a:cubicBezTo>
                <a:cubicBezTo>
                  <a:pt x="4996" y="9985"/>
                  <a:pt x="5002" y="10116"/>
                  <a:pt x="5035" y="10195"/>
                </a:cubicBezTo>
                <a:cubicBezTo>
                  <a:pt x="5071" y="10281"/>
                  <a:pt x="5102" y="10304"/>
                  <a:pt x="5184" y="10344"/>
                </a:cubicBezTo>
                <a:cubicBezTo>
                  <a:pt x="5270" y="10386"/>
                  <a:pt x="5320" y="10406"/>
                  <a:pt x="5407" y="10368"/>
                </a:cubicBezTo>
                <a:cubicBezTo>
                  <a:pt x="5535" y="10312"/>
                  <a:pt x="5535" y="10229"/>
                  <a:pt x="5581" y="10096"/>
                </a:cubicBezTo>
                <a:cubicBezTo>
                  <a:pt x="5605" y="10026"/>
                  <a:pt x="5602" y="9914"/>
                  <a:pt x="5556" y="9847"/>
                </a:cubicBezTo>
                <a:cubicBezTo>
                  <a:pt x="5525" y="9801"/>
                  <a:pt x="5410" y="9690"/>
                  <a:pt x="5358" y="9674"/>
                </a:cubicBezTo>
                <a:cubicBezTo>
                  <a:pt x="5311" y="9660"/>
                  <a:pt x="5208" y="9674"/>
                  <a:pt x="5159" y="96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Ink 25"/>
          <p:cNvSpPr/>
          <p:nvPr/>
        </p:nvSpPr>
        <p:spPr>
          <a:xfrm>
            <a:off x="1187280" y="3830760"/>
            <a:ext cx="19080" cy="214200"/>
          </a:xfrm>
          <a:custGeom>
            <a:avLst/>
            <a:gdLst/>
            <a:ahLst/>
            <a:rect l="l" t="t" r="r" b="b"/>
            <a:pathLst>
              <a:path w="51" h="597">
                <a:moveTo>
                  <a:pt x="3299" y="10641"/>
                </a:moveTo>
                <a:cubicBezTo>
                  <a:pt x="3325" y="10711"/>
                  <a:pt x="3324" y="10764"/>
                  <a:pt x="3324" y="10840"/>
                </a:cubicBezTo>
                <a:cubicBezTo>
                  <a:pt x="3324" y="10953"/>
                  <a:pt x="3329" y="11064"/>
                  <a:pt x="3349" y="11162"/>
                </a:cubicBezTo>
                <a:cubicBezTo>
                  <a:pt x="3349" y="11204"/>
                  <a:pt x="3349" y="11212"/>
                  <a:pt x="3349" y="112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nk 26"/>
          <p:cNvSpPr/>
          <p:nvPr/>
        </p:nvSpPr>
        <p:spPr>
          <a:xfrm>
            <a:off x="1116000" y="3946680"/>
            <a:ext cx="108000" cy="18720"/>
          </a:xfrm>
          <a:custGeom>
            <a:avLst/>
            <a:gdLst/>
            <a:ahLst/>
            <a:rect l="l" t="t" r="r" b="b"/>
            <a:pathLst>
              <a:path w="298" h="50">
                <a:moveTo>
                  <a:pt x="3125" y="10988"/>
                </a:moveTo>
                <a:cubicBezTo>
                  <a:pt x="3117" y="10980"/>
                  <a:pt x="3109" y="10972"/>
                  <a:pt x="3101" y="10964"/>
                </a:cubicBezTo>
                <a:cubicBezTo>
                  <a:pt x="3161" y="10971"/>
                  <a:pt x="3241" y="10972"/>
                  <a:pt x="3299" y="10988"/>
                </a:cubicBezTo>
                <a:cubicBezTo>
                  <a:pt x="3347" y="11012"/>
                  <a:pt x="3361" y="11020"/>
                  <a:pt x="3398" y="110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Ink 27"/>
          <p:cNvSpPr/>
          <p:nvPr/>
        </p:nvSpPr>
        <p:spPr>
          <a:xfrm>
            <a:off x="1295280" y="3857760"/>
            <a:ext cx="150840" cy="206280"/>
          </a:xfrm>
          <a:custGeom>
            <a:avLst/>
            <a:gdLst/>
            <a:ahLst/>
            <a:rect l="l" t="t" r="r" b="b"/>
            <a:pathLst>
              <a:path w="422" h="571">
                <a:moveTo>
                  <a:pt x="3597" y="10740"/>
                </a:moveTo>
                <a:cubicBezTo>
                  <a:pt x="3685" y="10725"/>
                  <a:pt x="3787" y="10689"/>
                  <a:pt x="3870" y="10740"/>
                </a:cubicBezTo>
                <a:cubicBezTo>
                  <a:pt x="3907" y="10763"/>
                  <a:pt x="3960" y="10818"/>
                  <a:pt x="3944" y="10864"/>
                </a:cubicBezTo>
                <a:cubicBezTo>
                  <a:pt x="3933" y="10897"/>
                  <a:pt x="3869" y="10962"/>
                  <a:pt x="3845" y="10988"/>
                </a:cubicBezTo>
                <a:cubicBezTo>
                  <a:pt x="3801" y="11037"/>
                  <a:pt x="3774" y="11044"/>
                  <a:pt x="3770" y="11112"/>
                </a:cubicBezTo>
                <a:cubicBezTo>
                  <a:pt x="3766" y="11180"/>
                  <a:pt x="3798" y="11244"/>
                  <a:pt x="3870" y="11261"/>
                </a:cubicBezTo>
                <a:cubicBezTo>
                  <a:pt x="3935" y="11276"/>
                  <a:pt x="3957" y="11276"/>
                  <a:pt x="4018" y="112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28"/>
          <p:cNvSpPr/>
          <p:nvPr/>
        </p:nvSpPr>
        <p:spPr>
          <a:xfrm>
            <a:off x="1803240" y="3875040"/>
            <a:ext cx="27000" cy="162000"/>
          </a:xfrm>
          <a:custGeom>
            <a:avLst/>
            <a:gdLst/>
            <a:ahLst/>
            <a:rect l="l" t="t" r="r" b="b"/>
            <a:pathLst>
              <a:path w="75" h="448">
                <a:moveTo>
                  <a:pt x="5011" y="10765"/>
                </a:moveTo>
                <a:cubicBezTo>
                  <a:pt x="5043" y="10820"/>
                  <a:pt x="5035" y="10872"/>
                  <a:pt x="5035" y="10939"/>
                </a:cubicBezTo>
                <a:cubicBezTo>
                  <a:pt x="5035" y="10993"/>
                  <a:pt x="5045" y="11084"/>
                  <a:pt x="5060" y="11137"/>
                </a:cubicBezTo>
                <a:cubicBezTo>
                  <a:pt x="5080" y="11178"/>
                  <a:pt x="5089" y="11184"/>
                  <a:pt x="5085" y="112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29"/>
          <p:cNvSpPr/>
          <p:nvPr/>
        </p:nvSpPr>
        <p:spPr>
          <a:xfrm>
            <a:off x="1758960" y="3963960"/>
            <a:ext cx="108000" cy="9720"/>
          </a:xfrm>
          <a:custGeom>
            <a:avLst/>
            <a:gdLst/>
            <a:ahLst/>
            <a:rect l="l" t="t" r="r" b="b"/>
            <a:pathLst>
              <a:path w="298" h="26">
                <a:moveTo>
                  <a:pt x="4887" y="11013"/>
                </a:moveTo>
                <a:cubicBezTo>
                  <a:pt x="4979" y="11013"/>
                  <a:pt x="5046" y="11034"/>
                  <a:pt x="5135" y="11038"/>
                </a:cubicBezTo>
                <a:cubicBezTo>
                  <a:pt x="5151" y="11038"/>
                  <a:pt x="5168" y="11038"/>
                  <a:pt x="5184" y="110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30"/>
          <p:cNvSpPr/>
          <p:nvPr/>
        </p:nvSpPr>
        <p:spPr>
          <a:xfrm>
            <a:off x="1946160" y="3857760"/>
            <a:ext cx="125640" cy="187200"/>
          </a:xfrm>
          <a:custGeom>
            <a:avLst/>
            <a:gdLst/>
            <a:ahLst/>
            <a:rect l="l" t="t" r="r" b="b"/>
            <a:pathLst>
              <a:path w="349" h="522">
                <a:moveTo>
                  <a:pt x="5407" y="10765"/>
                </a:moveTo>
                <a:cubicBezTo>
                  <a:pt x="5481" y="10710"/>
                  <a:pt x="5519" y="10696"/>
                  <a:pt x="5606" y="10740"/>
                </a:cubicBezTo>
                <a:cubicBezTo>
                  <a:pt x="5622" y="10748"/>
                  <a:pt x="5639" y="10757"/>
                  <a:pt x="5655" y="10765"/>
                </a:cubicBezTo>
                <a:cubicBezTo>
                  <a:pt x="5613" y="10842"/>
                  <a:pt x="5582" y="10920"/>
                  <a:pt x="5507" y="10964"/>
                </a:cubicBezTo>
                <a:cubicBezTo>
                  <a:pt x="5440" y="11003"/>
                  <a:pt x="5386" y="11028"/>
                  <a:pt x="5432" y="11112"/>
                </a:cubicBezTo>
                <a:cubicBezTo>
                  <a:pt x="5464" y="11170"/>
                  <a:pt x="5550" y="11191"/>
                  <a:pt x="5606" y="11212"/>
                </a:cubicBezTo>
                <a:cubicBezTo>
                  <a:pt x="5688" y="11243"/>
                  <a:pt x="5683" y="11226"/>
                  <a:pt x="5755" y="112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Ink 31"/>
          <p:cNvSpPr/>
          <p:nvPr/>
        </p:nvSpPr>
        <p:spPr>
          <a:xfrm>
            <a:off x="1330200" y="4249800"/>
            <a:ext cx="142920" cy="216000"/>
          </a:xfrm>
          <a:custGeom>
            <a:avLst/>
            <a:gdLst/>
            <a:ahLst/>
            <a:rect l="l" t="t" r="r" b="b"/>
            <a:pathLst>
              <a:path w="398" h="596">
                <a:moveTo>
                  <a:pt x="3696" y="11807"/>
                </a:moveTo>
                <a:cubicBezTo>
                  <a:pt x="3729" y="11952"/>
                  <a:pt x="3764" y="12031"/>
                  <a:pt x="3845" y="12154"/>
                </a:cubicBezTo>
                <a:cubicBezTo>
                  <a:pt x="3914" y="12258"/>
                  <a:pt x="4001" y="12321"/>
                  <a:pt x="4093" y="124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Ink 32"/>
          <p:cNvSpPr/>
          <p:nvPr/>
        </p:nvSpPr>
        <p:spPr>
          <a:xfrm>
            <a:off x="1330200" y="4205160"/>
            <a:ext cx="142920" cy="260640"/>
          </a:xfrm>
          <a:custGeom>
            <a:avLst/>
            <a:gdLst/>
            <a:ahLst/>
            <a:rect l="l" t="t" r="r" b="b"/>
            <a:pathLst>
              <a:path w="398" h="720">
                <a:moveTo>
                  <a:pt x="4093" y="11683"/>
                </a:moveTo>
                <a:cubicBezTo>
                  <a:pt x="4026" y="11768"/>
                  <a:pt x="4000" y="11861"/>
                  <a:pt x="3944" y="11956"/>
                </a:cubicBezTo>
                <a:cubicBezTo>
                  <a:pt x="3884" y="12057"/>
                  <a:pt x="3797" y="12148"/>
                  <a:pt x="3746" y="12254"/>
                </a:cubicBezTo>
                <a:cubicBezTo>
                  <a:pt x="3737" y="12273"/>
                  <a:pt x="3646" y="12434"/>
                  <a:pt x="3721" y="12378"/>
                </a:cubicBezTo>
                <a:cubicBezTo>
                  <a:pt x="3729" y="12370"/>
                  <a:pt x="3738" y="12361"/>
                  <a:pt x="3746" y="123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Ink 33"/>
          <p:cNvSpPr/>
          <p:nvPr/>
        </p:nvSpPr>
        <p:spPr>
          <a:xfrm>
            <a:off x="1581120" y="4224240"/>
            <a:ext cx="160200" cy="142920"/>
          </a:xfrm>
          <a:custGeom>
            <a:avLst/>
            <a:gdLst/>
            <a:ahLst/>
            <a:rect l="l" t="t" r="r" b="b"/>
            <a:pathLst>
              <a:path w="448" h="397">
                <a:moveTo>
                  <a:pt x="4390" y="11733"/>
                </a:moveTo>
                <a:cubicBezTo>
                  <a:pt x="4513" y="11770"/>
                  <a:pt x="4623" y="11803"/>
                  <a:pt x="4738" y="11857"/>
                </a:cubicBezTo>
                <a:cubicBezTo>
                  <a:pt x="4787" y="11881"/>
                  <a:pt x="4804" y="11889"/>
                  <a:pt x="4837" y="11906"/>
                </a:cubicBezTo>
                <a:cubicBezTo>
                  <a:pt x="4770" y="11931"/>
                  <a:pt x="4701" y="11938"/>
                  <a:pt x="4638" y="11981"/>
                </a:cubicBezTo>
                <a:cubicBezTo>
                  <a:pt x="4591" y="12014"/>
                  <a:pt x="4559" y="12009"/>
                  <a:pt x="4514" y="12055"/>
                </a:cubicBezTo>
                <a:cubicBezTo>
                  <a:pt x="4486" y="12083"/>
                  <a:pt x="4474" y="12094"/>
                  <a:pt x="4465" y="121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Ink 34"/>
          <p:cNvSpPr/>
          <p:nvPr/>
        </p:nvSpPr>
        <p:spPr>
          <a:xfrm>
            <a:off x="1562040" y="4394160"/>
            <a:ext cx="169920" cy="17640"/>
          </a:xfrm>
          <a:custGeom>
            <a:avLst/>
            <a:gdLst/>
            <a:ahLst/>
            <a:rect l="l" t="t" r="r" b="b"/>
            <a:pathLst>
              <a:path w="472" h="51">
                <a:moveTo>
                  <a:pt x="4341" y="12204"/>
                </a:moveTo>
                <a:cubicBezTo>
                  <a:pt x="4449" y="12226"/>
                  <a:pt x="4554" y="12250"/>
                  <a:pt x="4663" y="12254"/>
                </a:cubicBezTo>
                <a:cubicBezTo>
                  <a:pt x="4739" y="12254"/>
                  <a:pt x="4765" y="12254"/>
                  <a:pt x="4812" y="122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Ink 35"/>
          <p:cNvSpPr/>
          <p:nvPr/>
        </p:nvSpPr>
        <p:spPr>
          <a:xfrm>
            <a:off x="1901880" y="4232160"/>
            <a:ext cx="187200" cy="260640"/>
          </a:xfrm>
          <a:custGeom>
            <a:avLst/>
            <a:gdLst/>
            <a:ahLst/>
            <a:rect l="l" t="t" r="r" b="b"/>
            <a:pathLst>
              <a:path w="522" h="721">
                <a:moveTo>
                  <a:pt x="5283" y="11807"/>
                </a:moveTo>
                <a:cubicBezTo>
                  <a:pt x="5384" y="11767"/>
                  <a:pt x="5437" y="11732"/>
                  <a:pt x="5531" y="11782"/>
                </a:cubicBezTo>
                <a:cubicBezTo>
                  <a:pt x="5600" y="11819"/>
                  <a:pt x="5646" y="11841"/>
                  <a:pt x="5631" y="11931"/>
                </a:cubicBezTo>
                <a:cubicBezTo>
                  <a:pt x="5615" y="12030"/>
                  <a:pt x="5570" y="12046"/>
                  <a:pt x="5507" y="12105"/>
                </a:cubicBezTo>
                <a:cubicBezTo>
                  <a:pt x="5459" y="12150"/>
                  <a:pt x="5374" y="12182"/>
                  <a:pt x="5333" y="12229"/>
                </a:cubicBezTo>
                <a:cubicBezTo>
                  <a:pt x="5298" y="12269"/>
                  <a:pt x="5253" y="12337"/>
                  <a:pt x="5308" y="12378"/>
                </a:cubicBezTo>
                <a:cubicBezTo>
                  <a:pt x="5389" y="12439"/>
                  <a:pt x="5489" y="12431"/>
                  <a:pt x="5581" y="12452"/>
                </a:cubicBezTo>
                <a:cubicBezTo>
                  <a:pt x="5662" y="12471"/>
                  <a:pt x="5720" y="12477"/>
                  <a:pt x="5804" y="124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ge 84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#45-69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39:32Z</dcterms:created>
  <dc:creator>jnewman</dc:creator>
  <dc:description/>
  <dc:language>en-US</dc:language>
  <cp:lastModifiedBy>abeason</cp:lastModifiedBy>
  <dcterms:modified xsi:type="dcterms:W3CDTF">2010-04-07T14:26:47Z</dcterms:modified>
  <cp:revision>6</cp:revision>
  <dc:subject/>
  <dc:title>Lesson 1.1 part three</dc:title>
</cp:coreProperties>
</file>